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3003213" cy="97520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944-0EF3-4FC4-BF8C-430CD92E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11055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75960" y="5874480"/>
            <a:ext cx="11055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896A-866C-43FC-B7AC-9BDE00D6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405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5960" y="587448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40560" y="587448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DF88-518C-4679-84FF-9E9662E3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840" y="281772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452080" y="281772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75960" y="587448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13840" y="587448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452080" y="587448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CC1-D6D4-4DC2-9163-9318C395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2477-E03E-411D-979F-1A74C774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75960" y="2817720"/>
            <a:ext cx="1105524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41DA-D010-400B-BC92-D00914A7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11055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E102-1B8B-4E41-91F8-BB56F021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53946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0560" y="2817720"/>
            <a:ext cx="53946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FDB9-EF2C-4E5F-A315-94BF725A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4BEE-8799-4BB0-BD3E-D9B5C13B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75960" y="866520"/>
            <a:ext cx="1105524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EEBF-0643-4E7C-9B37-3792AA34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0560" y="2817720"/>
            <a:ext cx="53946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75960" y="587448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0C10-B632-40CB-B2BD-82F2D6B0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75960" y="2817720"/>
            <a:ext cx="1105524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894-5817-4615-86B9-01F7C48E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53946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05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40560" y="587448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9824-D486-4B71-8587-B4B2E4A5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05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5960" y="5874480"/>
            <a:ext cx="11055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F94D-DBBB-421A-BE7A-7C5BC404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11055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75960" y="5874480"/>
            <a:ext cx="11055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4FBF-A1EA-4074-92B1-758C9E40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405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5960" y="587448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40560" y="587448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0F3C-5683-4366-958E-C230173D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3840" y="281772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452080" y="281772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75960" y="587448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713840" y="587448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452080" y="587448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DCB5-743B-4FFB-8B43-1F21F5B3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11055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EBA2-74DF-4AED-B394-365A90C5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53946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0560" y="2817720"/>
            <a:ext cx="53946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DBFE-D47B-4448-BD26-62613B18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FA2B-E7B8-4981-B4B9-FFD6306A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75960" y="866520"/>
            <a:ext cx="1105524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8FA-D09E-49CC-879A-2EE9838E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0560" y="2817720"/>
            <a:ext cx="53946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75960" y="587448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A442-40F8-443B-A2D2-A93A5177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53946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05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40560" y="587448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748-F6CF-4436-BD63-73132E5F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405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5960" y="5874480"/>
            <a:ext cx="11055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7E97-47C5-4EE5-ACA5-BBB90B81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75960" y="2817720"/>
            <a:ext cx="11055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9000"/>
          </a:bodyPr>
          <a:p>
            <a:pPr marL="482400" indent="-482400">
              <a:spcBef>
                <a:spcPts val="115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1046520" indent="-402120">
              <a:spcBef>
                <a:spcPts val="115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1609200" indent="-321840">
              <a:spcBef>
                <a:spcPts val="115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3" marL="2253600" indent="-321840">
              <a:spcBef>
                <a:spcPts val="1151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4" marL="2896200" indent="-321840">
              <a:spcBef>
                <a:spcPts val="1151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5" marL="2896200" indent="-321840">
              <a:spcBef>
                <a:spcPts val="115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6" marL="2896200" indent="-321840">
              <a:spcBef>
                <a:spcPts val="115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75960" y="8886600"/>
            <a:ext cx="270828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443120" y="8886600"/>
            <a:ext cx="411804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20040" y="8886600"/>
            <a:ext cx="271152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fld id="{CADCE379-BB74-4DAD-8037-B79A9199DBD9}" type="slidenum"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5960" y="3251160"/>
            <a:ext cx="11055240" cy="1625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75960" y="8886600"/>
            <a:ext cx="270828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443120" y="8886600"/>
            <a:ext cx="411804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9320040" y="8886600"/>
            <a:ext cx="271152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fld id="{3628C01C-05AE-48E4-8FE5-541C5492C086}" type="slidenum"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nnabosman.eu/" TargetMode="External"/><Relationship Id="rId2" Type="http://schemas.openxmlformats.org/officeDocument/2006/relationships/hyperlink" Target="http://www.annabosman.eu/" TargetMode="External"/><Relationship Id="rId3" Type="http://schemas.openxmlformats.org/officeDocument/2006/relationships/hyperlink" Target="http://www.annabosman.eu/" TargetMode="External"/><Relationship Id="rId4" Type="http://schemas.openxmlformats.org/officeDocument/2006/relationships/hyperlink" Target="http://www.annabosman.eu/" TargetMode="External"/><Relationship Id="rId5" Type="http://schemas.openxmlformats.org/officeDocument/2006/relationships/hyperlink" Target="http://www.annabosman.eu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1752120"/>
            <a:ext cx="10845720" cy="191772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5400" spc="-1" strike="noStrike">
                <a:solidFill>
                  <a:srgbClr val="23005f"/>
                </a:solidFill>
                <a:latin typeface="Futura"/>
              </a:rPr>
              <a:t>Hoogsensitiviteit bij kinderen in het Basisonderwijs 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5181480"/>
            <a:ext cx="10972800" cy="307368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t">
            <a:normAutofit/>
          </a:bodyPr>
          <a:p>
            <a:pPr marL="4874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200" spc="-1" strike="noStrike">
                <a:solidFill>
                  <a:srgbClr val="ff28a4"/>
                </a:solidFill>
                <a:latin typeface="Arial"/>
              </a:rPr>
              <a:t>Drs. Sietske A.E. Walda</a:t>
            </a: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nl-NL" sz="4200" spc="-1" strike="noStrike">
                <a:solidFill>
                  <a:srgbClr val="7f007f"/>
                </a:solidFill>
                <a:latin typeface="Arial"/>
              </a:rPr>
              <a:t>dr. Joep T.A. Bakker en prof. dr. Anna M.T. Bosm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2900" spc="-1" strike="noStrike">
                <a:solidFill>
                  <a:srgbClr val="ff28a4"/>
                </a:solidFill>
                <a:latin typeface="Arial"/>
              </a:rPr>
              <a:t>Braams &amp; Partners, Devent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8744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2900" spc="-1" strike="noStrike">
                <a:solidFill>
                  <a:srgbClr val="7f007f"/>
                </a:solidFill>
                <a:latin typeface="Arial"/>
              </a:rPr>
              <a:t>Radboud Universiteit Nijmeg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AF86-FF1C-44DF-A288-63B7E248663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23005f"/>
                </a:solidFill>
                <a:latin typeface="Futura"/>
              </a:rPr>
              <a:t>Positieve invloedscore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19320" y="3187800"/>
          <a:ext cx="10566360" cy="3822480"/>
        </p:xfrm>
        <a:graphic>
          <a:graphicData uri="http://schemas.openxmlformats.org/drawingml/2006/table">
            <a:tbl>
              <a:tblPr/>
              <a:tblGrid>
                <a:gridCol w="2460600"/>
                <a:gridCol w="2460600"/>
                <a:gridCol w="2460600"/>
                <a:gridCol w="3184560"/>
              </a:tblGrid>
              <a:tr h="12729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274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Meisj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5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5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5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274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Jongen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0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1371600" y="7696080"/>
            <a:ext cx="10515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ff"/>
                </a:solidFill>
                <a:latin typeface="Papyrus"/>
                <a:ea typeface="Papyrus"/>
              </a:rPr>
              <a:t>Meisjes scoren significant hoger dan jongens</a:t>
            </a:r>
            <a:endParaRPr b="0" lang="en-US" sz="32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038-DAF4-4713-98D9-921EBC0A14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23005f"/>
                </a:solidFill>
                <a:latin typeface="Futura"/>
              </a:rPr>
              <a:t>Negatieve invloedscore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3187800"/>
          <a:ext cx="10566360" cy="3238560"/>
        </p:xfrm>
        <a:graphic>
          <a:graphicData uri="http://schemas.openxmlformats.org/drawingml/2006/table">
            <a:tbl>
              <a:tblPr/>
              <a:tblGrid>
                <a:gridCol w="2460600"/>
                <a:gridCol w="2460600"/>
                <a:gridCol w="2460600"/>
                <a:gridCol w="3184560"/>
              </a:tblGrid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198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Meisj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2,8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2,8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1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Jongen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2,5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2,7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2,8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371600" y="7505640"/>
            <a:ext cx="10515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ff"/>
                </a:solidFill>
                <a:latin typeface="Papyrus"/>
                <a:ea typeface="Papyrus"/>
              </a:rPr>
              <a:t>Meisjes scoren significant hoger dan jongens</a:t>
            </a:r>
            <a:endParaRPr b="0" lang="en-US" sz="32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A6A-8035-417D-B596-05EAF6580C0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10858320" cy="9144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5400" spc="-1" strike="noStrike">
                <a:solidFill>
                  <a:srgbClr val="23005f"/>
                </a:solidFill>
                <a:latin typeface="Futura"/>
              </a:rPr>
              <a:t>Internaliserende problemen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2120" y="2286000"/>
          <a:ext cx="11214000" cy="4622760"/>
        </p:xfrm>
        <a:graphic>
          <a:graphicData uri="http://schemas.openxmlformats.org/drawingml/2006/table">
            <a:tbl>
              <a:tblPr/>
              <a:tblGrid>
                <a:gridCol w="4190760"/>
                <a:gridCol w="2032200"/>
                <a:gridCol w="1944720"/>
                <a:gridCol w="3046320"/>
              </a:tblGrid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Hoogsensitivite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5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Positieve invloe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0,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0,0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3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Negatieve invloe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5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762120" y="7543800"/>
            <a:ext cx="11391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ff"/>
                </a:solidFill>
                <a:latin typeface="Papyrus"/>
                <a:ea typeface="Papyrus"/>
              </a:rPr>
              <a:t>Er is samenhang tussen  internaliserende problemen enerzijds en hoogsensitiviteit en negatieve invloeden anderzijds</a:t>
            </a:r>
            <a:endParaRPr b="0" lang="en-US" sz="32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106E-D05E-42D7-9BA6-B6852964AF5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11277720" cy="13464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5400" spc="-1" strike="noStrike">
                <a:solidFill>
                  <a:srgbClr val="23005f"/>
                </a:solidFill>
                <a:latin typeface="Futura"/>
              </a:rPr>
              <a:t>Externaliserende problemen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14400" y="2311560"/>
          <a:ext cx="11061720" cy="4597200"/>
        </p:xfrm>
        <a:graphic>
          <a:graphicData uri="http://schemas.openxmlformats.org/drawingml/2006/table">
            <a:tbl>
              <a:tblPr/>
              <a:tblGrid>
                <a:gridCol w="4191120"/>
                <a:gridCol w="2057400"/>
                <a:gridCol w="1828800"/>
                <a:gridCol w="2984400"/>
              </a:tblGrid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Hoogsensitivite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0,0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0,0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-0,4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Positieve invloe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-0,0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0,0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-0,4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Negatieve invloe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0,0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-0,5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685800" y="7543800"/>
            <a:ext cx="11430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ff"/>
                </a:solidFill>
                <a:latin typeface="Papyrus"/>
                <a:ea typeface="Papyrus"/>
              </a:rPr>
              <a:t>Leerkrachten: geringe externaliserende problemen gaan samen met hoge scores op alle hoogsensitiviteitscomponenten</a:t>
            </a:r>
            <a:endParaRPr b="0" lang="en-US" sz="32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B71-2032-4796-AB43-2F7C0363343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51040" y="635040"/>
            <a:ext cx="11277360" cy="127008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5400" spc="-1" strike="noStrike">
                <a:solidFill>
                  <a:srgbClr val="23005f"/>
                </a:solidFill>
                <a:latin typeface="Futura"/>
              </a:rPr>
              <a:t>Algemene schoolprestaties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2311560"/>
          <a:ext cx="11138040" cy="4597200"/>
        </p:xfrm>
        <a:graphic>
          <a:graphicData uri="http://schemas.openxmlformats.org/drawingml/2006/table">
            <a:tbl>
              <a:tblPr/>
              <a:tblGrid>
                <a:gridCol w="4191120"/>
                <a:gridCol w="2133720"/>
                <a:gridCol w="1904760"/>
                <a:gridCol w="2908440"/>
              </a:tblGrid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Hoogsensitivite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-0,0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-0,2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-0,0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Positieve invloe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0,0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-0,2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Negatieve invloe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-0,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-0,2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-0,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838080" y="7620120"/>
            <a:ext cx="11239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ff"/>
                </a:solidFill>
                <a:latin typeface="Papyrus"/>
                <a:ea typeface="Papyrus"/>
              </a:rPr>
              <a:t>Ouders: slechte algemene schoolprestaties</a:t>
            </a:r>
            <a:r>
              <a:rPr b="0" lang="nl-NL" sz="3200" spc="-1" strike="noStrike">
                <a:solidFill>
                  <a:srgbClr val="ff00ff"/>
                </a:solidFill>
                <a:latin typeface="Papyrus"/>
                <a:ea typeface="Papyrus"/>
              </a:rPr>
              <a:t> gaan samen met hoge scores op alle hoogsensitiviteitscomponenten</a:t>
            </a:r>
            <a:endParaRPr b="0" lang="en-US" sz="32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7F9D-6986-4D9F-8A13-4BE26AE09A1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10667880" cy="60984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5400" spc="-1" strike="noStrike">
                <a:solidFill>
                  <a:srgbClr val="23005f"/>
                </a:solidFill>
                <a:latin typeface="Futura"/>
              </a:rPr>
              <a:t>Ziekte zonder oorzaak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2311560"/>
          <a:ext cx="11214000" cy="4597200"/>
        </p:xfrm>
        <a:graphic>
          <a:graphicData uri="http://schemas.openxmlformats.org/drawingml/2006/table">
            <a:tbl>
              <a:tblPr/>
              <a:tblGrid>
                <a:gridCol w="4190760"/>
                <a:gridCol w="2286000"/>
                <a:gridCol w="1828800"/>
                <a:gridCol w="2908440"/>
              </a:tblGrid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Hoogsensitivite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Positieve invloe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0,0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0,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0,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Negatieve invloe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2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2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3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952560" y="7327800"/>
            <a:ext cx="11315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ff"/>
                </a:solidFill>
                <a:latin typeface="Papyrus"/>
                <a:ea typeface="Papyrus"/>
              </a:rPr>
              <a:t>Ziekte zonder oorzaak enerzijds gaat samen met hoge scores op hoogsensitiviteit en negatieve invloeden anderzijds</a:t>
            </a:r>
            <a:endParaRPr b="0" lang="en-US" sz="32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CC9-2C79-479E-AF6A-AC2DCABA13A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12725280" cy="175248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000" spc="-1" strike="noStrike">
                <a:solidFill>
                  <a:srgbClr val="23005f"/>
                </a:solidFill>
                <a:latin typeface="Futura"/>
              </a:rPr>
              <a:t>	</a:t>
            </a:r>
            <a:r>
              <a:rPr b="0" lang="nl-NL" sz="4000" spc="-1" strike="noStrike">
                <a:solidFill>
                  <a:srgbClr val="23005f"/>
                </a:solidFill>
                <a:latin typeface="Futura"/>
              </a:rPr>
              <a:t>Is hoogsensitiviteit meetbaar bij jonge kinderen?</a:t>
            </a:r>
            <a:endParaRPr b="0" lang="en-US" sz="40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299120"/>
            <a:ext cx="91440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ff"/>
                </a:solidFill>
                <a:latin typeface="Papyrus"/>
                <a:ea typeface="Papyrus"/>
              </a:rPr>
              <a:t>JA!</a:t>
            </a:r>
            <a:endParaRPr b="0" lang="en-US" sz="3600" spc="-1" strike="noStrike">
              <a:solidFill>
                <a:srgbClr val="000000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ff"/>
                </a:solidFill>
                <a:latin typeface="Papyrus"/>
                <a:ea typeface="Papyrus"/>
              </a:rPr>
              <a:t>Betrouwbaarheid en inhoudsvaliditeit van de vragenlijst zijn in orde.</a:t>
            </a:r>
            <a:endParaRPr b="0" lang="en-US" sz="36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125" name=""/>
          <p:cNvSpPr/>
          <p:nvPr/>
        </p:nvSpPr>
        <p:spPr>
          <a:xfrm>
            <a:off x="11972880" y="84596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E4A-38A9-4716-B8A3-B7134CF4506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11582640" cy="25146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000" spc="-1" strike="noStrike">
                <a:solidFill>
                  <a:srgbClr val="23005f"/>
                </a:solidFill>
                <a:latin typeface="Futura"/>
              </a:rPr>
              <a:t>Is er overeenstemming tussen de oordelen van kinderen, ouders en leerkrachten over hoogsensitiviteit bij kinderen?</a:t>
            </a:r>
            <a:endParaRPr b="0" lang="en-US" sz="40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114800"/>
            <a:ext cx="11658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ff"/>
                </a:solidFill>
                <a:latin typeface="Papyrus"/>
                <a:ea typeface="Papyrus"/>
              </a:rPr>
              <a:t>Er is een significante mate van overeenstemming</a:t>
            </a:r>
            <a:endParaRPr b="0" lang="en-US" sz="3600" spc="-1" strike="noStrike">
              <a:solidFill>
                <a:srgbClr val="000000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ff"/>
                </a:solidFill>
                <a:latin typeface="Papyrus"/>
                <a:ea typeface="Papyrus"/>
              </a:rPr>
              <a:t>echter</a:t>
            </a:r>
            <a:endParaRPr b="0" lang="en-US" sz="3600" spc="-1" strike="noStrike">
              <a:solidFill>
                <a:srgbClr val="000000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ff"/>
                </a:solidFill>
                <a:latin typeface="Papyrus"/>
                <a:ea typeface="Papyrus"/>
              </a:rPr>
              <a:t>Deze is niet zodanig dat de beoordeling over kinderen aan ouders of leerkrachten overgelaten kan worden.</a:t>
            </a:r>
            <a:endParaRPr b="0" lang="en-US" sz="36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551-ECB4-49EA-8740-4BA20633891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000" spc="-1" strike="noStrike">
                <a:solidFill>
                  <a:srgbClr val="23005f"/>
                </a:solidFill>
                <a:latin typeface="Futura"/>
              </a:rPr>
              <a:t>Is er een verband tussen hoogsensitiviteit anderzijds en gender, gedragsproblemen, leerprestaties en ziekte zonder aanwijsbare oorzaak anderzijds?</a:t>
            </a:r>
            <a:endParaRPr b="0" lang="en-US" sz="40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3352680"/>
            <a:ext cx="10896840" cy="578016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rmAutofit/>
          </a:bodyPr>
          <a:p>
            <a:pPr marL="863640" indent="-55872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3600" spc="-1" strike="noStrike">
                <a:solidFill>
                  <a:srgbClr val="ff00ff"/>
                </a:solidFill>
                <a:latin typeface="Arial"/>
              </a:rPr>
              <a:t>Meisjes scoren hoger dan jongens (Bias?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63640" indent="-55872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3600" spc="-1" strike="noStrike">
                <a:solidFill>
                  <a:srgbClr val="ff00ff"/>
                </a:solidFill>
                <a:latin typeface="Arial"/>
              </a:rPr>
              <a:t>Er zijn aanwijzingen dat hoogsensitiviteit de kans op internaliserende problemen verhoogt en op externaliserende problemen verlaag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63640" indent="-55872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3600" spc="-1" strike="noStrike">
                <a:solidFill>
                  <a:srgbClr val="ff00ff"/>
                </a:solidFill>
                <a:latin typeface="Arial"/>
              </a:rPr>
              <a:t>Alleen de ouders denken dat hoogsensitiviteit samengaat met slechte schoolpresta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63640" indent="-55872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3600" spc="-1" strike="noStrike">
                <a:solidFill>
                  <a:srgbClr val="ff00ff"/>
                </a:solidFill>
                <a:latin typeface="Arial"/>
              </a:rPr>
              <a:t>Hoogsensitiviteit lijkt samen te gaan met ziekten zonder duidelijk aanwijsbare oorza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851-3475-49D4-9C8D-80B5681DE4A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11055240" cy="11430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23005f"/>
                </a:solidFill>
                <a:latin typeface="Arial"/>
              </a:rPr>
              <a:t>Referenties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11734560" cy="7467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lvl="1" marL="10573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on, E. N. (1996). Counseling the highly sensitive person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unseling and Human Develop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8(9)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-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on, E. N. (2000). High sensitivity as one source of fearfulness and shyness. In L. A. Schmidt &amp; J. Schulkin (Eds.)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Extreme fear, shyness, and social Phobia: Origins, biological mechanisms, and clinical outcom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pp. 251-272). New York: Oxford University Pres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on, E. N. (2004). Revisting Jung’s concept of innate sensitivenes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ournal of Analytical Psychology, 49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337-36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on, E. N. (2004). The impact of adult temperament on closeness and intimacy. In D. J. Mashek &amp; A. A. Aron (Eds.)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Handbook of closeness and intimac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pp. 267-286). Mahwah, NJ: Lawrence Erlbaum Associ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ron, E. N., &amp; Aron, A. (1997). Sensory-processing sensitivity and its relation to introversion and emotionality.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Journal of Personality and Social Psychology, 73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345-36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ron, E. N., Aron, A., &amp; Davies, K. M. (2005). Adult shyness: The interaction of temperamental sensitivity and an adverse childhood environment.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Personality and Social Psychology Bulletin, 31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181-19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Benham, G. (2006). The highly sensitive person: Stress and physical symptom reports.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Personality and Individual Differences, 40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, 1433-14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vers, A., Rasche, J., &amp; Schabracq, M. J. (2008). High sensory-processing sensitivity at work.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International Journal of Stress Management, 15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189-19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Hofman, S. G., &amp; Bitran, S. (2007). Sensory-processing sensitivity in social anxiety disorder: Relationship to harm avoidance and diagnostic subtypes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. Journal of Anxiety Disorders, 21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944-95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Jerome, E. M., &amp; Liss, M. (2005). Relationships between sensory processing style, adult attachment, and coping.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Personality and Individual Differences, 38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1341-135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iss, M., Timmel, L., Baxley, K.,  &amp; Killingsworth, P. (2005). Sensory processing sensitivity and its relation to parental bonding, anxiety, and depression.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Personality and Individual Differences, 39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1429-143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Meyer, B. J., Ajchenbrenner, M., &amp; Bowles, D. P. (2005). Sensory sensitiviy, attachment experiences, and rejection responses among adults with borderline and avoidant features.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Journal of Personality Disorders, 19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641-65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Meyer, B. J., &amp; Carver, C.S. (2000). Negative childhood accounts, sensitivity, and pessimism: A study of avoidant personality disorder features in college students.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Journal of Personality Disorders, 14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, 233-24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Neal, J. A., Edelmann, R. J., &amp; Glachan, M. (2002). Behavioural inhibition and symptoms of anxiety and depression: Is there a specific relationship with social phobia?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British Journal of Clinical Psychology, 41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361-37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molewska, K. A., McCabe, S. B., &amp; Woody, E. Z. (2006). A psychometric evaluation of the highly sensitive person scale: The components of sensory-processing sensitivity and their relation to the BIS/BAS and “Big five”.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Personality and Individual Differences, 40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1269-127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D8FE-2A11-49C9-A4CE-E7A685072E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23005f"/>
                </a:solidFill>
                <a:latin typeface="Futura"/>
              </a:rPr>
              <a:t>Onderzoeksvragen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11430000" cy="655308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rmAutofit/>
          </a:bodyPr>
          <a:p>
            <a:pPr marL="863640" indent="-55872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s hoogsensitiviteit meetbaar bij kinderen vanaf 10 ja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63640" indent="-55872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s er overeenstemming tussen de oordelen van kinderen, ouders en leerkrachten over hoogsensitiviteit bij kinde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63640" indent="-55872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s er een verband tussen hoogsensitiviteit enerzijds en gender, gedragsproblemen, leerprestaties en ziekte zonder aanwijsbare oorzaak anderzij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DF9-12B1-4DA9-8DC5-CD18C845026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5960" y="1552680"/>
            <a:ext cx="11055240" cy="9396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000000"/>
                </a:solidFill>
                <a:latin typeface="Futura"/>
              </a:rPr>
              <a:t>Dank voor uw aandacht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3" name=""/>
          <p:cNvSpPr/>
          <p:nvPr/>
        </p:nvSpPr>
        <p:spPr>
          <a:xfrm>
            <a:off x="452520" y="4827960"/>
            <a:ext cx="12436560" cy="22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00ff"/>
                </a:solidFill>
                <a:latin typeface="Papyrus"/>
                <a:ea typeface="Papyrus"/>
              </a:rPr>
              <a:t>De scriptie van Sietske vindt u op</a:t>
            </a:r>
            <a:endParaRPr b="0" lang="en-US" sz="4800" spc="-1" strike="noStrike">
              <a:solidFill>
                <a:srgbClr val="000000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009999"/>
                </a:solidFill>
                <a:uFillTx/>
                <a:latin typeface="Papyrus"/>
                <a:ea typeface="Papyrus"/>
                <a:hlinkClick r:id="rId1"/>
              </a:rPr>
              <a:t>www</a:t>
            </a:r>
            <a:r>
              <a:rPr b="0" lang="nl-NL" sz="4800" spc="-1" strike="noStrike" u="sng">
                <a:solidFill>
                  <a:srgbClr val="009999"/>
                </a:solidFill>
                <a:uFillTx/>
                <a:latin typeface="Papyrus"/>
                <a:ea typeface="Papyrus"/>
                <a:hlinkClick r:id="rId2"/>
              </a:rPr>
              <a:t>.</a:t>
            </a:r>
            <a:r>
              <a:rPr b="0" lang="nl-NL" sz="4800" spc="-1" strike="noStrike" u="sng">
                <a:solidFill>
                  <a:srgbClr val="009999"/>
                </a:solidFill>
                <a:uFillTx/>
                <a:latin typeface="Papyrus"/>
                <a:ea typeface="Papyrus"/>
                <a:hlinkClick r:id="rId3"/>
              </a:rPr>
              <a:t>annabosman</a:t>
            </a:r>
            <a:r>
              <a:rPr b="0" lang="nl-NL" sz="4800" spc="-1" strike="noStrike" u="sng">
                <a:solidFill>
                  <a:srgbClr val="009999"/>
                </a:solidFill>
                <a:uFillTx/>
                <a:latin typeface="Papyrus"/>
                <a:ea typeface="Papyrus"/>
                <a:hlinkClick r:id="rId4"/>
              </a:rPr>
              <a:t>.</a:t>
            </a:r>
            <a:r>
              <a:rPr b="0" lang="nl-NL" sz="4800" spc="-1" strike="noStrike" u="sng">
                <a:solidFill>
                  <a:srgbClr val="009999"/>
                </a:solidFill>
                <a:uFillTx/>
                <a:latin typeface="Papyrus"/>
                <a:ea typeface="Papyrus"/>
                <a:hlinkClick r:id="rId5"/>
              </a:rPr>
              <a:t>eu</a:t>
            </a:r>
            <a:endParaRPr b="0" lang="en-US" sz="48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4AC2-24AF-4684-A25C-765FCEFE0AE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23005f"/>
                </a:solidFill>
                <a:latin typeface="Futura"/>
              </a:rPr>
              <a:t>Deelnemers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38360" y="275544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rmAutofit/>
          </a:bodyPr>
          <a:p>
            <a:pPr marL="863640" indent="-558720">
              <a:lnSpc>
                <a:spcPct val="120000"/>
              </a:lnSpc>
              <a:spcBef>
                <a:spcPts val="1650"/>
              </a:spcBef>
              <a:buSzPct val="100000"/>
              <a:buBlip>
                <a:blip r:embed="rId1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600" spc="-1" strike="noStrike">
                <a:solidFill>
                  <a:srgbClr val="000000"/>
                </a:solidFill>
                <a:latin typeface="Arial"/>
              </a:rPr>
              <a:t>506 Kinder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863640" indent="-558720">
              <a:lnSpc>
                <a:spcPct val="120000"/>
              </a:lnSpc>
              <a:spcBef>
                <a:spcPts val="1650"/>
              </a:spcBef>
              <a:buSzPct val="100000"/>
              <a:buBlip>
                <a:blip r:embed="rId2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600" spc="-1" strike="noStrike">
                <a:solidFill>
                  <a:srgbClr val="000000"/>
                </a:solidFill>
                <a:latin typeface="Arial"/>
              </a:rPr>
              <a:t>382 Ou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863640" indent="-558720">
              <a:lnSpc>
                <a:spcPct val="120000"/>
              </a:lnSpc>
              <a:spcBef>
                <a:spcPts val="1650"/>
              </a:spcBef>
              <a:buSzPct val="100000"/>
              <a:buBlip>
                <a:blip r:embed="rId3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600" spc="-1" strike="noStrike">
                <a:solidFill>
                  <a:srgbClr val="000000"/>
                </a:solidFill>
                <a:latin typeface="Arial"/>
              </a:rPr>
              <a:t>123 Leerkracht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4E2E-E685-4B9C-A9D3-323565B0C20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23005f"/>
                </a:solidFill>
                <a:latin typeface="Futura"/>
              </a:rPr>
              <a:t>Leerlingen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31840" y="2629080"/>
          <a:ext cx="8623440" cy="5257800"/>
        </p:xfrm>
        <a:graphic>
          <a:graphicData uri="http://schemas.openxmlformats.org/drawingml/2006/table">
            <a:tbl>
              <a:tblPr/>
              <a:tblGrid>
                <a:gridCol w="2873520"/>
                <a:gridCol w="2874960"/>
                <a:gridCol w="2874960"/>
              </a:tblGrid>
              <a:tr h="1050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Gro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aant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leeftij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6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9;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16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10;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16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11;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13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12;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AC4D-00EC-49CD-8BFD-E18CE3C260F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23005f"/>
                </a:solidFill>
                <a:latin typeface="Futura"/>
              </a:rPr>
              <a:t>Vragenlijst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2666520"/>
            <a:ext cx="12268440" cy="600732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rmAutofit/>
          </a:bodyPr>
          <a:p>
            <a:pPr marL="863640" indent="-55872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Hoogsensitiviteitsvragen van Aron en Aron (199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63640" indent="-55872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BCL-i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2273400" indent="-5587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ernaliserende probl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73400" indent="-5587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xternaliserende probl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63640" indent="-55872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ragen 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2273400" indent="-5587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stma, allergieën, ziekte, vermoei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63640" indent="-55872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ragen 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2273400" indent="-55872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oolresultaten, leerproblemen en bijzondere capacit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BDC-241D-4857-90DD-6D9A8F51739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9296280" cy="106668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23005f"/>
                </a:solidFill>
                <a:latin typeface="Futura"/>
              </a:rPr>
              <a:t>Betrouwbaarheid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42720" y="2817720"/>
            <a:ext cx="10464840" cy="421632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rmAutofit/>
          </a:bodyPr>
          <a:p>
            <a:pPr marL="863640" indent="-55872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Arial"/>
              </a:rPr>
              <a:t>Alfa-waard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2273400" indent="-55872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inderen  = .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2273400" indent="-55872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uders = .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2273400" indent="-55872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erkrachten = .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7696080"/>
            <a:ext cx="100584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ff"/>
                </a:solidFill>
                <a:latin typeface="Papyrus"/>
                <a:ea typeface="Papyrus"/>
              </a:rPr>
              <a:t>De vragenlijst is betrouwbaar</a:t>
            </a:r>
            <a:endParaRPr b="0" lang="en-US" sz="32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308C-A20D-42EE-A1B5-B581CDF2B00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9779040" cy="134604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23005f"/>
                </a:solidFill>
                <a:latin typeface="Futura"/>
              </a:rPr>
              <a:t>Structuur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11582280" cy="485136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rmAutofit/>
          </a:bodyPr>
          <a:p>
            <a:pPr marL="863640" indent="-558720">
              <a:spcBef>
                <a:spcPts val="1151"/>
              </a:spcBef>
              <a:buSzPct val="100000"/>
              <a:buBlip>
                <a:blip r:embed="rId1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600" spc="-1" strike="noStrike">
                <a:solidFill>
                  <a:srgbClr val="000000"/>
                </a:solidFill>
                <a:latin typeface="Arial"/>
              </a:rPr>
              <a:t>Hoogsensitiviteitscomponen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spcBef>
                <a:spcPts val="675"/>
              </a:spcBef>
              <a:buClr>
                <a:srgbClr val="3c0000"/>
              </a:buClr>
              <a:buFont typeface="Arial"/>
              <a:buChar char="o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Positieve component = Sensitiviteit voor positieve Invloed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spcBef>
                <a:spcPts val="675"/>
              </a:spcBef>
              <a:buClr>
                <a:srgbClr val="3c0000"/>
              </a:buClr>
              <a:buFont typeface="Arial"/>
              <a:buChar char="o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Negatieve component =  Sensitiviteit voor storende Invloede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63640"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863640" indent="-558720">
              <a:spcBef>
                <a:spcPts val="1151"/>
              </a:spcBef>
              <a:buSzPct val="100000"/>
              <a:buBlip>
                <a:blip r:embed="rId2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600" spc="-1" strike="noStrike">
                <a:solidFill>
                  <a:srgbClr val="000000"/>
                </a:solidFill>
                <a:latin typeface="Arial"/>
              </a:rPr>
              <a:t>Gedragscomponen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spcBef>
                <a:spcPts val="675"/>
              </a:spcBef>
              <a:buClr>
                <a:srgbClr val="3c0000"/>
              </a:buClr>
              <a:buFont typeface="Arial"/>
              <a:buChar char="o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Externaliserende gedragscompon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spcBef>
                <a:spcPts val="675"/>
              </a:spcBef>
              <a:buClr>
                <a:srgbClr val="3c0000"/>
              </a:buClr>
              <a:buFont typeface="Arial"/>
              <a:buChar char="o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Internaliserende gedragscompon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8077320"/>
            <a:ext cx="90680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ff"/>
                </a:solidFill>
                <a:latin typeface="Papyrus"/>
                <a:ea typeface="Papyrus"/>
              </a:rPr>
              <a:t>De vragenlijst heeft inhoudsvaliditeit</a:t>
            </a:r>
            <a:endParaRPr b="0" lang="en-US" sz="32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D973-6A22-41AF-8604-0CCF6D3B88B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10312560" cy="96516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23005f"/>
                </a:solidFill>
                <a:latin typeface="Futura"/>
              </a:rPr>
              <a:t>Overeenstemming </a:t>
            </a:r>
            <a:r>
              <a:rPr b="0" lang="nl-NL" sz="4600" spc="-1" strike="noStrike">
                <a:solidFill>
                  <a:srgbClr val="23005f"/>
                </a:solidFill>
                <a:latin typeface="Futura"/>
              </a:rPr>
              <a:t>(</a:t>
            </a:r>
            <a:r>
              <a:rPr b="0" i="1" lang="nl-NL" sz="4600" spc="-1" strike="noStrike">
                <a:solidFill>
                  <a:srgbClr val="23005f"/>
                </a:solidFill>
                <a:latin typeface="Futura"/>
              </a:rPr>
              <a:t>r</a:t>
            </a:r>
            <a:r>
              <a:rPr b="0" lang="nl-NL" sz="4600" spc="-1" strike="noStrike">
                <a:solidFill>
                  <a:srgbClr val="23005f"/>
                </a:solidFill>
                <a:latin typeface="Futura"/>
              </a:rPr>
              <a:t>)</a:t>
            </a:r>
            <a:endParaRPr b="0" lang="en-US" sz="46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1600200"/>
          <a:ext cx="10223280" cy="6748560"/>
        </p:xfrm>
        <a:graphic>
          <a:graphicData uri="http://schemas.openxmlformats.org/drawingml/2006/table">
            <a:tbl>
              <a:tblPr/>
              <a:tblGrid>
                <a:gridCol w="4419720"/>
                <a:gridCol w="2743200"/>
                <a:gridCol w="3060360"/>
              </a:tblGrid>
              <a:tr h="1115640"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15640">
                <a:tc>
                  <a:txBody>
                    <a:bodyPr lIns="54720" rIns="54720" tIns="9000" bIns="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Hoogsensitivite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3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3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15640">
                <a:tc>
                  <a:txBody>
                    <a:bodyPr lIns="54720" rIns="54720" tIns="9000" bIns="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Positieve invloe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0,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15640">
                <a:tc>
                  <a:txBody>
                    <a:bodyPr lIns="54720" rIns="54720" tIns="9000" bIns="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Negatieve invloe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2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2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838080" y="8610480"/>
            <a:ext cx="11125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ff"/>
                </a:solidFill>
                <a:latin typeface="Papyrus"/>
                <a:ea typeface="Papyrus"/>
              </a:rPr>
              <a:t>Overeenstemming is wel significant en niet groot</a:t>
            </a:r>
            <a:endParaRPr b="0" lang="en-US" sz="32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D87-B6FE-40FC-9C22-7DDFFEB4921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23005f"/>
                </a:solidFill>
                <a:latin typeface="Futura"/>
              </a:rPr>
              <a:t>Hoogsensitiviteitscore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19320" y="3187800"/>
          <a:ext cx="10566360" cy="3352680"/>
        </p:xfrm>
        <a:graphic>
          <a:graphicData uri="http://schemas.openxmlformats.org/drawingml/2006/table">
            <a:tbl>
              <a:tblPr/>
              <a:tblGrid>
                <a:gridCol w="2460600"/>
                <a:gridCol w="2460600"/>
                <a:gridCol w="2460600"/>
                <a:gridCol w="3184560"/>
              </a:tblGrid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771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Meisj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6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8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Jongen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4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4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4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371600" y="7505640"/>
            <a:ext cx="10515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ff"/>
                </a:solidFill>
                <a:latin typeface="Papyrus"/>
                <a:ea typeface="Papyrus"/>
              </a:rPr>
              <a:t>Meisjes scoren significant hoger dan jongens</a:t>
            </a:r>
            <a:endParaRPr b="0" lang="en-US" sz="32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552E-EF4B-42C5-8C1B-3E08BED9B0E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nna Bosman</cp:lastModifiedBy>
  <cp:lastPrinted>2008-06-15T12:25:34Z</cp:lastPrinted>
  <dcterms:modified xsi:type="dcterms:W3CDTF">2009-06-06T10:30:50Z</dcterms:modified>
  <cp:revision>19</cp:revision>
  <dc:subject/>
  <dc:title>Hoogsensitiviteit bij kinderen in het Basisonderwijs </dc:title>
</cp:coreProperties>
</file>