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3003213" cy="97520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D4D-E769-4E83-B3FE-FB139729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D45B-DE98-4804-854E-0966ECE2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FD4-974E-48D8-8AA5-EF92F81D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84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45208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596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1384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45208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F6F-0D62-4566-89FB-69CC441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8401-4BD0-4A77-BCB1-D145EE47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DCBF-3254-4D78-AD1A-8155CB7A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DF2E-C8CD-43CE-811C-2D27E592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0240-E85E-4806-A87C-EEB2E30B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CD36-0294-4884-8E5C-87A2302A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5960" y="866520"/>
            <a:ext cx="1105524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C20-DE9B-407E-BCE2-61B7F7F5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6B59-339C-4A9F-9C65-26780B49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41C7-3F0A-419A-98BF-7E68F76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099F-F013-4961-912C-85E62BC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C77B-3CD7-4147-A542-BC733FE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D877-2AA0-4E36-9EC8-93DFBA9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BDD-619D-4C72-B875-14D84024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384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452080" y="281772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596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71384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452080" y="5874480"/>
            <a:ext cx="355968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021B-1AAF-4FC7-9799-2901714C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2CF-120C-4E15-AF2F-03CF06A6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E3B-5648-4977-88C2-FB02DB56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572-D6D0-49AC-849E-B6AE23F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5960" y="866520"/>
            <a:ext cx="1105524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9938-46A3-4548-9AAE-FDB7354C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3E1-3A3A-42EE-A6A6-29A88A42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0560" y="587448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A75E-B7A3-4242-AE39-F4AF66DA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59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0560" y="2817720"/>
            <a:ext cx="539460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5960" y="5874480"/>
            <a:ext cx="11055240" cy="2791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54F-D513-4185-8AE3-486A940B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75960" y="2817720"/>
            <a:ext cx="11055240" cy="58514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9000"/>
          </a:bodyPr>
          <a:p>
            <a:pPr marL="482400" indent="-482400">
              <a:spcBef>
                <a:spcPts val="115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46520" indent="-402120">
              <a:spcBef>
                <a:spcPts val="115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6092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2536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896200" indent="-321840">
              <a:spcBef>
                <a:spcPts val="1151"/>
              </a:spcBef>
              <a:buClr>
                <a:srgbClr val="3c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896200" indent="-321840">
              <a:spcBef>
                <a:spcPts val="11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896200" indent="-321840">
              <a:spcBef>
                <a:spcPts val="11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75960" y="8886600"/>
            <a:ext cx="27082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0040" y="8886600"/>
            <a:ext cx="27115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173E97BE-B71E-4921-BBA7-A60D52F7CA71}" type="slidenum"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5960" y="3251160"/>
            <a:ext cx="11055240" cy="1625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63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75960" y="8886600"/>
            <a:ext cx="270828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443120" y="888660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9320040" y="8886600"/>
            <a:ext cx="27115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  <a:def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fld id="{77C4DCE3-CB8F-45D0-AF2A-2903DFA67B26}" type="slidenum"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nabosman.eu/" TargetMode="External"/><Relationship Id="rId2" Type="http://schemas.openxmlformats.org/officeDocument/2006/relationships/hyperlink" Target="http://www.annabosman.eu/" TargetMode="External"/><Relationship Id="rId3" Type="http://schemas.openxmlformats.org/officeDocument/2006/relationships/hyperlink" Target="http://www.annabosman.eu/" TargetMode="External"/><Relationship Id="rId4" Type="http://schemas.openxmlformats.org/officeDocument/2006/relationships/hyperlink" Target="http://www.annabosman.eu/" TargetMode="External"/><Relationship Id="rId5" Type="http://schemas.openxmlformats.org/officeDocument/2006/relationships/hyperlink" Target="http://www.annabosman.eu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1752120"/>
            <a:ext cx="10845720" cy="19177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Hoogsensitiviteit bij kinderen in het Basisonderwijs 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5181480"/>
            <a:ext cx="10972800" cy="30736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t">
            <a:normAutofit/>
          </a:bodyPr>
          <a:p>
            <a:pPr marL="487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200" spc="-1" strike="noStrike">
                <a:solidFill>
                  <a:srgbClr val="ff28a4"/>
                </a:solidFill>
                <a:latin typeface="Arial"/>
              </a:rPr>
              <a:t>Drs. Sietske A.E. Walda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nl-NL" sz="4200" spc="-1" strike="noStrike">
                <a:solidFill>
                  <a:srgbClr val="7f007f"/>
                </a:solidFill>
                <a:latin typeface="Arial"/>
              </a:rPr>
              <a:t>dr. Joep T.A. Bakker en prof. dr. Anna M.T. Bosma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900" spc="-1" strike="noStrike">
                <a:solidFill>
                  <a:srgbClr val="ff28a4"/>
                </a:solidFill>
                <a:latin typeface="Arial"/>
              </a:rPr>
              <a:t>Braams &amp; Partners, Devent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8744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900" spc="-1" strike="noStrike">
                <a:solidFill>
                  <a:srgbClr val="7f007f"/>
                </a:solidFill>
                <a:latin typeface="Arial"/>
              </a:rPr>
              <a:t>Radboud Universiteit Nijmeg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59C-C9FC-44CF-A018-705B13F294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Positieve invloed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3187800"/>
          <a:ext cx="10566360" cy="38224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2729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5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371600" y="769608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B91-3D39-4A3D-AC05-95DDE1C053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Negatieve invloed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3187800"/>
          <a:ext cx="10566360" cy="323856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8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1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2,8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371600" y="750564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EAF3-ECAF-42DC-99C9-9B908FDA28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10858320" cy="914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Internaliserende problemen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2286000"/>
          <a:ext cx="11214000" cy="4622760"/>
        </p:xfrm>
        <a:graphic>
          <a:graphicData uri="http://schemas.openxmlformats.org/drawingml/2006/table">
            <a:tbl>
              <a:tblPr/>
              <a:tblGrid>
                <a:gridCol w="4190760"/>
                <a:gridCol w="2032200"/>
                <a:gridCol w="1944720"/>
                <a:gridCol w="304632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762120" y="7543800"/>
            <a:ext cx="11391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Er is samenhang tussen  internaliserende problemen enerzijds en hoogsensitiviteit en negatieve invloeden anderzijd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07A-15E5-4BE3-99EF-C85002ECCC0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11277720" cy="1346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Externaliserende problemen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2311560"/>
          <a:ext cx="11061720" cy="4597200"/>
        </p:xfrm>
        <a:graphic>
          <a:graphicData uri="http://schemas.openxmlformats.org/drawingml/2006/table">
            <a:tbl>
              <a:tblPr/>
              <a:tblGrid>
                <a:gridCol w="4191120"/>
                <a:gridCol w="2057400"/>
                <a:gridCol w="1828800"/>
                <a:gridCol w="298440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685800" y="7543800"/>
            <a:ext cx="11430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Leerkrachten: geringe externaliserende problemen gaan samen met hoge scores op alle hoogsensitiviteitscomponenten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CB0-6EBF-4223-BE8E-6DDF2AD580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1040" y="635040"/>
            <a:ext cx="11277360" cy="12700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Algemene schoolprestaties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2311560"/>
          <a:ext cx="11138040" cy="4597200"/>
        </p:xfrm>
        <a:graphic>
          <a:graphicData uri="http://schemas.openxmlformats.org/drawingml/2006/table">
            <a:tbl>
              <a:tblPr/>
              <a:tblGrid>
                <a:gridCol w="4191120"/>
                <a:gridCol w="2133720"/>
                <a:gridCol w="1904760"/>
                <a:gridCol w="290844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-0,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-0,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838080" y="7620120"/>
            <a:ext cx="1123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Ouders: slechte algemene schoolprestaties</a:t>
            </a: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 gaan samen met hoge scores op alle hoogsensitiviteitscomponenten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861-E478-4771-81E8-34ACE782E24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10667880" cy="60984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5400" spc="-1" strike="noStrike">
                <a:solidFill>
                  <a:srgbClr val="23005f"/>
                </a:solidFill>
                <a:latin typeface="Futura"/>
              </a:rPr>
              <a:t>Ziekte zonder oorzaak</a:t>
            </a:r>
            <a:endParaRPr b="0" lang="en-US" sz="5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311560"/>
          <a:ext cx="11214000" cy="4597200"/>
        </p:xfrm>
        <a:graphic>
          <a:graphicData uri="http://schemas.openxmlformats.org/drawingml/2006/table">
            <a:tbl>
              <a:tblPr/>
              <a:tblGrid>
                <a:gridCol w="4190760"/>
                <a:gridCol w="2286000"/>
                <a:gridCol w="1828800"/>
                <a:gridCol w="290844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952560" y="7327800"/>
            <a:ext cx="11315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Ziekte zonder oorzaak enerzijds gaat samen met hoge scores op hoogsensitiviteit en negatieve invloeden anderzijd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A84-3E2D-417A-AAA3-1C29B1E56F5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12725280" cy="17524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	</a:t>
            </a: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hoogsensitiviteit meetbaar bij jonge kinderen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299120"/>
            <a:ext cx="91440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JA!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Betrouwbaarheid en inhoudsvaliditeit van de vragenlijst zijn in orde.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125" name=""/>
          <p:cNvSpPr/>
          <p:nvPr/>
        </p:nvSpPr>
        <p:spPr>
          <a:xfrm>
            <a:off x="11972880" y="84596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E5C-CD65-4586-9D70-BAEC4BED9F7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11582640" cy="25146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er overeenstemming tussen de oordelen van kinderen, ouders en leerkrachten over hoogsensitiviteit bij kinderen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4114800"/>
            <a:ext cx="11658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Er is een significante mate van overeenstemming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echter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Papyrus"/>
                <a:ea typeface="Papyrus"/>
              </a:rPr>
              <a:t>Deze is niet zodanig dat de beoordeling over kinderen aan ouders of leerkrachten overgelaten kan worden.</a:t>
            </a:r>
            <a:endParaRPr b="0" lang="en-US" sz="36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C46-FC8E-4076-BE0D-3143CB50555E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13004640" cy="22860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23005f"/>
                </a:solidFill>
                <a:latin typeface="Futura"/>
              </a:rPr>
              <a:t>Is er een verband tussen hoogsensitiviteit anderzijds en gender, gedragsproblemen, leerprestaties en ziekte zonder aanwijsbare oorzaak anderzijds?</a:t>
            </a:r>
            <a:endParaRPr b="0" lang="en-US" sz="40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10896840" cy="57801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Meisjes scoren hoger dan jongens (Bias?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Er zijn aanwijzingen dat hoogsensitiviteit de kans op internaliserende problemen verhoogt en op externaliserende problemen verlaa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Alleen de ouders denken dat hoogsensitiviteit samengaat met slechte schoolpresta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3600" spc="-1" strike="noStrike">
                <a:solidFill>
                  <a:srgbClr val="ff00ff"/>
                </a:solidFill>
                <a:latin typeface="Arial"/>
              </a:rPr>
              <a:t>Hoogsensitiviteit lijkt samen te gaan met ziekten zonder duidelijk aanwijsbare oorza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C63-8C34-435A-9836-772BC60827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11055240" cy="1143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Arial"/>
              </a:rPr>
              <a:t>Referenties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11734560" cy="74674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1996). Counseling the highly sensitive person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unseling and Human Developm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8(9)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-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0). High sensitivity as one source of fearfulness and shyness. In L. A. Schmidt &amp; J. Schulkin (Eds.)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Extreme fear, shyness, and social Phobia: Origins, biological mechanisms, and clinical outcom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p. 251-272). New York: Oxford University Pres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4). Revisting Jung’s concept of innate sensitiveness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ournal of Analytical Psychology, 49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337-36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on, E. N. (2004). The impact of adult temperament on closeness and intimacy. In D. J. Mashek &amp; A. A. Aron (Eds.),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Handbook of closeness and intimac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pp. 267-286). Mahwah, NJ: Lawrence Erlbaum Associ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on, E. N., &amp; Aron, A. (1997). Sensory-processing sensitivity and its relation to introversion and emotionality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and Social Psychology, 73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345-3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on, E. N., Aron, A., &amp; Davies, K. M. (2005). Adult shyness: The interaction of temperamental sensitivity and an adverse childhood environment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Social Psychology Bulletin, 3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81-19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enham, G. (2006). The highly sensitive person: Stress and physical symptom report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40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, 1433-14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vers, A., Rasche, J., &amp; Schabracq, M. J. (2008). High sensory-processing sensitivity at work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International Journal of Stress Management, 15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89-19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Hofman, S. G., &amp; Bitran, S. (2007). Sensory-processing sensitivity in social anxiety disorder: Relationship to harm avoidance and diagnostic subtypes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. Journal of Anxiety Disorders, 2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944-95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Jerome, E. M., &amp; Liss, M. (2005). Relationships between sensory processing style, adult attachment, and coping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38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341-135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Liss, M., Timmel, L., Baxley, K.,  &amp; Killingsworth, P. (2005). Sensory processing sensitivity and its relation to parental bonding, anxiety, and depression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39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429-14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eyer, B. J., Ajchenbrenner, M., &amp; Bowles, D. P. (2005). Sensory sensitiviy, attachment experiences, and rejection responses among adults with borderline and avoidant feature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Disorders, 19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641-65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eyer, B. J., &amp; Carver, C.S. (2000). Negative childhood accounts, sensitivity, and pessimism: A study of avoidant personality disorder features in college students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Journal of Personality Disorders, 14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, 233-24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eal, J. A., Edelmann, R. J., &amp; Glachan, M. (2002). Behavioural inhibition and symptoms of anxiety and depression: Is there a specific relationship with social phobia?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British Journal of Clinical Psychology, 41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361-37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molewska, K. A., McCabe, S. B., &amp; Woody, E. Z. (2006). A psychometric evaluation of the highly sensitive person scale: The components of sensory-processing sensitivity and their relation to the BIS/BAS and “Big five”. </a:t>
            </a:r>
            <a:r>
              <a:rPr b="0" i="1" sz="1600" spc="-1" strike="noStrike">
                <a:solidFill>
                  <a:srgbClr val="000000"/>
                </a:solidFill>
                <a:latin typeface="Times New Roman"/>
              </a:rPr>
              <a:t>Personality and Individual Differences, 40,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1269-127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709-6564-4299-95BB-1F28E05B63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Onderzoeksvragen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11430000" cy="65530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hoogsensitiviteit meetbaar bij kinderen vanaf 10 ja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er overeenstemming tussen de oordelen van kinderen, ouders en leerkrachten over hoogsensitiviteit bij kinde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s er een verband tussen hoogsensitiviteit enerzijds en gender, gedragsproblemen, leerprestaties en ziekte zonder aanwijsbare oorzaak anderzij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86B-948D-4A49-AB99-BDE05395DE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5960" y="1552680"/>
            <a:ext cx="11055240" cy="9396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000000"/>
                </a:solidFill>
                <a:latin typeface="Futura"/>
              </a:rPr>
              <a:t>Dank voor uw aandach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3" name=""/>
          <p:cNvSpPr/>
          <p:nvPr/>
        </p:nvSpPr>
        <p:spPr>
          <a:xfrm>
            <a:off x="452520" y="4827960"/>
            <a:ext cx="12436560" cy="22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ff"/>
                </a:solidFill>
                <a:latin typeface="Papyrus"/>
                <a:ea typeface="Papyrus"/>
              </a:rPr>
              <a:t>De scriptie van Sietske vindt u op</a:t>
            </a: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1"/>
              </a:rPr>
              <a:t>www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2"/>
              </a:rPr>
              <a:t>.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3"/>
              </a:rPr>
              <a:t>annabosman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4"/>
              </a:rPr>
              <a:t>.</a:t>
            </a:r>
            <a:r>
              <a:rPr b="0" lang="nl-NL" sz="4800" spc="-1" strike="noStrike" u="sng">
                <a:solidFill>
                  <a:srgbClr val="009999"/>
                </a:solidFill>
                <a:uFillTx/>
                <a:latin typeface="Papyrus"/>
                <a:ea typeface="Papyrus"/>
                <a:hlinkClick r:id="rId5"/>
              </a:rPr>
              <a:t>eu</a:t>
            </a:r>
            <a:endParaRPr b="0" lang="en-US" sz="48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5C3-4D45-4BAB-8764-2800411E4CA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Deelnemers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38360" y="275544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506 Kinder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382 Oud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lnSpc>
                <a:spcPct val="120000"/>
              </a:lnSpc>
              <a:spcBef>
                <a:spcPts val="1650"/>
              </a:spcBef>
              <a:buSzPct val="100000"/>
              <a:buBlip>
                <a:blip r:embed="rId3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600" spc="-1" strike="noStrike">
                <a:solidFill>
                  <a:srgbClr val="000000"/>
                </a:solidFill>
                <a:latin typeface="Arial"/>
              </a:rPr>
              <a:t>123 Leerkracht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0E8-1742-4B7C-97DC-BE77FC0DCDD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Leerlingen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31840" y="2629080"/>
          <a:ext cx="8623440" cy="5257800"/>
        </p:xfrm>
        <a:graphic>
          <a:graphicData uri="http://schemas.openxmlformats.org/drawingml/2006/table">
            <a:tbl>
              <a:tblPr/>
              <a:tblGrid>
                <a:gridCol w="2873520"/>
                <a:gridCol w="2874960"/>
                <a:gridCol w="2874960"/>
              </a:tblGrid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Groep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aant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ftij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9;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0;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1;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526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12;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E22-DBCF-4901-8091-9CAB1EDB62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Vragenlijst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666520"/>
            <a:ext cx="12268440" cy="60073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Hoogsensitiviteitsvragen van Aron en Aron (199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BCL-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rnaliserende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ernaliserende probl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ragen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stma, allergieën, ziekte, vermoei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ragen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oolresultaten, leerproblemen en bijzondere capac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0E8-1794-45AA-A62D-2B1F820D33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Betrouwbaarheid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2817720"/>
            <a:ext cx="10464840" cy="421632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Arial"/>
              </a:rPr>
              <a:t>Alfa-waard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nderen  = .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uders = .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2273400" indent="-55872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rkrachten = .9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7696080"/>
            <a:ext cx="100584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De vragenlijst is betrouwbaar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D30-679D-4D93-972E-5CFC9E06C8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9779040" cy="134604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Structuur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11582280" cy="48513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rmAutofit/>
          </a:bodyPr>
          <a:p>
            <a:pPr marL="863640" indent="-558720">
              <a:spcBef>
                <a:spcPts val="1151"/>
              </a:spcBef>
              <a:buSzPct val="100000"/>
              <a:buBlip>
                <a:blip r:embed="rId1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600" spc="-1" strike="noStrike">
                <a:solidFill>
                  <a:srgbClr val="000000"/>
                </a:solidFill>
                <a:latin typeface="Arial"/>
              </a:rPr>
              <a:t>Hoogsensitiviteitscompon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ositieve component = Sensitiviteit voor positieve Invloed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egatieve component =  Sensitiviteit voor storende Invloede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63640" indent="0">
              <a:spcBef>
                <a:spcPts val="1151"/>
              </a:spcBef>
              <a:buNone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863640" indent="-558720">
              <a:spcBef>
                <a:spcPts val="1151"/>
              </a:spcBef>
              <a:buSzPct val="100000"/>
              <a:buBlip>
                <a:blip r:embed="rId2"/>
              </a:buBlip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4600" spc="-1" strike="noStrike">
                <a:solidFill>
                  <a:srgbClr val="000000"/>
                </a:solidFill>
                <a:latin typeface="Arial"/>
              </a:rPr>
              <a:t>Gedragscompon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Externaliserende gedragscompo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7320" indent="-406440">
              <a:spcBef>
                <a:spcPts val="675"/>
              </a:spcBef>
              <a:buClr>
                <a:srgbClr val="3c0000"/>
              </a:buClr>
              <a:buFont typeface="Arial"/>
              <a:buChar char="o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Internaliserende gedragscompon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8077320"/>
            <a:ext cx="9068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De vragenlijst heeft inhoudsvaliditeit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B9B5-8CF7-4673-B2E0-89C5B06CE5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10312560" cy="96516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Overeenstemming </a:t>
            </a:r>
            <a:r>
              <a:rPr b="0" lang="nl-NL" sz="4600" spc="-1" strike="noStrike">
                <a:solidFill>
                  <a:srgbClr val="23005f"/>
                </a:solidFill>
                <a:latin typeface="Futura"/>
              </a:rPr>
              <a:t>(</a:t>
            </a:r>
            <a:r>
              <a:rPr b="0" i="1" lang="nl-NL" sz="4600" spc="-1" strike="noStrike">
                <a:solidFill>
                  <a:srgbClr val="23005f"/>
                </a:solidFill>
                <a:latin typeface="Futura"/>
              </a:rPr>
              <a:t>r</a:t>
            </a:r>
            <a:r>
              <a:rPr b="0" lang="nl-NL" sz="4600" spc="-1" strike="noStrike">
                <a:solidFill>
                  <a:srgbClr val="23005f"/>
                </a:solidFill>
                <a:latin typeface="Futura"/>
              </a:rPr>
              <a:t>)</a:t>
            </a:r>
            <a:endParaRPr b="0" lang="en-US" sz="46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1600200"/>
          <a:ext cx="10223280" cy="6748560"/>
        </p:xfrm>
        <a:graphic>
          <a:graphicData uri="http://schemas.openxmlformats.org/drawingml/2006/table">
            <a:tbl>
              <a:tblPr/>
              <a:tblGrid>
                <a:gridCol w="4419720"/>
                <a:gridCol w="2743200"/>
                <a:gridCol w="3060360"/>
              </a:tblGrid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Hoogsensitivite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Posi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0,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115640">
                <a:tc>
                  <a:txBody>
                    <a:bodyPr lIns="54720" rIns="54720" tIns="9000" bIns="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Negatieve invloe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4720" rIns="54720" tIns="9000" bIns="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ff"/>
                          </a:solidFill>
                          <a:latin typeface="Papyrus"/>
                        </a:rPr>
                        <a:t>0,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4720" marR="54720">
                    <a:lnL w="13680">
                      <a:solidFill>
                        <a:srgbClr val="2f1a14"/>
                      </a:solidFill>
                    </a:lnL>
                    <a:lnR w="13680">
                      <a:solidFill>
                        <a:srgbClr val="2f1a14"/>
                      </a:solidFill>
                    </a:lnR>
                    <a:lnT w="13680">
                      <a:solidFill>
                        <a:srgbClr val="2f1a14"/>
                      </a:solidFill>
                    </a:lnT>
                    <a:lnB w="1368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838080" y="8610480"/>
            <a:ext cx="11125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Overeenstemming is wel significant en niet groot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987-FDA1-48BE-91B5-A0CF15D746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5960" y="866520"/>
            <a:ext cx="1105524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5076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nl-NL" sz="6300" spc="-1" strike="noStrike">
                <a:solidFill>
                  <a:srgbClr val="23005f"/>
                </a:solidFill>
                <a:latin typeface="Futura"/>
              </a:rPr>
              <a:t>Hoogsensitiviteitscore</a:t>
            </a:r>
            <a:endParaRPr b="0" lang="en-US" sz="63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3187800"/>
          <a:ext cx="10566360" cy="3352680"/>
        </p:xfrm>
        <a:graphic>
          <a:graphicData uri="http://schemas.openxmlformats.org/drawingml/2006/table">
            <a:tbl>
              <a:tblPr/>
              <a:tblGrid>
                <a:gridCol w="2460600"/>
                <a:gridCol w="2460600"/>
                <a:gridCol w="2460600"/>
                <a:gridCol w="3184560"/>
              </a:tblGrid>
              <a:tr h="119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Kinder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Ouder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Leerkracht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71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Meisj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6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8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Jonge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3600" spc="-1" strike="noStrike">
                          <a:solidFill>
                            <a:srgbClr val="000000"/>
                          </a:solidFill>
                          <a:latin typeface="Papyrus"/>
                        </a:rPr>
                        <a:t>3,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Papyru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2f1a14"/>
                      </a:solidFill>
                    </a:lnL>
                    <a:lnR w="12240">
                      <a:solidFill>
                        <a:srgbClr val="2f1a14"/>
                      </a:solidFill>
                    </a:lnR>
                    <a:lnT w="12240">
                      <a:solidFill>
                        <a:srgbClr val="2f1a14"/>
                      </a:solidFill>
                    </a:lnT>
                    <a:lnB w="12240">
                      <a:solidFill>
                        <a:srgbClr val="2f1a1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371600" y="7505640"/>
            <a:ext cx="10515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ff"/>
                </a:solidFill>
                <a:latin typeface="Papyrus"/>
                <a:ea typeface="Papyrus"/>
              </a:rPr>
              <a:t>Meisjes scoren significant hoger dan jongens</a:t>
            </a:r>
            <a:endParaRPr b="0" lang="en-US" sz="3200" spc="-1" strike="noStrike">
              <a:solidFill>
                <a:srgbClr val="000000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626-B637-4B1F-9B75-9C3610A2E52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nna Bosman</cp:lastModifiedBy>
  <cp:lastPrinted>2008-06-15T12:25:34Z</cp:lastPrinted>
  <dcterms:modified xsi:type="dcterms:W3CDTF">2009-06-06T10:30:50Z</dcterms:modified>
  <cp:revision>19</cp:revision>
  <dc:subject/>
  <dc:title>Hoogsensitiviteit bij kinderen in het Basisonderwijs </dc:title>
</cp:coreProperties>
</file>