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media/image4.png" ContentType="image/png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Text Box 2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Text Box 3"/>
          <p:cNvSpPr/>
          <p:nvPr/>
        </p:nvSpPr>
        <p:spPr>
          <a:xfrm>
            <a:off x="388620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952560" y="685440"/>
            <a:ext cx="495144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23005f"/>
                </a:solidFill>
                <a:latin typeface="Futura"/>
              </a:rPr>
              <a:t>Click to move the slide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6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marL="216000" indent="0" algn="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CD296A-DA21-4530-BC55-0772253FD294}" type="slidenum">
              <a:rPr b="0" lang="nl-NL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45B2F9-C9E2-4A61-BCFB-762C21DC81FC}" type="slidenum">
              <a:rPr b="0" lang="nl-NL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Text Box 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ADA2498-C3CB-4C8E-94B0-EEE4B7122A98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Text Box 2"/>
          <p:cNvSpPr/>
          <p:nvPr/>
        </p:nvSpPr>
        <p:spPr>
          <a:xfrm>
            <a:off x="952560" y="685800"/>
            <a:ext cx="495288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F077FF-3A99-49C1-A4A4-00D65727E1EF}" type="slidenum">
              <a:rPr b="0" lang="nl-NL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Text Box 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6FA621F-F6C8-4EB4-9C73-AD619723D6EE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Text Box 2"/>
          <p:cNvSpPr/>
          <p:nvPr/>
        </p:nvSpPr>
        <p:spPr>
          <a:xfrm>
            <a:off x="952560" y="685800"/>
            <a:ext cx="495288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body"/>
          </p:nvPr>
        </p:nvSpPr>
        <p:spPr>
          <a:xfrm>
            <a:off x="914400" y="4338360"/>
            <a:ext cx="5029200" cy="4227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FACA35-40A7-48B8-A885-237E020F1B0E}" type="slidenum">
              <a:rPr b="0" lang="nl-NL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Text Box 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49CF4A0-D456-4669-A709-A9DEC57A0006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Text Box 2"/>
          <p:cNvSpPr/>
          <p:nvPr/>
        </p:nvSpPr>
        <p:spPr>
          <a:xfrm>
            <a:off x="952560" y="685800"/>
            <a:ext cx="495288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body"/>
          </p:nvPr>
        </p:nvSpPr>
        <p:spPr>
          <a:xfrm>
            <a:off x="914400" y="4338360"/>
            <a:ext cx="5029200" cy="4227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374B16-A1E0-4134-A16F-D3FDC9648286}" type="slidenum">
              <a:rPr b="0" lang="nl-NL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Text Box 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93B9D1B-FEB8-475E-943B-D21ABF85B311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Text Box 2"/>
          <p:cNvSpPr/>
          <p:nvPr/>
        </p:nvSpPr>
        <p:spPr>
          <a:xfrm>
            <a:off x="952560" y="685800"/>
            <a:ext cx="495288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body"/>
          </p:nvPr>
        </p:nvSpPr>
        <p:spPr>
          <a:xfrm>
            <a:off x="914400" y="4338360"/>
            <a:ext cx="5029200" cy="4227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CAEB5C-670A-4991-98B2-D50D41DCDC1A}" type="slidenum">
              <a:rPr b="0" lang="nl-NL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Text Box 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579CD16-C860-4139-9301-E0390B03AD75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Text Box 2"/>
          <p:cNvSpPr/>
          <p:nvPr/>
        </p:nvSpPr>
        <p:spPr>
          <a:xfrm>
            <a:off x="952560" y="685800"/>
            <a:ext cx="495288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body"/>
          </p:nvPr>
        </p:nvSpPr>
        <p:spPr>
          <a:xfrm>
            <a:off x="914400" y="4338360"/>
            <a:ext cx="5029200" cy="4227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BE9C7D-6052-40F9-803D-9A76DFE83DFB}" type="slidenum">
              <a:rPr b="0" lang="nl-NL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Text Box 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7AD0FB3-1F7C-4552-B9CB-5B49EDECA60A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Text Box 2"/>
          <p:cNvSpPr/>
          <p:nvPr/>
        </p:nvSpPr>
        <p:spPr>
          <a:xfrm>
            <a:off x="952560" y="685800"/>
            <a:ext cx="495288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body"/>
          </p:nvPr>
        </p:nvSpPr>
        <p:spPr>
          <a:xfrm>
            <a:off x="914400" y="4338360"/>
            <a:ext cx="5029200" cy="4227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64C970-C37D-47BA-A11C-F1D38D0859CB}" type="slidenum">
              <a:rPr b="0" lang="nl-NL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Text Box 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057B55D-3518-49AB-98CE-79F3991D1CDB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Text Box 2"/>
          <p:cNvSpPr/>
          <p:nvPr/>
        </p:nvSpPr>
        <p:spPr>
          <a:xfrm>
            <a:off x="952560" y="685800"/>
            <a:ext cx="495288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body"/>
          </p:nvPr>
        </p:nvSpPr>
        <p:spPr>
          <a:xfrm>
            <a:off x="914400" y="4338360"/>
            <a:ext cx="5029200" cy="4227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3D5D46-FA30-4052-858C-284558D8E994}" type="slidenum">
              <a:rPr b="0" lang="nl-NL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D342D8-5304-4C0B-9134-C7EB4B6644B7}" type="slidenum">
              <a:rPr b="0" lang="nl-NL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DD62DB-08CA-4A45-AB3A-CA8F98B256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42680" y="463680"/>
            <a:ext cx="84186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84186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42680" y="4192200"/>
            <a:ext cx="84186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7846AF-676D-4E60-A719-F8848A4191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42680" y="463680"/>
            <a:ext cx="84186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4107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56560" y="1980720"/>
            <a:ext cx="4107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42680" y="4192200"/>
            <a:ext cx="4107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56560" y="4192200"/>
            <a:ext cx="4107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11DE2F-78F6-4E81-9F57-D050DE3552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42680" y="463680"/>
            <a:ext cx="84186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27104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89200" y="1980720"/>
            <a:ext cx="27104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435360" y="1980720"/>
            <a:ext cx="27104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42680" y="4192200"/>
            <a:ext cx="27104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89200" y="4192200"/>
            <a:ext cx="27104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435360" y="4192200"/>
            <a:ext cx="27104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BF09C6-AD1E-402F-93A9-28D9AB0D95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7FE92E-771D-4803-947E-6BF2BCC166C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42680" y="463680"/>
            <a:ext cx="84186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742680" y="1980720"/>
            <a:ext cx="841860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8E3FAD-6F6C-4A69-92F0-2CAED7B6EB9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42680" y="463680"/>
            <a:ext cx="84186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841860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D6CED8-61B6-42B3-A221-8F776E75AEA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42680" y="463680"/>
            <a:ext cx="84186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4107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56560" y="1980720"/>
            <a:ext cx="4107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ECAB02-E60C-4E53-AEA8-20618FDCA19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42680" y="463680"/>
            <a:ext cx="84186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BFC6A1-6B86-4E6B-8551-E76B4098E1D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742680" y="463680"/>
            <a:ext cx="841860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63A474-4FD1-47DF-A39A-BC1507DE908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42680" y="463680"/>
            <a:ext cx="84186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4107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56560" y="1980720"/>
            <a:ext cx="4107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742680" y="4192200"/>
            <a:ext cx="4107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555A28-F448-4080-92E8-49B0E4C9AAB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42680" y="463680"/>
            <a:ext cx="84186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42680" y="1980720"/>
            <a:ext cx="841860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0E2B09-BF62-428C-ACC7-81C0C18DD7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42680" y="463680"/>
            <a:ext cx="84186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4107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56560" y="1980720"/>
            <a:ext cx="4107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56560" y="4192200"/>
            <a:ext cx="4107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A1E794-8DDE-4E17-9723-2E7E6A9CDCE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42680" y="463680"/>
            <a:ext cx="84186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4107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56560" y="1980720"/>
            <a:ext cx="4107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742680" y="4192200"/>
            <a:ext cx="84186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CE9F7E-24B6-481A-86DB-7CAF5D69649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42680" y="463680"/>
            <a:ext cx="84186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84186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742680" y="4192200"/>
            <a:ext cx="84186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BE5F93-3578-41F4-97E0-4F92EC6D788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42680" y="463680"/>
            <a:ext cx="84186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4107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56560" y="1980720"/>
            <a:ext cx="4107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742680" y="4192200"/>
            <a:ext cx="4107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56560" y="4192200"/>
            <a:ext cx="4107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2AE0E1-1F4A-4A14-AD4B-2F8AD00BA5E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42680" y="463680"/>
            <a:ext cx="84186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27104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89200" y="1980720"/>
            <a:ext cx="27104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435360" y="1980720"/>
            <a:ext cx="27104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742680" y="4192200"/>
            <a:ext cx="27104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589200" y="4192200"/>
            <a:ext cx="27104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435360" y="4192200"/>
            <a:ext cx="27104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657E7F-D8A1-4E84-8B7E-D81DBEC1663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42680" y="463680"/>
            <a:ext cx="84186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841860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003E28-6F97-4F72-AC7A-8EA576F7C8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42680" y="463680"/>
            <a:ext cx="84186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4107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56560" y="1980720"/>
            <a:ext cx="4107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0B4821-97BD-4ACE-8A26-9F82AAD93D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42680" y="463680"/>
            <a:ext cx="84186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01E5CC-9FE6-43D3-98D1-60C9E7CDA9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42680" y="463680"/>
            <a:ext cx="841860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38C90F-CC75-419A-94F0-225198070A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42680" y="463680"/>
            <a:ext cx="84186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4107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56560" y="1980720"/>
            <a:ext cx="4107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42680" y="4192200"/>
            <a:ext cx="4107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7C0941-FF02-474E-8134-393C3966A3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42680" y="463680"/>
            <a:ext cx="84186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4107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56560" y="1980720"/>
            <a:ext cx="4107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56560" y="4192200"/>
            <a:ext cx="4107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B2B232-68CC-45DA-8612-8BE183818C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42680" y="463680"/>
            <a:ext cx="84186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4107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56560" y="1980720"/>
            <a:ext cx="4107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42680" y="4192200"/>
            <a:ext cx="84186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30800A-FF94-4D54-B760-7B188A9F2A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42680" y="463680"/>
            <a:ext cx="84186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23005f"/>
                </a:solidFill>
                <a:latin typeface="Futura"/>
              </a:rPr>
              <a:t>Click to edit the title text format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42680" y="1980720"/>
            <a:ext cx="841860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743040" y="6245280"/>
            <a:ext cx="20635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384720" y="6245280"/>
            <a:ext cx="3136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7098840" y="6248160"/>
            <a:ext cx="20624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608FFCC-5E32-442E-8466-CB1A64911644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42680" y="463680"/>
            <a:ext cx="84186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23005f"/>
                </a:solidFill>
                <a:latin typeface="Futura"/>
              </a:rPr>
              <a:t>Click to edit the title text format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42680" y="1980720"/>
            <a:ext cx="841860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4"/>
          <p:cNvSpPr/>
          <p:nvPr/>
        </p:nvSpPr>
        <p:spPr>
          <a:xfrm>
            <a:off x="743040" y="6245280"/>
            <a:ext cx="20635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Text Box 5"/>
          <p:cNvSpPr/>
          <p:nvPr/>
        </p:nvSpPr>
        <p:spPr>
          <a:xfrm>
            <a:off x="3384720" y="6245280"/>
            <a:ext cx="3136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2"/>
          </p:nvPr>
        </p:nvSpPr>
        <p:spPr>
          <a:xfrm>
            <a:off x="7098840" y="6248160"/>
            <a:ext cx="20624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nl-NL" sz="1400" spc="-1" strike="noStrike">
                <a:solidFill>
                  <a:srgbClr val="000000"/>
                </a:solidFill>
                <a:latin typeface="Arial"/>
                <a:ea typeface="Arial Unicode MS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44C2AFA-1D91-4767-89DF-ABBCF7940BA3}" type="slidenum">
              <a:rPr b="0" lang="nl-NL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1"/>
          <p:cNvSpPr/>
          <p:nvPr/>
        </p:nvSpPr>
        <p:spPr>
          <a:xfrm>
            <a:off x="1143000" y="631800"/>
            <a:ext cx="8077320" cy="279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4400"/>
            </a:br>
            <a:r>
              <a:rPr b="1" lang="nl-NL" sz="6000" spc="-1" strike="noStrike">
                <a:solidFill>
                  <a:srgbClr val="320089"/>
                </a:solidFill>
                <a:latin typeface="Arial"/>
              </a:rPr>
              <a:t>Effectief spellingonderwijs</a:t>
            </a:r>
            <a:br>
              <a:rPr sz="6000"/>
            </a:br>
            <a:br>
              <a:rPr sz="3600"/>
            </a:b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Text Box 2"/>
          <p:cNvSpPr/>
          <p:nvPr/>
        </p:nvSpPr>
        <p:spPr>
          <a:xfrm>
            <a:off x="228600" y="3809880"/>
            <a:ext cx="6858000" cy="23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2400" spc="-1" strike="noStrike">
                <a:solidFill>
                  <a:srgbClr val="660066"/>
                </a:solidFill>
                <a:latin typeface="Arial"/>
              </a:rPr>
              <a:t>Prof. dr. Anna M. T. Bosm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2000" spc="-1" strike="noStrike">
                <a:solidFill>
                  <a:srgbClr val="660066"/>
                </a:solidFill>
                <a:latin typeface="Arial"/>
              </a:rPr>
              <a:t>Radboud Universiteit Nijmeg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2000" spc="-1" strike="noStrike">
                <a:solidFill>
                  <a:srgbClr val="660066"/>
                </a:solidFill>
                <a:latin typeface="Arial"/>
              </a:rPr>
              <a:t>Sectie Orthopedagogiek van Leren en Ontwikkel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2000" spc="-1" strike="noStrike">
                <a:solidFill>
                  <a:srgbClr val="660066"/>
                </a:solidFill>
                <a:latin typeface="Arial"/>
              </a:rPr>
              <a:t>www.annabosman.e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1"/>
          <p:cNvSpPr/>
          <p:nvPr/>
        </p:nvSpPr>
        <p:spPr>
          <a:xfrm>
            <a:off x="687240" y="228600"/>
            <a:ext cx="8420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nl-NL" sz="4400" spc="-1" strike="noStrike">
                <a:solidFill>
                  <a:srgbClr val="000090"/>
                </a:solidFill>
                <a:latin typeface="Arial"/>
              </a:rPr>
              <a:t>Waarom geen meerkeuz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Text Box 2"/>
          <p:cNvSpPr/>
          <p:nvPr/>
        </p:nvSpPr>
        <p:spPr>
          <a:xfrm>
            <a:off x="611280" y="1828800"/>
            <a:ext cx="891540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42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800" spc="-1" strike="noStrike">
                <a:solidFill>
                  <a:srgbClr val="660066"/>
                </a:solidFill>
                <a:latin typeface="Arial"/>
              </a:rPr>
              <a:t>A. Ben je in de </a:t>
            </a:r>
            <a:r>
              <a:rPr b="1" lang="nl-NL" sz="2800" spc="-1" strike="noStrike">
                <a:solidFill>
                  <a:srgbClr val="000090"/>
                </a:solidFill>
                <a:latin typeface="Arial"/>
              </a:rPr>
              <a:t>zomer </a:t>
            </a:r>
            <a:r>
              <a:rPr b="0" lang="nl-NL" sz="2800" spc="-1" strike="noStrike">
                <a:solidFill>
                  <a:srgbClr val="660066"/>
                </a:solidFill>
                <a:latin typeface="Arial"/>
              </a:rPr>
              <a:t>op vakantie geweest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2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800" spc="-1" strike="noStrike">
                <a:solidFill>
                  <a:srgbClr val="660066"/>
                </a:solidFill>
                <a:latin typeface="Arial"/>
              </a:rPr>
              <a:t>B. De </a:t>
            </a:r>
            <a:r>
              <a:rPr b="1" lang="nl-NL" sz="2800" spc="-1" strike="noStrike">
                <a:solidFill>
                  <a:srgbClr val="000090"/>
                </a:solidFill>
                <a:latin typeface="Arial"/>
              </a:rPr>
              <a:t>caviea</a:t>
            </a:r>
            <a:r>
              <a:rPr b="0" lang="nl-NL" sz="2800" spc="-1" strike="noStrike">
                <a:solidFill>
                  <a:srgbClr val="000090"/>
                </a:solidFill>
                <a:latin typeface="Arial"/>
              </a:rPr>
              <a:t> </a:t>
            </a:r>
            <a:r>
              <a:rPr b="0" lang="nl-NL" sz="2800" spc="-1" strike="noStrike">
                <a:solidFill>
                  <a:srgbClr val="660066"/>
                </a:solidFill>
                <a:latin typeface="Arial"/>
              </a:rPr>
              <a:t>van de buren heet Sammi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2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800" spc="-1" strike="noStrike">
                <a:solidFill>
                  <a:srgbClr val="660066"/>
                </a:solidFill>
                <a:latin typeface="Arial"/>
              </a:rPr>
              <a:t>C. Mijn moeder heeft een </a:t>
            </a:r>
            <a:r>
              <a:rPr b="1" lang="nl-NL" sz="2800" spc="-1" strike="noStrike">
                <a:solidFill>
                  <a:srgbClr val="000090"/>
                </a:solidFill>
                <a:latin typeface="Arial"/>
              </a:rPr>
              <a:t>taart</a:t>
            </a:r>
            <a:r>
              <a:rPr b="0" lang="nl-NL" sz="2800" spc="-1" strike="noStrike">
                <a:solidFill>
                  <a:srgbClr val="000090"/>
                </a:solidFill>
                <a:latin typeface="Arial"/>
              </a:rPr>
              <a:t> </a:t>
            </a:r>
            <a:r>
              <a:rPr b="0" lang="nl-NL" sz="2800" spc="-1" strike="noStrike">
                <a:solidFill>
                  <a:srgbClr val="660066"/>
                </a:solidFill>
                <a:latin typeface="Arial"/>
              </a:rPr>
              <a:t>gebakk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2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800" spc="-1" strike="noStrike">
                <a:solidFill>
                  <a:srgbClr val="660066"/>
                </a:solidFill>
                <a:latin typeface="Arial"/>
              </a:rPr>
              <a:t>D. Weet jij waarom hij zo </a:t>
            </a:r>
            <a:r>
              <a:rPr b="1" lang="nl-NL" sz="2800" spc="-1" strike="noStrike">
                <a:solidFill>
                  <a:srgbClr val="000090"/>
                </a:solidFill>
                <a:latin typeface="Arial"/>
              </a:rPr>
              <a:t>raar</a:t>
            </a:r>
            <a:r>
              <a:rPr b="0" lang="nl-NL" sz="2800" spc="-1" strike="noStrike">
                <a:solidFill>
                  <a:srgbClr val="000090"/>
                </a:solidFill>
                <a:latin typeface="Arial"/>
              </a:rPr>
              <a:t> </a:t>
            </a:r>
            <a:r>
              <a:rPr b="0" lang="nl-NL" sz="2800" spc="-1" strike="noStrike">
                <a:solidFill>
                  <a:srgbClr val="660066"/>
                </a:solidFill>
                <a:latin typeface="Arial"/>
              </a:rPr>
              <a:t>doet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660066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1"/>
          <p:cNvSpPr/>
          <p:nvPr/>
        </p:nvSpPr>
        <p:spPr>
          <a:xfrm>
            <a:off x="687240" y="0"/>
            <a:ext cx="8420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nl-NL" sz="4400" spc="-1" strike="noStrike">
                <a:solidFill>
                  <a:srgbClr val="000090"/>
                </a:solidFill>
                <a:latin typeface="Arial"/>
              </a:rPr>
              <a:t>Daarom!!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Text Box 2"/>
          <p:cNvSpPr/>
          <p:nvPr/>
        </p:nvSpPr>
        <p:spPr>
          <a:xfrm>
            <a:off x="382680" y="1143000"/>
            <a:ext cx="891540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660066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1373040" y="1066680"/>
          <a:ext cx="6782040" cy="4714920"/>
        </p:xfrm>
        <a:graphic>
          <a:graphicData uri="http://schemas.openxmlformats.org/drawingml/2006/table">
            <a:tbl>
              <a:tblPr/>
              <a:tblGrid>
                <a:gridCol w="1651320"/>
                <a:gridCol w="1650960"/>
                <a:gridCol w="1652400"/>
                <a:gridCol w="1827360"/>
              </a:tblGrid>
              <a:tr h="577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eerlin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>
                      <a:noFill/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erschi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eerlin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erschi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>
                      <a:noFill/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-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-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>
                      <a:noFill/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-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-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>
                      <a:noFill/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-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>
                      <a:noFill/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-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>
                      <a:noFill/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-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>
                      <a:noFill/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-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0009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>
                      <a:noFill/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-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0009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>
                      <a:noFill/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-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0009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>
                      <a:noFill/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-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00090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" name="Tekstvak 4"/>
          <p:cNvSpPr/>
          <p:nvPr/>
        </p:nvSpPr>
        <p:spPr>
          <a:xfrm>
            <a:off x="1754280" y="5791320"/>
            <a:ext cx="6095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16% goed op dictee; fout op meerkeuz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9.8% fout op dictee; goed op meerkeuz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1"/>
          <p:cNvSpPr/>
          <p:nvPr/>
        </p:nvSpPr>
        <p:spPr>
          <a:xfrm>
            <a:off x="763560" y="609480"/>
            <a:ext cx="8420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nl-NL" sz="4400" spc="-1" strike="noStrike">
                <a:solidFill>
                  <a:srgbClr val="000090"/>
                </a:solidFill>
                <a:latin typeface="Arial"/>
              </a:rPr>
              <a:t>Referentieniveaus!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Text Box 2"/>
          <p:cNvSpPr/>
          <p:nvPr/>
        </p:nvSpPr>
        <p:spPr>
          <a:xfrm>
            <a:off x="458640" y="1828800"/>
            <a:ext cx="89154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800" spc="-1" strike="noStrike">
                <a:solidFill>
                  <a:srgbClr val="660066"/>
                </a:solidFill>
                <a:latin typeface="Arial"/>
              </a:rPr>
              <a:t>Ambitieniveau 1S is nu 65% kan naar minimaal 85% voor alle leerlingen (voor Bao 95%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800" spc="-1" strike="noStrike">
                <a:solidFill>
                  <a:srgbClr val="660066"/>
                </a:solidFill>
                <a:latin typeface="Arial"/>
              </a:rPr>
              <a:t>Ambitieniveau 1F is nu 85% kan naar 95% voor alle leerlingen (voor Bao 100%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800" spc="-1" strike="noStrike">
                <a:solidFill>
                  <a:srgbClr val="660066"/>
                </a:solidFill>
                <a:latin typeface="Arial"/>
              </a:rPr>
              <a:t>Waarom? zie het succes van ZLK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2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1"/>
          <p:cNvSpPr/>
          <p:nvPr/>
        </p:nvSpPr>
        <p:spPr>
          <a:xfrm>
            <a:off x="763560" y="609480"/>
            <a:ext cx="8420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nl-NL" sz="4400" spc="-1" strike="noStrike">
                <a:solidFill>
                  <a:srgbClr val="000090"/>
                </a:solidFill>
                <a:latin typeface="Arial"/>
              </a:rPr>
              <a:t>Spellingtij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Text Box 2"/>
          <p:cNvSpPr/>
          <p:nvPr/>
        </p:nvSpPr>
        <p:spPr>
          <a:xfrm>
            <a:off x="458640" y="1981080"/>
            <a:ext cx="914400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28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0" lang="nl-NL" sz="2800" spc="-1" strike="noStrike">
                <a:solidFill>
                  <a:srgbClr val="660066"/>
                </a:solidFill>
                <a:latin typeface="Arial"/>
              </a:rPr>
              <a:t>Dagelijk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8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0" lang="nl-NL" sz="2800" spc="-1" strike="noStrike">
                <a:solidFill>
                  <a:srgbClr val="660066"/>
                </a:solidFill>
                <a:latin typeface="Arial"/>
              </a:rPr>
              <a:t>Een half uu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8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0" lang="nl-NL" sz="2800" spc="-1" strike="noStrike">
                <a:solidFill>
                  <a:srgbClr val="660066"/>
                </a:solidFill>
                <a:latin typeface="Arial"/>
              </a:rPr>
              <a:t>Leerkracht is actief betrokken bij de 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4000" spc="-1" strike="noStrike">
                <a:solidFill>
                  <a:srgbClr val="660066"/>
                </a:solidFill>
                <a:latin typeface="Arial"/>
              </a:rPr>
              <a:t>Spellingtijd is Spellingkwalitei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2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1"/>
          <p:cNvSpPr/>
          <p:nvPr/>
        </p:nvSpPr>
        <p:spPr>
          <a:xfrm>
            <a:off x="763560" y="228600"/>
            <a:ext cx="8420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nl-NL" sz="4400" spc="-1" strike="noStrike">
                <a:solidFill>
                  <a:srgbClr val="000090"/>
                </a:solidFill>
                <a:latin typeface="Arial"/>
              </a:rPr>
              <a:t>Spellingcontrol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Text Box 2"/>
          <p:cNvSpPr/>
          <p:nvPr/>
        </p:nvSpPr>
        <p:spPr>
          <a:xfrm>
            <a:off x="458640" y="1295280"/>
            <a:ext cx="91440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2800" spc="-1" strike="noStrike">
                <a:solidFill>
                  <a:srgbClr val="660066"/>
                </a:solidFill>
                <a:latin typeface="Arial"/>
              </a:rPr>
              <a:t>NIET </a:t>
            </a:r>
            <a:r>
              <a:rPr b="0" lang="nl-NL" sz="2800" spc="-1" strike="noStrike">
                <a:solidFill>
                  <a:srgbClr val="660066"/>
                </a:solidFill>
                <a:latin typeface="Arial"/>
              </a:rPr>
              <a:t>in het basisonderwijs, omd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8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0" lang="nl-NL" sz="2800" spc="-1" strike="noStrike">
                <a:solidFill>
                  <a:srgbClr val="660066"/>
                </a:solidFill>
                <a:latin typeface="Arial"/>
              </a:rPr>
              <a:t>een correct antwoord aanklikken didactisch zinloos 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8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0" lang="nl-NL" sz="2800" spc="-1" strike="noStrike">
                <a:solidFill>
                  <a:srgbClr val="660066"/>
                </a:solidFill>
                <a:latin typeface="Arial"/>
              </a:rPr>
              <a:t>er veel pogingen nodig zijn om een woord alsnog goed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800" spc="-1" strike="noStrike">
                <a:solidFill>
                  <a:srgbClr val="660066"/>
                </a:solidFill>
                <a:latin typeface="Arial"/>
              </a:rPr>
              <a:t>  </a:t>
            </a:r>
            <a:r>
              <a:rPr b="0" lang="nl-NL" sz="2800" spc="-1" strike="noStrike">
                <a:solidFill>
                  <a:srgbClr val="660066"/>
                </a:solidFill>
                <a:latin typeface="Arial"/>
              </a:rPr>
              <a:t>te spell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8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0" lang="nl-NL" sz="2800" spc="-1" strike="noStrike">
                <a:solidFill>
                  <a:srgbClr val="660066"/>
                </a:solidFill>
                <a:latin typeface="Arial"/>
              </a:rPr>
              <a:t>vooral zwakke spellers feedback nodig hebben over d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800" spc="-1" strike="noStrike">
                <a:solidFill>
                  <a:srgbClr val="660066"/>
                </a:solidFill>
                <a:latin typeface="Arial"/>
              </a:rPr>
              <a:t>   </a:t>
            </a:r>
            <a:r>
              <a:rPr b="0" lang="nl-NL" sz="2800" spc="-1" strike="noStrike">
                <a:solidFill>
                  <a:srgbClr val="660066"/>
                </a:solidFill>
                <a:latin typeface="Arial"/>
              </a:rPr>
              <a:t>oorzaak van de fou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8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0" lang="nl-NL" sz="2800" spc="-1" strike="noStrike">
                <a:solidFill>
                  <a:srgbClr val="660066"/>
                </a:solidFill>
                <a:latin typeface="Arial"/>
              </a:rPr>
              <a:t>men vrijwel uitsluitend van zelf opschrijven/intypen leert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800" spc="-1" strike="noStrike">
                <a:solidFill>
                  <a:srgbClr val="660066"/>
                </a:solidFill>
                <a:latin typeface="Arial"/>
              </a:rPr>
              <a:t>  </a:t>
            </a:r>
            <a:r>
              <a:rPr b="0" lang="nl-NL" sz="2800" spc="-1" strike="noStrike">
                <a:solidFill>
                  <a:srgbClr val="660066"/>
                </a:solidFill>
                <a:latin typeface="Arial"/>
              </a:rPr>
              <a:t>spellen (niet van voordoe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800" spc="-1" strike="noStrike">
                <a:solidFill>
                  <a:srgbClr val="660066"/>
                </a:solidFill>
                <a:latin typeface="Arial"/>
              </a:rPr>
              <a:t>Bron:  Huygevoort, M. (2009). </a:t>
            </a:r>
            <a:r>
              <a:rPr b="0" i="1" lang="nl-NL" sz="1800" spc="-1" strike="noStrike">
                <a:solidFill>
                  <a:srgbClr val="660066"/>
                </a:solidFill>
                <a:latin typeface="Arial"/>
              </a:rPr>
              <a:t>Improving Beginning Literacy Skills by means of an Interactive Computer Environment. </a:t>
            </a:r>
            <a:r>
              <a:rPr b="0" lang="nl-NL" sz="1800" spc="-1" strike="noStrike">
                <a:solidFill>
                  <a:srgbClr val="660066"/>
                </a:solidFill>
                <a:latin typeface="Arial"/>
              </a:rPr>
              <a:t>Academisch Proefschrift</a:t>
            </a:r>
            <a:r>
              <a:rPr b="0" i="1" lang="nl-NL" sz="1800" spc="-1" strike="noStrike">
                <a:solidFill>
                  <a:srgbClr val="6600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2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42680" y="463680"/>
            <a:ext cx="84186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23005f"/>
                </a:solidFill>
                <a:latin typeface="Arial"/>
              </a:rPr>
              <a:t>Speciale dank aan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742680" y="1980720"/>
            <a:ext cx="841860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spcAft>
                <a:spcPts val="7200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Drs. José Schra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spcAft>
                <a:spcPts val="7200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SBO ‘De Schalm’ te Zwol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spcAft>
                <a:spcPts val="7200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OBS ‘Het kofschip’ te Zevena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5480" y="456840"/>
            <a:ext cx="841716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000090"/>
                </a:solidFill>
                <a:latin typeface="Arial"/>
              </a:rPr>
              <a:t>Stand van zaken van het</a:t>
            </a:r>
            <a:br>
              <a:rPr sz="4400"/>
            </a:br>
            <a:r>
              <a:rPr b="1" lang="en-US" sz="4400" spc="-1" strike="noStrike">
                <a:solidFill>
                  <a:srgbClr val="000090"/>
                </a:solidFill>
                <a:latin typeface="Arial"/>
              </a:rPr>
              <a:t>spellingonderwijs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610920" y="3048120"/>
            <a:ext cx="88390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Onderbelic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Onderzo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Onderwij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Meeste methodie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3200" y="380520"/>
            <a:ext cx="84186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000090"/>
                </a:solidFill>
                <a:latin typeface="Arial"/>
              </a:rPr>
              <a:t>Opbouw van de spellingcategorieën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610920" y="3048120"/>
            <a:ext cx="88390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Klankzuiver: </a:t>
            </a: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Alle prototypische klank-letterkoppelingen; inclusief AU-OU (au-plaat) en EI-IJ (ei-plaa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Niet-klankzuiver: </a:t>
            </a: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regels en denkwijzen meer dan 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3200" y="380520"/>
            <a:ext cx="84186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000090"/>
                </a:solidFill>
                <a:latin typeface="Arial"/>
              </a:rPr>
              <a:t>Wat is een goede didaktiek?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10920" y="3048120"/>
            <a:ext cx="88390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Zo leer je kinderen lezen en spell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Drs. José L.M. Schra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 u="sng">
                <a:solidFill>
                  <a:srgbClr val="660066"/>
                </a:solidFill>
                <a:uFillTx/>
                <a:latin typeface="Arial"/>
              </a:rPr>
              <a:t>www.zoleerjekinderenlezenenspellen.n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1"/>
          <p:cNvSpPr/>
          <p:nvPr/>
        </p:nvSpPr>
        <p:spPr>
          <a:xfrm>
            <a:off x="687240" y="0"/>
            <a:ext cx="8420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nl-NL" sz="6000" spc="-1" strike="noStrike">
                <a:solidFill>
                  <a:srgbClr val="000090"/>
                </a:solidFill>
                <a:latin typeface="Arial"/>
              </a:rPr>
              <a:t>En waarom?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Text Box 2"/>
          <p:cNvSpPr/>
          <p:nvPr/>
        </p:nvSpPr>
        <p:spPr>
          <a:xfrm>
            <a:off x="382680" y="1143000"/>
            <a:ext cx="891540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660066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660066"/>
                </a:solidFill>
                <a:latin typeface="Arial"/>
              </a:rPr>
              <a:t>instructie </a:t>
            </a: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door de leerkracht (direct instructiemodel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660066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660066"/>
                </a:solidFill>
                <a:latin typeface="Arial"/>
              </a:rPr>
              <a:t>Organisatie </a:t>
            </a: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is </a:t>
            </a:r>
            <a:r>
              <a:rPr b="0" i="1" lang="en-US" sz="2400" spc="-1" strike="noStrike">
                <a:solidFill>
                  <a:srgbClr val="660066"/>
                </a:solidFill>
                <a:latin typeface="Arial"/>
              </a:rPr>
              <a:t>groepsgewijs</a:t>
            </a: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 en </a:t>
            </a:r>
            <a:r>
              <a:rPr b="0" i="1" lang="en-US" sz="2400" spc="-1" strike="noStrike">
                <a:solidFill>
                  <a:srgbClr val="660066"/>
                </a:solidFill>
                <a:latin typeface="Arial"/>
              </a:rPr>
              <a:t>busopstelling</a:t>
            </a: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 (functioneel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660066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volledige </a:t>
            </a:r>
            <a:r>
              <a:rPr b="0" i="1" lang="en-US" sz="2400" spc="-1" strike="noStrike">
                <a:solidFill>
                  <a:srgbClr val="660066"/>
                </a:solidFill>
                <a:latin typeface="Arial"/>
              </a:rPr>
              <a:t>oriënteringsbasis </a:t>
            </a: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(Russische leerpsychologi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660066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660066"/>
                </a:solidFill>
                <a:latin typeface="Arial"/>
              </a:rPr>
              <a:t>gestructureerde </a:t>
            </a: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aanpak (taakanalytisch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660066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660066"/>
                </a:solidFill>
                <a:latin typeface="Arial"/>
              </a:rPr>
              <a:t>herhaling </a:t>
            </a: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en </a:t>
            </a:r>
            <a:r>
              <a:rPr b="0" i="1" lang="en-US" sz="2400" spc="-1" strike="noStrike">
                <a:solidFill>
                  <a:srgbClr val="660066"/>
                </a:solidFill>
                <a:latin typeface="Arial"/>
              </a:rPr>
              <a:t>oefening </a:t>
            </a: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(overleren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660066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660066"/>
                </a:solidFill>
                <a:latin typeface="Arial"/>
              </a:rPr>
              <a:t>vast les- en dagritme </a:t>
            </a: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(vertrouwdheid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660066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660066"/>
                </a:solidFill>
                <a:latin typeface="Arial"/>
              </a:rPr>
              <a:t>multisensoriële </a:t>
            </a: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basis (belichaming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660066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660066"/>
                </a:solidFill>
                <a:latin typeface="Arial"/>
              </a:rPr>
              <a:t>kennis </a:t>
            </a: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van het </a:t>
            </a:r>
            <a:r>
              <a:rPr b="0" i="1" lang="en-US" sz="2400" spc="-1" strike="noStrike">
                <a:solidFill>
                  <a:srgbClr val="660066"/>
                </a:solidFill>
                <a:latin typeface="Arial"/>
              </a:rPr>
              <a:t>Nederlands </a:t>
            </a: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(regels en denkwijzen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buClr>
                <a:srgbClr val="660066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660066"/>
                </a:solidFill>
                <a:latin typeface="Arial"/>
              </a:rPr>
              <a:t>kennis </a:t>
            </a: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over </a:t>
            </a:r>
            <a:r>
              <a:rPr b="0" i="1" lang="en-US" sz="2400" spc="-1" strike="noStrike">
                <a:solidFill>
                  <a:srgbClr val="660066"/>
                </a:solidFill>
                <a:latin typeface="Arial"/>
              </a:rPr>
              <a:t>leren lezen en spellen </a:t>
            </a: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(probleemgebieden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Arial"/>
              </a:rPr>
              <a:t>dit alles tezamen maakt de methodiek </a:t>
            </a:r>
            <a:r>
              <a:rPr b="1" lang="en-US" sz="2000" spc="-1" strike="noStrike">
                <a:solidFill>
                  <a:srgbClr val="660066"/>
                </a:solidFill>
                <a:latin typeface="Arial"/>
              </a:rPr>
              <a:t>PREVENTIEF</a:t>
            </a:r>
            <a:r>
              <a:rPr b="0" lang="en-US" sz="2000" spc="-1" strike="noStrike">
                <a:solidFill>
                  <a:srgbClr val="660066"/>
                </a:solidFill>
                <a:latin typeface="Arial"/>
              </a:rPr>
              <a:t>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1"/>
          <p:cNvSpPr/>
          <p:nvPr/>
        </p:nvSpPr>
        <p:spPr>
          <a:xfrm>
            <a:off x="762120" y="449280"/>
            <a:ext cx="84200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000090"/>
                </a:solidFill>
                <a:latin typeface="Arial"/>
              </a:rPr>
              <a:t>Cito Spellingscores Bao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457200" y="4267080"/>
            <a:ext cx="2666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Groep 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4" name="Picture 4" descr=""/>
          <p:cNvPicPr/>
          <p:nvPr/>
        </p:nvPicPr>
        <p:blipFill>
          <a:blip r:embed="rId1"/>
          <a:stretch/>
        </p:blipFill>
        <p:spPr>
          <a:xfrm>
            <a:off x="534960" y="4800600"/>
            <a:ext cx="8686800" cy="171288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5"/>
          <p:cNvSpPr/>
          <p:nvPr/>
        </p:nvSpPr>
        <p:spPr>
          <a:xfrm>
            <a:off x="1143000" y="1295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Groep 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6" name="Afbeelding 6" descr="Cito Spelling 3.tiff"/>
          <p:cNvPicPr/>
          <p:nvPr/>
        </p:nvPicPr>
        <p:blipFill>
          <a:blip r:embed="rId2"/>
          <a:stretch/>
        </p:blipFill>
        <p:spPr>
          <a:xfrm>
            <a:off x="306360" y="1905120"/>
            <a:ext cx="9207360" cy="193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1"/>
          <p:cNvSpPr/>
          <p:nvPr/>
        </p:nvSpPr>
        <p:spPr>
          <a:xfrm>
            <a:off x="762120" y="304920"/>
            <a:ext cx="8420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90"/>
                </a:solidFill>
                <a:latin typeface="Arial"/>
              </a:rPr>
              <a:t>Cito spelling scores Sbao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382680" y="1447920"/>
          <a:ext cx="8832600" cy="486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2680" y="1447920"/>
                    <a:ext cx="8832600" cy="486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Tekstvak 3"/>
          <p:cNvSpPr/>
          <p:nvPr/>
        </p:nvSpPr>
        <p:spPr>
          <a:xfrm>
            <a:off x="3278160" y="6248520"/>
            <a:ext cx="23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23005f"/>
                </a:solidFill>
                <a:latin typeface="Arial"/>
              </a:rPr>
              <a:t>E3b 2006-200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63200" y="380520"/>
            <a:ext cx="84186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000090"/>
                </a:solidFill>
                <a:latin typeface="Arial"/>
              </a:rPr>
              <a:t>Wat moet er veranderen</a:t>
            </a:r>
            <a:br>
              <a:rPr sz="4400"/>
            </a:br>
            <a:r>
              <a:rPr b="1" lang="en-US" sz="4400" spc="-1" strike="noStrike">
                <a:solidFill>
                  <a:srgbClr val="000090"/>
                </a:solidFill>
                <a:latin typeface="Arial"/>
              </a:rPr>
              <a:t>in het onderwijs?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8640" y="2514600"/>
            <a:ext cx="9144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43040" indent="-743040">
              <a:spcBef>
                <a:spcPts val="799"/>
              </a:spcBef>
              <a:spcAft>
                <a:spcPts val="2401"/>
              </a:spcAft>
              <a:buClr>
                <a:srgbClr val="660066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Spellingonderwijs gelijk laten lopen met lezen (vanaf de eerste da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99"/>
              </a:spcBef>
              <a:spcAft>
                <a:spcPts val="2401"/>
              </a:spcAft>
              <a:buClr>
                <a:srgbClr val="660066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Elke dag een oefendict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99"/>
              </a:spcBef>
              <a:spcAft>
                <a:spcPts val="2401"/>
              </a:spcAft>
              <a:buClr>
                <a:srgbClr val="660066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Structuur is leidraad (regels en denkwijze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99"/>
              </a:spcBef>
              <a:spcAft>
                <a:spcPts val="2401"/>
              </a:spcAft>
              <a:buClr>
                <a:srgbClr val="660066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Leerkracht oefent samen met de leerli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 algn="ctr"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3200" y="380520"/>
            <a:ext cx="84186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000090"/>
                </a:solidFill>
                <a:latin typeface="Arial"/>
              </a:rPr>
              <a:t>Wat moet er veranderen</a:t>
            </a:r>
            <a:br>
              <a:rPr sz="4400"/>
            </a:br>
            <a:r>
              <a:rPr b="1" lang="en-US" sz="4400" spc="-1" strike="noStrike">
                <a:solidFill>
                  <a:srgbClr val="000090"/>
                </a:solidFill>
                <a:latin typeface="Arial"/>
              </a:rPr>
              <a:t>in het toetsen van de spelling?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8640" y="2514240"/>
            <a:ext cx="91440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43040" indent="-743040">
              <a:spcBef>
                <a:spcPts val="799"/>
              </a:spcBef>
              <a:spcAft>
                <a:spcPts val="2401"/>
              </a:spcAft>
              <a:buClr>
                <a:srgbClr val="660066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Het dictee keert terug als toetsv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99"/>
              </a:spcBef>
              <a:spcAft>
                <a:spcPts val="2401"/>
              </a:spcAft>
              <a:buClr>
                <a:srgbClr val="660066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De meerkeuzetoetsvorm wordt afgescha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99"/>
              </a:spcBef>
              <a:spcAft>
                <a:spcPts val="2401"/>
              </a:spcAft>
              <a:buClr>
                <a:srgbClr val="660066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Leerkrachten analyseren zelf de spelfou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99"/>
              </a:spcBef>
              <a:spcAft>
                <a:spcPts val="2401"/>
              </a:spcAft>
              <a:buClr>
                <a:srgbClr val="660066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Leerlingen krijgen altijd (en zo snel mogelijk) inhoudelijke feedback op hun spel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99"/>
              </a:spcBef>
              <a:spcAft>
                <a:spcPts val="2401"/>
              </a:spcAft>
              <a:buClr>
                <a:srgbClr val="660066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1T10:29:18Z</dcterms:created>
  <dc:creator/>
  <dc:description/>
  <dc:language>en-US</dc:language>
  <cp:lastModifiedBy>Anna Bosman</cp:lastModifiedBy>
  <dcterms:modified xsi:type="dcterms:W3CDTF">2011-04-11T18:25:23Z</dcterms:modified>
  <cp:revision>59</cp:revision>
  <dc:subject/>
  <dc:title>Ontwikkelingspsychologie van opvoeding en onderwijs  PWB2100</dc:title>
</cp:coreProperties>
</file>