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410B6-D039-4F0B-9F1E-12F483AA3A8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1A342-2357-4EE0-9DCC-D25D6C4300C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82FE39-A824-48DC-88DC-FBE369102E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4FC0-90B4-4940-8DC7-A07F5895C615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98F2E0-B970-4584-8287-B3CEB792B3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4CE09-35D7-427A-9208-A360AC74C0D8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8FFB32-5881-4233-9A6D-6DA70A07BA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B097C-975E-482D-B00A-A15ED03B448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FC9391-CB74-4015-80DC-05D1C39311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51A4-8721-4937-A435-52A52363F33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C17C83-1726-461B-A9A4-141A5632B6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E974D-DDA5-4F96-A63B-5CE4D823C5C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02D55E-EF2A-4966-BB81-AB45D01FDC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D3264-2B37-4397-A1B9-7533B73E3A9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CF1BC3-476A-4CDD-A74C-37596C9B6E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C1E23-6113-449C-8C9C-55F6196620D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124B8-4931-4C8C-A9EC-E9156F1562E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9DFB-ED62-48D5-A42E-D82A27575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F4FA-C543-42DD-BD7D-220746D88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CB9E-AC1C-401E-8101-3E90BAD41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25C5-F704-4B70-A70A-3482EA539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86DE-2248-4178-8D33-AAC2F9FB6C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E88C-5BE4-41D6-A41C-50E1DAD89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F427-2115-4D22-A288-E18881539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CBAB-30FB-4BE4-8E89-BB90FBCFC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6DB5-1043-403D-B6A0-BA95985FB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9306-1A77-4AC4-89C3-A6C29E2C8D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5D3E-80BC-421C-8138-288938F63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4405-CAE6-4B83-9700-3C7F2ECD0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6345-0F41-4FCD-A05A-4BCC70141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6E65-456D-4378-9D5B-29CC98761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41CB-29A7-4C9D-8F14-C003E6E0BF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D3D0-8103-4C13-89C2-35AE7FBE0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B141-F2F9-4092-9F47-2B940052B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AB5F-2259-4461-A917-BD6060F00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2ABF-3ED4-479F-9A78-50D3248C4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34DF-FF16-4C9E-997C-CA360F425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6283-89F0-4296-B0E1-625E6A27F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B0A3-BE4F-4262-B179-D79B6AAD8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B788-A49D-475A-9A80-E8E5CD91A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5CA7-961A-46D5-9F5D-4A19B9CDF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2E0E05-301A-45D3-AD3E-8AFC28A434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A95BA0-E3A9-4712-AC06-E541CF85ABF5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31800"/>
            <a:ext cx="807732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Effectief spellingonderwijs</a:t>
            </a:r>
            <a:br>
              <a:rPr sz="6000"/>
            </a:b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3809880"/>
            <a:ext cx="685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Prof. dr. Anna M. T. Bo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Radboud Universiteit Nijm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Sectie Orthopedagogiek van Leren en Ontwikk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www.annabosman.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87240" y="22860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Waarom geen meerkeuz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11280" y="182880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A. Ben je in de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zomer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op vakantie gewee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B. De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caviea</a:t>
            </a: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van de buren heet Samm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C. Mijn moeder heeft een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taart</a:t>
            </a: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gebak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D. Weet jij waarom hij zo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raar</a:t>
            </a: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do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87240" y="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Daarom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82680" y="114300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73040" y="1066680"/>
          <a:ext cx="6782040" cy="4714920"/>
        </p:xfrm>
        <a:graphic>
          <a:graphicData uri="http://schemas.openxmlformats.org/drawingml/2006/table">
            <a:tbl>
              <a:tblPr/>
              <a:tblGrid>
                <a:gridCol w="1651320"/>
                <a:gridCol w="1650960"/>
                <a:gridCol w="1652400"/>
                <a:gridCol w="182736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r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ch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r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ch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4"/>
          <p:cNvSpPr/>
          <p:nvPr/>
        </p:nvSpPr>
        <p:spPr>
          <a:xfrm>
            <a:off x="1754280" y="5791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16% goed op dictee; fout op meerkeu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9.8% fout op dictee; goed op meerkeu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76356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Referentieniveaus!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86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Ambitieniveau 1S is nu 65% kan naar minimaal 85% voor alle leerlingen (voor Bao 9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Ambitieniveau 1F is nu 85% kan naar 95% voor alle leerlingen (voor Bao 10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Waarom? zie het succes van ZLK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6356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Spellingtij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8640" y="19810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Dagelijk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Een half u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Leerkracht is actief betrokken bij de 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660066"/>
                </a:solidFill>
                <a:latin typeface="Arial"/>
              </a:rPr>
              <a:t>Spellingtijd is Spellingkwalite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63560" y="228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Spellingcontr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864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660066"/>
                </a:solidFill>
                <a:latin typeface="Arial"/>
              </a:rPr>
              <a:t>NIET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in het basisonderwijs, om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een correct antwoord aanklikken didactisch zinloo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er veel pogingen nodig zijn om een woord alsnog goed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te spel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vooral zwakke spellers feedback nodig hebben over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oorzaak van de f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men vrijwel uitsluitend van zelf opschrijven/intypen leer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spellen (niet van voordo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660066"/>
                </a:solidFill>
                <a:latin typeface="Arial"/>
              </a:rPr>
              <a:t>Bron:  Huygevoort, M. (2009). </a:t>
            </a:r>
            <a:r>
              <a:rPr b="0" i="1" lang="nl-NL" sz="1800" spc="-1" strike="noStrike">
                <a:solidFill>
                  <a:srgbClr val="660066"/>
                </a:solidFill>
                <a:latin typeface="Arial"/>
              </a:rPr>
              <a:t>Improving Beginning Literacy Skills by means of an Interactive Computer Environment. </a:t>
            </a:r>
            <a:r>
              <a:rPr b="0" lang="nl-NL" sz="1800" spc="-1" strike="noStrike">
                <a:solidFill>
                  <a:srgbClr val="660066"/>
                </a:solidFill>
                <a:latin typeface="Arial"/>
              </a:rPr>
              <a:t>Academisch Proefschrift</a:t>
            </a:r>
            <a:r>
              <a:rPr b="0" i="1" lang="nl-NL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ale dank a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BO ‘De Schalm’ 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BS ‘Het kofschip’ te Zeve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5480" y="456840"/>
            <a:ext cx="8417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Stand van zaken van het</a:t>
            </a:r>
            <a:br>
              <a:rPr sz="4400"/>
            </a:b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spellingonderwij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304812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nderbe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derz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derw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este method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Opbouw van de spellingcategorieë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304812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Klankzuiver: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lle prototypische klank-letterkoppelingen; inclusief AU-OU (au-plaat) en EI-IJ (ei-pla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iet-klankzuiver: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egels en denkwijzen meer dan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Wat is een goede didaktiek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0920" y="304812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Zo leer je kinderen lezen en sp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L.M.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ww.zoleerjekinderenlezenenspel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87240" y="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000090"/>
                </a:solidFill>
                <a:latin typeface="Arial"/>
              </a:rPr>
              <a:t>En waarom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2680" y="114300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instructi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oor de leerkracht (direct instructiemod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Organisati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groepsgewij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en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usopstelling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(functionee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volledige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oriënteringsbasi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Russische leerpsycholog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gestructureerd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anpak (taakanalytis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herhaling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n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oefening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overle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vast les- en dagrit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vertrouwdhe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multisensoriël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asis (belicha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van het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Nederland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regels en denkwijz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ver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leren lezen en spellen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probleemgebie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dit alles tezamen maakt de methodiek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PREVENTIEF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62120" y="44928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Arial"/>
              </a:rPr>
              <a:t>Cito Spellingscores Ba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4267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34960" y="4800600"/>
            <a:ext cx="868680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30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Afbeelding 6" descr="Cito Spelling 3.tiff"/>
          <p:cNvPicPr/>
          <p:nvPr/>
        </p:nvPicPr>
        <p:blipFill>
          <a:blip r:embed="rId2"/>
          <a:stretch/>
        </p:blipFill>
        <p:spPr>
          <a:xfrm>
            <a:off x="306360" y="1905120"/>
            <a:ext cx="92073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62120" y="3049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Cito spelling scores Sba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2680" y="1447920"/>
          <a:ext cx="883260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447920"/>
                    <a:ext cx="883260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kstvak 3"/>
          <p:cNvSpPr/>
          <p:nvPr/>
        </p:nvSpPr>
        <p:spPr>
          <a:xfrm>
            <a:off x="3278160" y="62485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3005f"/>
                </a:solidFill>
                <a:latin typeface="Arial"/>
              </a:rPr>
              <a:t>E3b 2006-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Wat moet er veranderen</a:t>
            </a:r>
            <a:br>
              <a:rPr sz="4400"/>
            </a:b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in het onderwij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864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pellingonderwijs gelijk laten lopen met lezen (vanaf de eerste d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lke dag een oefendic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tructuur is leidraad (regels en denkwijz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erkracht oefent samen met de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Wat moet er veranderen</a:t>
            </a:r>
            <a:br>
              <a:rPr sz="4400"/>
            </a:b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in het toetsen van de spelling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8640" y="2514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et dictee keert terug als toets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e meerkeuzetoetsvorm wordt afge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erkrachten analyseren zelf de spelf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erlingen krijgen altijd (en zo snel mogelijk) inhoudelijke feedback op hun sp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29:18Z</dcterms:created>
  <dc:creator/>
  <dc:description/>
  <dc:language>en-US</dc:language>
  <cp:lastModifiedBy>Anna Bosman</cp:lastModifiedBy>
  <dcterms:modified xsi:type="dcterms:W3CDTF">2011-04-11T18:25:23Z</dcterms:modified>
  <cp:revision>59</cp:revision>
  <dc:subject/>
  <dc:title>Ontwikkelingspsychologie van opvoeding en onderwijs  PWB2100</dc:title>
</cp:coreProperties>
</file>