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31D7-825B-4BFD-90BA-EE57D35AF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6EAD-995B-4FBC-9B23-533A70FD5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7E31-5912-4153-B163-7F350F263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4049-E0E1-459B-96B1-2303AA8FA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F60E-38DB-472E-9F37-ED89BB3BE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7B61-D202-4D11-B571-80FD495AE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D2F0-E831-466B-9939-BB24965DD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C5BA-18C6-4974-A57B-3A914A21A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CE55-E946-4F6F-8B69-AEE8DC8CB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C618-C74D-49F2-A243-0107B2118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22D0-C360-4993-801E-3D724B3AC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F638-1EB4-41B1-A453-8B2DA1D91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2BD4-348C-4808-8F10-EC78ED282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73A6-BAF2-45B6-85F6-9D3FE7A30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BCEC-805B-4BFA-9556-90CE88023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D537-C118-4666-B94E-7E471FE2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55DB-FE5D-4CB4-8791-C4225C6D7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4E64-875E-4A9A-A6F7-A51BAD9BD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4F4E-3E7F-47BF-B6CE-DAA972613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062B-F268-4E2F-BFFC-58DAF03C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0967-5B86-4FE4-8F58-781DF627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5D0A-3145-4D16-ACEB-922333557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00D9-3D24-4B76-ABE4-A65C47350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6545-6B41-4594-BB00-09E0A6FE2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EC40-79DC-4378-A923-58CE625E9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DE1B-2568-4938-9FFB-35A7960A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9DC1-ADAE-4B06-A391-38F36640A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EA45-2A52-4F6E-BF96-D3C7FBFA0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057-CEF3-4249-971F-B5B72499B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B436-66E0-4DC2-A331-407938C6D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F394-A100-42B6-940B-BA3F8F21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9724-8B37-48F2-948E-98F8D2977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219C-DF25-461F-A4AF-A7CBC2881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0FC6-93A9-4858-832F-9F4544BE7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4DDB-0DE0-4637-BD9A-2E90FBF5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1910-4C66-4ABB-B5A8-F557318BB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438B-857C-4C53-ABDF-0B5FDBF86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7407-104C-48B0-827A-C6160F94B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slectici, autisten, adhd-ers, gehandicapten, criminel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6A0F-782B-45B1-B8A9-850C4E0DC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E75D-A892-47A8-916B-09859286C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E81B-83EF-4F78-88F2-69EC3A0C9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1A86-E6F4-4373-8BC7-3BEB8DEB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5FFE-DBAE-44C1-BEEE-0E21B62A7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DCD2-2F59-42D0-84BD-0E6DFFA78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56BB-2D13-4911-B7B7-807AA4A75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3FE6-3D55-406D-B164-FB8FDFC60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7EBF-1AEC-4641-98A4-3C48564CF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85E0-67CD-4048-B1D5-1EAC5E456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DE9A-EDEE-4476-A413-6A82859DD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83EA-9AAB-4167-99C9-280447A4B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DD98-C1DD-4571-A47B-76279A2B3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110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84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0328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110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184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741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110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184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40328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9110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184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741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62360" y="189000"/>
            <a:ext cx="43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Bachelor voorlichtingsdag 2 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edagogische wet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6160" y="1987200"/>
            <a:ext cx="633384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Pedagogische wetenschapp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500720" y="4221000"/>
            <a:ext cx="439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k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dr. Anna M.T. Bo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dr. Jan M.A.M. Janss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elein Jori Tu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1371240"/>
            <a:ext cx="5715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achelor 3 </a:t>
            </a:r>
            <a:r>
              <a:rPr b="1" lang="en-US" sz="2000" spc="-1" strike="noStrike">
                <a:solidFill>
                  <a:srgbClr val="be311a"/>
                </a:solidFill>
                <a:latin typeface="Arial"/>
              </a:rPr>
              <a:t>(Onderwijskundige verdieping)</a:t>
            </a:r>
            <a:endParaRPr b="1" lang="en-US" sz="20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Theoret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e contex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311a"/>
                </a:solidFill>
                <a:latin typeface="Arial"/>
              </a:rPr>
              <a:t>Leren en instructie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uropsych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Onderwijs en maatschappij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Keuzevakken 4-6  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Onderzoeksvaardig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helorscript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Onderwijskundige en academ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tenschapsfilosof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h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Onderwijskundig practicum (werkveldoriëntatie)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nnis in Praktijk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kstvak 1"/>
          <p:cNvSpPr/>
          <p:nvPr/>
        </p:nvSpPr>
        <p:spPr>
          <a:xfrm>
            <a:off x="609480" y="2666880"/>
            <a:ext cx="7912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Buitenland studeren: in het Bachelor 3 vanaf febru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Honoursprogramma: 30 EC extra voor de excellente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tudie: 15 contacturen per week; mentoraat vanaf eerste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Kwaliteit opleiding: Beste in de Elsevierg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Na afronding Bacheloropleiding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ploma Bachelor of Science (B.S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duidelijke positie op de arbeids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eeft directe toelating tot beperkt aantal master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Mogelijke Masteropleidingen 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74170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enjarige masteropleidingen bij PW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opleiding Pedagogische Wetenscha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atie orthopedagogiek: gezin en ged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atie orthopedagogiek: leren en ontwikke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opleiding Onderwijs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Tweejarige masteropleid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rzoeksmaster Behavioural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Filosofie van de gedragswet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be311a"/>
                </a:solidFill>
                <a:latin typeface="Arial"/>
              </a:rPr>
              <a:t>Studeren maar ook ontspanning ….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pic>
        <p:nvPicPr>
          <p:cNvPr id="128" name="Picture 4" descr="bb_sin08_8705"/>
          <p:cNvPicPr/>
          <p:nvPr/>
        </p:nvPicPr>
        <p:blipFill>
          <a:blip r:embed="rId2"/>
          <a:stretch/>
        </p:blipFill>
        <p:spPr>
          <a:xfrm>
            <a:off x="3203640" y="1989000"/>
            <a:ext cx="29131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De eenjarige masteropleiding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2433600"/>
            <a:ext cx="741672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ie: 20 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ge: 20 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riptie: 20 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Na afronding Masteropleiding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loma Master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ede arbeidsmarktperspecti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id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eleiding en beha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rzoek (promotietra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rw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Klinische Master Pedagogische wetenschappen toegang tot Post-doctorale opleid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Z-opl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pedagoog 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41_54559"/>
          <p:cNvPicPr/>
          <p:nvPr/>
        </p:nvPicPr>
        <p:blipFill>
          <a:blip r:embed="rId2"/>
          <a:stretch/>
        </p:blipFill>
        <p:spPr>
          <a:xfrm>
            <a:off x="6877080" y="1484280"/>
            <a:ext cx="20541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Master Onderwijskunde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derwijs en opleidingen in breedste zin van het woor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- en voortgezet onderw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oeps- en Hoger onderw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rijfsopleid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studeren van leerprocessen in de context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k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amenl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richt op verbetering van het onderwij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7416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eroepspraktijk Onderwijskunde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3280" y="2205000"/>
            <a:ext cx="7416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visering en begeleid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hoolbegeleidingsdiensten, landelijke pedagogische centra, opleidingsadviesbureau’s, onderwijskundige diensten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twerp en ontwikkeling: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ITO, Stichting leerplanontwikkeling, educatieve uitgeverijen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leidsontwikkeling en - ondersteuning: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verheid (gemeente &amp; ministerie), universiteiten en hbo’s, non-profitsector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derzoek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iversiteit en HBO, onderzoekbureau’s, Centraal Cultureel Planbureau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1268280"/>
            <a:ext cx="83055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Master Orthopedagogiek van leren en ontwikkeling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3911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pecialisaties en doelgroe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standelijke beperking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rnstig to mati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intuiglijke beperking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of en slechthorend, blind en slechtzi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chamelijke beperking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erebrale parese, spina bifida DCD, spieraandoeningen, etc.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erproblem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yslexie, dyscalcul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ogbegaafdhe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an ook een probleem zijn ;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2627280" y="189000"/>
            <a:ext cx="6192720" cy="574560"/>
            <a:chOff x="2627280" y="189000"/>
            <a:chExt cx="6192720" cy="574560"/>
          </a:xfrm>
        </p:grpSpPr>
        <p:sp>
          <p:nvSpPr>
            <p:cNvPr id="147" name="Rectangle 5"/>
            <p:cNvSpPr/>
            <p:nvPr/>
          </p:nvSpPr>
          <p:spPr>
            <a:xfrm>
              <a:off x="4500720" y="189000"/>
              <a:ext cx="43131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2627280" y="404640"/>
              <a:ext cx="6192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1403280" y="4876920"/>
            <a:ext cx="741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90720" y="198072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be311a"/>
                </a:solidFill>
                <a:latin typeface="Arial"/>
              </a:rPr>
              <a:t>Onderwijsinstitu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be311a"/>
                </a:solidFill>
                <a:latin typeface="Arial"/>
              </a:rPr>
              <a:t>Pedagogische Wetenschappen en Onderwijsk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grote groep docenten (ca. 1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een jaarlijks aantal van ca. 1400 stu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recteur: Prof. dr. Anna M.T. Bo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660066"/>
                </a:solidFill>
                <a:uFillTx/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1640" y="1412640"/>
            <a:ext cx="439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L</a:t>
            </a:r>
            <a:r>
              <a:rPr b="1" lang="nl-NL" sz="2600" spc="-1" strike="noStrike">
                <a:solidFill>
                  <a:srgbClr val="be311a"/>
                </a:solidFill>
                <a:latin typeface="Arial"/>
              </a:rPr>
              <a:t>ee</a:t>
            </a: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rproblem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02920" y="2421000"/>
            <a:ext cx="4032360" cy="37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alleerproblem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esleerproblem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hrijfproblem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kenproblem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dragsproblem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blemen van hoogbegaaf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ciale leercond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culturele variat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Protocol dyslexie"/>
          <p:cNvPicPr/>
          <p:nvPr/>
        </p:nvPicPr>
        <p:blipFill>
          <a:blip r:embed="rId2"/>
          <a:stretch/>
        </p:blipFill>
        <p:spPr>
          <a:xfrm>
            <a:off x="6012000" y="2565360"/>
            <a:ext cx="24573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Probleemgedrag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2285640"/>
            <a:ext cx="49532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tomutilat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indelijkhe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aapproble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edselweig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5184720" y="3059280"/>
          <a:ext cx="363528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4720" y="3059280"/>
                    <a:ext cx="36352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e311a"/>
                </a:solidFill>
                <a:latin typeface="Arial"/>
              </a:rPr>
              <a:t>Samenwerkende instellingen (stage en scriptie)</a:t>
            </a:r>
            <a:endParaRPr b="1" lang="en-US" sz="2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2920" y="2071800"/>
            <a:ext cx="547380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Samenwerkingsverbanden van schol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Netwerk schoolbegeleidingsdienst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Speciaal) Basisonderwij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 La Sa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Groot Klimmenda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luryn-Werkenrode, Winckelsteeg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ZoZi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Leo Kannerhu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Sen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iata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nt Mar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entrum Begaafdheidsonderzo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ademisch Centru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tisecentrum Nederlan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xperti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entrum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typisch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ommunica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627280" y="189000"/>
            <a:ext cx="6192720" cy="574560"/>
            <a:chOff x="2627280" y="189000"/>
            <a:chExt cx="6192720" cy="574560"/>
          </a:xfrm>
        </p:grpSpPr>
        <p:sp>
          <p:nvSpPr>
            <p:cNvPr id="160" name="Rectangle 5"/>
            <p:cNvSpPr/>
            <p:nvPr/>
          </p:nvSpPr>
          <p:spPr>
            <a:xfrm>
              <a:off x="4500720" y="189000"/>
              <a:ext cx="43131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2627280" y="404640"/>
              <a:ext cx="6192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2" name="Object 7"/>
          <p:cNvGraphicFramePr/>
          <p:nvPr/>
        </p:nvGraphicFramePr>
        <p:xfrm>
          <a:off x="6372360" y="2205000"/>
          <a:ext cx="2076480" cy="38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2360" y="2205000"/>
                    <a:ext cx="20764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7960" y="1514160"/>
            <a:ext cx="749808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Orthopedagogiek: Gezin en Gedrag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3200" y="3747960"/>
            <a:ext cx="215748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n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452400" y="3727440"/>
            <a:ext cx="26694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voedings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gezinsproce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771960" y="3716280"/>
            <a:ext cx="184356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wikke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895480" y="4027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6172200" y="4027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5410080" y="2286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5671080" y="228600"/>
            <a:ext cx="33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orlichting P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boud Universiteit Nijm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7960" y="1282680"/>
            <a:ext cx="7196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Opvoedings- en gezinsprocess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03280" y="243180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voedingsstij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hes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anpassingsvermo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134120" y="20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719280" y="6107040"/>
            <a:ext cx="2157120" cy="429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Determinan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498120" y="6086520"/>
            <a:ext cx="2669400" cy="764280"/>
          </a:xfrm>
          <a:prstGeom prst="rect">
            <a:avLst/>
          </a:prstGeom>
          <a:noFill/>
          <a:ln w="9360">
            <a:solidFill>
              <a:srgbClr val="be31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e311a"/>
                </a:solidFill>
                <a:latin typeface="Arial"/>
              </a:rPr>
              <a:t>Opvoedings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e311a"/>
                </a:solidFill>
                <a:latin typeface="Arial"/>
              </a:rPr>
              <a:t>en gezinsproce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818040" y="6075360"/>
            <a:ext cx="1843560" cy="76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Ontwikke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K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2941560" y="63864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218280" y="6386400"/>
            <a:ext cx="533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Determinant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3280" y="2432160"/>
            <a:ext cx="741672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mgev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19280" y="6107040"/>
            <a:ext cx="2157120" cy="429120"/>
          </a:xfrm>
          <a:prstGeom prst="rect">
            <a:avLst/>
          </a:prstGeom>
          <a:noFill/>
          <a:ln w="9360">
            <a:solidFill>
              <a:srgbClr val="be31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e311a"/>
                </a:solidFill>
                <a:latin typeface="Arial"/>
              </a:rPr>
              <a:t>Determinan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498120" y="6086520"/>
            <a:ext cx="2669400" cy="76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Opvoedings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en gezinsproce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818040" y="6075360"/>
            <a:ext cx="1843560" cy="76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Ontwikke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K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2941560" y="63864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218280" y="6386400"/>
            <a:ext cx="533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13410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Ontwikkeling kind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15880" y="2060640"/>
            <a:ext cx="7118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ciale, morele, emotionele ontwikke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dragsproble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719280" y="6107040"/>
            <a:ext cx="2157120" cy="429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Determinan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498120" y="6086520"/>
            <a:ext cx="2669400" cy="76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Opvoedings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en gezinsproce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818040" y="6075360"/>
            <a:ext cx="1843560" cy="764280"/>
          </a:xfrm>
          <a:prstGeom prst="rect">
            <a:avLst/>
          </a:prstGeom>
          <a:noFill/>
          <a:ln w="9360">
            <a:solidFill>
              <a:srgbClr val="be31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e311a"/>
                </a:solidFill>
                <a:latin typeface="Arial"/>
              </a:rPr>
              <a:t>Ontwikke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e311a"/>
                </a:solidFill>
                <a:latin typeface="Arial"/>
              </a:rPr>
              <a:t>K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941560" y="63864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6218280" y="6386400"/>
            <a:ext cx="533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Interventie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3280" y="2431800"/>
            <a:ext cx="345600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ORAF DIAGNOSTIEK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richt op het ki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richt op de ouder(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richt op het gez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5940360" y="1557360"/>
            <a:ext cx="2089080" cy="4216320"/>
            <a:chOff x="5940360" y="1557360"/>
            <a:chExt cx="2089080" cy="4216320"/>
          </a:xfrm>
        </p:grpSpPr>
        <p:pic>
          <p:nvPicPr>
            <p:cNvPr id="197" name="Picture 4" descr="990713gezofo02"/>
            <p:cNvPicPr/>
            <p:nvPr/>
          </p:nvPicPr>
          <p:blipFill>
            <a:blip r:embed="rId2"/>
            <a:srcRect l="23622" t="0" r="4724" b="710"/>
            <a:stretch/>
          </p:blipFill>
          <p:spPr>
            <a:xfrm>
              <a:off x="5970600" y="1557360"/>
              <a:ext cx="2058840" cy="18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5" descr="kinder_mit_nudeln"/>
            <p:cNvPicPr/>
            <p:nvPr/>
          </p:nvPicPr>
          <p:blipFill>
            <a:blip r:embed="rId3"/>
            <a:srcRect l="44300" t="24228" r="0" b="0"/>
            <a:stretch/>
          </p:blipFill>
          <p:spPr>
            <a:xfrm>
              <a:off x="5940360" y="3716280"/>
              <a:ext cx="206856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10"/>
          <p:cNvGrpSpPr/>
          <p:nvPr/>
        </p:nvGrpSpPr>
        <p:grpSpPr>
          <a:xfrm>
            <a:off x="5286240" y="1517760"/>
            <a:ext cx="3170520" cy="4271760"/>
            <a:chOff x="5286240" y="1517760"/>
            <a:chExt cx="3170520" cy="4271760"/>
          </a:xfrm>
        </p:grpSpPr>
        <p:pic>
          <p:nvPicPr>
            <p:cNvPr id="200" name="Picture 7" descr="ouders"/>
            <p:cNvPicPr/>
            <p:nvPr/>
          </p:nvPicPr>
          <p:blipFill>
            <a:blip r:embed="rId4"/>
            <a:srcRect l="0" t="5574" r="0" b="0"/>
            <a:stretch/>
          </p:blipFill>
          <p:spPr>
            <a:xfrm>
              <a:off x="5910120" y="1517760"/>
              <a:ext cx="2136960" cy="19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8" descr="b_img_0411"/>
            <p:cNvPicPr/>
            <p:nvPr/>
          </p:nvPicPr>
          <p:blipFill>
            <a:blip r:embed="rId5"/>
            <a:stretch/>
          </p:blipFill>
          <p:spPr>
            <a:xfrm>
              <a:off x="5286240" y="3678120"/>
              <a:ext cx="3170520" cy="211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Group 14"/>
          <p:cNvGrpSpPr/>
          <p:nvPr/>
        </p:nvGrpSpPr>
        <p:grpSpPr>
          <a:xfrm>
            <a:off x="5256360" y="1197000"/>
            <a:ext cx="3493800" cy="5503680"/>
            <a:chOff x="5256360" y="1197000"/>
            <a:chExt cx="3493800" cy="5503680"/>
          </a:xfrm>
        </p:grpSpPr>
        <p:pic>
          <p:nvPicPr>
            <p:cNvPr id="203" name="Picture 11" descr="c"/>
            <p:cNvPicPr/>
            <p:nvPr/>
          </p:nvPicPr>
          <p:blipFill>
            <a:blip r:embed="rId6"/>
            <a:stretch/>
          </p:blipFill>
          <p:spPr>
            <a:xfrm>
              <a:off x="5364000" y="1197000"/>
              <a:ext cx="3235320" cy="24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2" descr="Gezin%20op%20de%20bank_1"/>
            <p:cNvPicPr/>
            <p:nvPr/>
          </p:nvPicPr>
          <p:blipFill>
            <a:blip r:embed="rId7"/>
            <a:srcRect l="0" t="7037" r="0" b="0"/>
            <a:stretch/>
          </p:blipFill>
          <p:spPr>
            <a:xfrm>
              <a:off x="5256360" y="3646440"/>
              <a:ext cx="3493800" cy="305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Onderwijsprogramma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vakken (elk 5 E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twikkelingspsychopatholo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fessionele klinische competen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suistie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ripti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Mogelijkheden masterstage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03280" y="206028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IAGG/GG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ugdhulpverle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stit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voedingsondersteu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Sinds 2002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-jarige Bacheloropleiding Pedagogische wetenschapp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-jarige Masteropleiding Pedagogische wetenschapp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feitelijk orthopedagogi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-jarige Masteropleiding Onderwijskun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kopie_bb_sin08_8600"/>
          <p:cNvPicPr/>
          <p:nvPr/>
        </p:nvPicPr>
        <p:blipFill>
          <a:blip r:embed="rId2"/>
          <a:stretch/>
        </p:blipFill>
        <p:spPr>
          <a:xfrm>
            <a:off x="7010280" y="3657600"/>
            <a:ext cx="194472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Scriptie-onderwerp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15880" y="2541240"/>
            <a:ext cx="7499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ken, drinken, obes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voeding in Ned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voeding en morele ontwikk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ieve gezinsbehan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d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onlijkheid, O-K relatie en gedrags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voedingswink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Vragen?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pic>
        <p:nvPicPr>
          <p:cNvPr id="212" name="Picture 6" descr="dva_huygens5531"/>
          <p:cNvPicPr/>
          <p:nvPr/>
        </p:nvPicPr>
        <p:blipFill>
          <a:blip r:embed="rId2"/>
          <a:stretch/>
        </p:blipFill>
        <p:spPr>
          <a:xfrm>
            <a:off x="2987640" y="2492280"/>
            <a:ext cx="5629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501336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be311a"/>
                </a:solidFill>
                <a:latin typeface="Arial"/>
              </a:rPr>
              <a:t>Tot ziens in Nijmegen!</a:t>
            </a:r>
            <a:endParaRPr b="1" lang="en-US" sz="4300" spc="-1" strike="noStrike">
              <a:solidFill>
                <a:srgbClr val="be311a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2627280" y="189000"/>
            <a:ext cx="6192720" cy="574560"/>
            <a:chOff x="2627280" y="189000"/>
            <a:chExt cx="6192720" cy="574560"/>
          </a:xfrm>
        </p:grpSpPr>
        <p:sp>
          <p:nvSpPr>
            <p:cNvPr id="215" name="Rectangle 5"/>
            <p:cNvSpPr/>
            <p:nvPr/>
          </p:nvSpPr>
          <p:spPr>
            <a:xfrm>
              <a:off x="4500720" y="189000"/>
              <a:ext cx="43131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2627280" y="404640"/>
              <a:ext cx="6192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9" descr="erasmus"/>
          <p:cNvPicPr/>
          <p:nvPr/>
        </p:nvPicPr>
        <p:blipFill>
          <a:blip r:embed="rId2"/>
          <a:srcRect l="34007" t="0" r="20004" b="0"/>
          <a:stretch/>
        </p:blipFill>
        <p:spPr>
          <a:xfrm>
            <a:off x="1752480" y="1752480"/>
            <a:ext cx="207324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nijmegen"/>
          <p:cNvPicPr/>
          <p:nvPr/>
        </p:nvPicPr>
        <p:blipFill>
          <a:blip r:embed="rId3"/>
          <a:stretch/>
        </p:blipFill>
        <p:spPr>
          <a:xfrm>
            <a:off x="4495680" y="1752480"/>
            <a:ext cx="3257640" cy="32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be311a"/>
                </a:solidFill>
                <a:latin typeface="Arial"/>
              </a:rPr>
              <a:t>Orthopedagogiek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417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specialiseerde pedagogi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nstige problemati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deren en jongeren met ernstige leerproblemen, ontwikkelingsproblemen, gedragsproble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fessionele hulpverlening (diagnostiek, indicatiestelling, begeleiding, behandel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tenschappelijk verantwoorde hulpverle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achelor pedagogische wetenschapp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518148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chelor 1 =  60 EC  (1680 uur studi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chelor 2 = 60 E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chelor 3 = 60 E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taal is Bachelorstudie 180 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 1 EC = 28 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bb_sin08_3608"/>
          <p:cNvPicPr/>
          <p:nvPr/>
        </p:nvPicPr>
        <p:blipFill>
          <a:blip r:embed="rId2"/>
          <a:stretch/>
        </p:blipFill>
        <p:spPr>
          <a:xfrm>
            <a:off x="6084720" y="2708280"/>
            <a:ext cx="257652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561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Uitgangspunten van het onderwijsprogramma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2433600"/>
            <a:ext cx="741672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tische scholing  (88 E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linische of praktijkgerichte scholing (44 E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derzoeksvaardigheden (48 E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830840" y="30492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nijmegen_luento"/>
          <p:cNvPicPr/>
          <p:nvPr/>
        </p:nvPicPr>
        <p:blipFill>
          <a:blip r:embed="rId2"/>
          <a:stretch/>
        </p:blipFill>
        <p:spPr>
          <a:xfrm>
            <a:off x="6588000" y="4076640"/>
            <a:ext cx="205740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9360" y="1218960"/>
            <a:ext cx="47242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achelor 1 (Propedeuse)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Theoret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dagog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twikkelingspsych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derwijskun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dragsproble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twikkelings- en leerproble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Onderzoeksvaardig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chrijvende Statistie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etsende Statistie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derzoeksmetho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Klinische en academische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jsgerige en Historische Pedagog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ademische Vaardigh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oepsvaardigh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nis in Praktijk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0" y="1295280"/>
            <a:ext cx="21016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achelor 2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9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Theoret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dagogiek in de prakt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klaringsmodell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twikkelingspsychopath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uzevakk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Onderzoeksvaardig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metrie en Besliskun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-analy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Klinische en academische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emene psychodiagnost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ademische vaardigh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oepsvaardigh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nis in Praktijk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8640" y="1371240"/>
            <a:ext cx="5715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achelor 3 </a:t>
            </a:r>
            <a:r>
              <a:rPr b="1" lang="en-US" sz="2000" spc="-1" strike="noStrike">
                <a:solidFill>
                  <a:srgbClr val="be311a"/>
                </a:solidFill>
                <a:latin typeface="Arial"/>
              </a:rPr>
              <a:t>(orthopedagogische verdieping)</a:t>
            </a:r>
            <a:endParaRPr b="1" lang="en-US" sz="20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4167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Theoret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e contex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uropsych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uzevakk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Onderzoeksvaardig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helorscriptie (onderzoeksemina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Klinische en Academ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tenschapsfilosof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iek van de psychodiagnost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handelingsmethod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inisch practic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nnis in Praktijk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9:25:27Z</dcterms:created>
  <dc:creator>J.Buijs</dc:creator>
  <dc:description/>
  <dc:language>en-US</dc:language>
  <cp:lastModifiedBy>Anna Bosman</cp:lastModifiedBy>
  <dcterms:modified xsi:type="dcterms:W3CDTF">2011-04-02T17:46:04Z</dcterms:modified>
  <cp:revision>58</cp:revision>
  <dc:subject/>
  <dc:title>Titel van de presentatie</dc:title>
</cp:coreProperties>
</file>