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A59CC-5321-41D9-AA14-630D18A85B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ie ben ik, als Louis dat nog niet heeft vert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B9401-661B-4C67-966D-8D8990D508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e is overal en afhankelijk van het niveau van waarop je kijk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er wordt het al wat moeilij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0F0FF-B365-4708-98A9-3BA2C8421F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p dit niveau werkt EBL, waar de meeste mensen alleen nog maar afwijkend gedrag ziet. We hebben ook niet zo veel aan de DSM, wa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SM-categorisat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: er zijn patro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ee: er is varia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evaar om de variatie niet meer te zien, omdat de lijst patronen benadru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D035A-4F44-4FE3-99F3-47822DE139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jn ontmoeting met Marijke in 1998 en de geschieden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S-index, promotie en toen was mijn idee: EBL toen nog SLT geheten, heeft wetenschappelijke erkenning nod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A733B-AEE0-4CD0-BA63-7F3FC81704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BL zoals ik het begrij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F61F3-DBF1-4D65-927A-2C2F56C82C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er stel ik mezelf v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EAF18-04E0-4148-994C-303F1F0C708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29C-9A06-40D0-8E24-F3EB5F08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CE9-3201-4623-B3B6-55A5635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888-68FA-4D8E-8C4E-8B0392D9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5878-1893-4CC3-AF5E-A4DDB7F3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DE94-4DAC-4793-BA05-A257342B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6EDA-769C-4B97-B82A-8FD6C91B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E5F3-9ACE-450C-8474-AF786A7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FF82-9680-48AA-83FB-D7B10F3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45EA-FD71-4187-AB3C-C072E37C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4DAA-835B-4798-A3F3-0E044A84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DE74-8C10-4769-9D8A-76CD70F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68E-6157-423D-B2A4-9140E2D2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9D6-FFBF-4F31-BC71-C1836BD0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C291-8E5F-4C48-99AB-87F44C6A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0988-A569-4846-889A-5C57B719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6337-6F9B-4B4D-9326-C6A9587B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2C5A-4DFC-4B9C-A436-FB85EE48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E19C8-09CD-428B-AB92-A48174C6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3BEF5-0E5E-41D6-8783-03C06FEA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CF90F-39CF-4986-95CC-A1221491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B71DB-A406-48DC-B13D-2518F35C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E6DE-1388-4852-A2F8-59520130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D57-528F-4C44-8CE1-32B9134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4657-9085-4B59-8F71-A075D832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84374-09D7-4FF0-8E36-86EB89E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5787-931F-4CA8-9489-0FB84C6E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E10A-D97D-4DFC-97A6-D92B333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F401-8A51-422A-9CFD-DF0A6E75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FCA5-BDA2-49B6-A705-484F78B9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AD4E-BA71-4D79-B905-59CE0EFA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9F8-54AC-4F73-9289-62103BE5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F3D-196E-4E6D-BF10-0E9CDE84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C31-F8BD-41DE-B2AF-D1C2DE42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C56-267E-46F9-9458-BBDD5E1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43A-BDA6-426F-AC6E-D6CF72F8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1AD-613D-4C5A-B7D8-B4761DBF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7ECD9-2F8C-40B2-9EF0-306C3F4CC7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94555-B768-4934-98EC-35755CFEB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54DB65-1CF6-4CDC-A4F8-12839CCBD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-3240" y="0"/>
            <a:ext cx="97441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8"/>
          <p:cNvSpPr/>
          <p:nvPr/>
        </p:nvSpPr>
        <p:spPr>
          <a:xfrm>
            <a:off x="357120" y="1806480"/>
            <a:ext cx="88344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f9ffc1"/>
                </a:solidFill>
                <a:latin typeface="CRMackintosh"/>
                <a:ea typeface="CRMackintosh"/>
              </a:rPr>
              <a:t>Emerging Body Langu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9ffc1"/>
                </a:solidFill>
                <a:latin typeface="CRMackintosh"/>
                <a:ea typeface="CRMackintosh"/>
              </a:rPr>
              <a:t>Sprakeloos dynamis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kstvak 4"/>
          <p:cNvSpPr/>
          <p:nvPr/>
        </p:nvSpPr>
        <p:spPr>
          <a:xfrm>
            <a:off x="363240" y="4932360"/>
            <a:ext cx="569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Calibri"/>
              </a:rPr>
              <a:t>A tribute to Marijke Rutten-S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alibri"/>
              </a:rPr>
              <a:t>12 juni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" dur="5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8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kstvak 2"/>
          <p:cNvSpPr/>
          <p:nvPr/>
        </p:nvSpPr>
        <p:spPr>
          <a:xfrm>
            <a:off x="672480" y="336600"/>
            <a:ext cx="81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in de gezamenlijkheid m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de Ander een verwachting wek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kstvak 4"/>
          <p:cNvSpPr/>
          <p:nvPr/>
        </p:nvSpPr>
        <p:spPr>
          <a:xfrm>
            <a:off x="1543680" y="3117960"/>
            <a:ext cx="61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Bobby McFerrin and the Pentaton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115FF-B303-4F84-B8CB-7A0939EF4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kstvak 2"/>
          <p:cNvSpPr/>
          <p:nvPr/>
        </p:nvSpPr>
        <p:spPr>
          <a:xfrm>
            <a:off x="2130480" y="2365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DBC4F7-DD4F-4581-8CB6-F6D9F21FE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8" descr="Hondenrassen.tiff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kstvak 2"/>
          <p:cNvSpPr/>
          <p:nvPr/>
        </p:nvSpPr>
        <p:spPr>
          <a:xfrm>
            <a:off x="1947960" y="23652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D24BD-7E4D-4D6F-8E55-6F0F043FF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fbeelding 6" descr="Herders.jpg"/>
          <p:cNvPicPr/>
          <p:nvPr/>
        </p:nvPicPr>
        <p:blipFill>
          <a:blip r:embed="rId2"/>
          <a:stretch/>
        </p:blipFill>
        <p:spPr>
          <a:xfrm>
            <a:off x="1193760" y="1413000"/>
            <a:ext cx="684072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kstvak 2"/>
          <p:cNvSpPr/>
          <p:nvPr/>
        </p:nvSpPr>
        <p:spPr>
          <a:xfrm>
            <a:off x="1730520" y="236520"/>
            <a:ext cx="56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Variatie en patrone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jdelijke aanduiding voor dianumm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B25DE-79DD-478C-859C-247AF0DA6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Afbeelding 4" descr="Varensoort.jpg"/>
          <p:cNvPicPr/>
          <p:nvPr/>
        </p:nvPicPr>
        <p:blipFill>
          <a:blip r:embed="rId2"/>
          <a:stretch/>
        </p:blipFill>
        <p:spPr>
          <a:xfrm>
            <a:off x="1947960" y="1136520"/>
            <a:ext cx="545472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E8EA9-E6BB-4C7D-B428-48C90D0C9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9EB12-CBF2-4917-A831-0BBEC476D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kstvak 3"/>
          <p:cNvSpPr/>
          <p:nvPr/>
        </p:nvSpPr>
        <p:spPr>
          <a:xfrm>
            <a:off x="925560" y="417600"/>
            <a:ext cx="6931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000090"/>
                </a:solidFill>
                <a:latin typeface="Calibri"/>
                <a:ea typeface="CRMackintosh"/>
              </a:rPr>
              <a:t>U zag en ho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400" spc="-1" strike="noStrike">
                <a:solidFill>
                  <a:srgbClr val="660066"/>
                </a:solidFill>
                <a:latin typeface="CRMackintosh"/>
                <a:ea typeface="CRMackintosh"/>
              </a:rPr>
              <a:t>Prof. dr. Anna M.T. Bosman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Raboud Universiteit Nijmeg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kstvak 3"/>
          <p:cNvSpPr/>
          <p:nvPr/>
        </p:nvSpPr>
        <p:spPr>
          <a:xfrm>
            <a:off x="417600" y="2273400"/>
            <a:ext cx="826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Er waren eens................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26537-7DD0-48D6-983A-0D618F673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7EF98-C96D-48D9-AB7E-DB18F8CCF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3"/>
          <p:cNvSpPr/>
          <p:nvPr/>
        </p:nvSpPr>
        <p:spPr>
          <a:xfrm>
            <a:off x="744480" y="396720"/>
            <a:ext cx="738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EBL in een notendo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kstvak 4"/>
          <p:cNvSpPr/>
          <p:nvPr/>
        </p:nvSpPr>
        <p:spPr>
          <a:xfrm>
            <a:off x="490680" y="1941480"/>
            <a:ext cx="8653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0090"/>
                </a:solidFill>
                <a:latin typeface="Calibri"/>
              </a:rPr>
              <a:t>In den beginne was er ‘Beweging’ en het vermo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om meebewogen te zijn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basis van hechtingsrel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tot zelfsynchron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buClr>
                <a:srgbClr val="00009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  </a:t>
            </a:r>
            <a:r>
              <a:rPr b="0" lang="en-GB" sz="2800" spc="-1" strike="noStrike">
                <a:solidFill>
                  <a:srgbClr val="000090"/>
                </a:solidFill>
                <a:latin typeface="Calibri"/>
              </a:rPr>
              <a:t>tot interactionele synchronisatie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basis voor verand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kstvak 2"/>
          <p:cNvSpPr/>
          <p:nvPr/>
        </p:nvSpPr>
        <p:spPr>
          <a:xfrm>
            <a:off x="744480" y="5526000"/>
            <a:ext cx="794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Het aangeboren volggedrag van kuikens als een beperkter vorm van het vermogen tot meebewogen zijn van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8B198-C236-405F-8C95-E9CE8FB0A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kstvak 5"/>
          <p:cNvSpPr/>
          <p:nvPr/>
        </p:nvSpPr>
        <p:spPr>
          <a:xfrm>
            <a:off x="2123280" y="256068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Konrad Lorenz en volggedr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710C8-9EBB-4C66-B362-0F69225DB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31520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B42941-350E-4833-8FC4-513E0838D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914400" y="838080"/>
            <a:ext cx="731520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16A63-6EEE-4562-86FA-58800361F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4"/>
          <p:cNvSpPr/>
          <p:nvPr/>
        </p:nvSpPr>
        <p:spPr>
          <a:xfrm>
            <a:off x="1057680" y="363600"/>
            <a:ext cx="76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RMackintosh"/>
                <a:ea typeface="CRMackintosh"/>
              </a:rPr>
              <a:t>Interactionele synchronis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5"/>
          <p:cNvSpPr/>
          <p:nvPr/>
        </p:nvSpPr>
        <p:spPr>
          <a:xfrm>
            <a:off x="816120" y="2778120"/>
            <a:ext cx="78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Deze video is auteursrechterlijk bescher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ijdelijke aanduiding voor dianumm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19660-B0CD-4CC4-A1EF-43D877E8B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3"/>
          <p:cNvSpPr/>
          <p:nvPr/>
        </p:nvSpPr>
        <p:spPr>
          <a:xfrm>
            <a:off x="598320" y="2031840"/>
            <a:ext cx="808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Afstemm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0-1 jaar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In elkaars rimte hetzelfde doen met ritmische pau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Beurtwissel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1-2 ja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Na elkaar ‘hetzelfde’ doen met ritmische pau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000090"/>
                </a:solidFill>
                <a:latin typeface="Calibri"/>
              </a:rPr>
              <a:t>Uitwisseling </a:t>
            </a: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(2-3 ja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Calibri"/>
              </a:rPr>
              <a:t>In de beurtwisseling een passende variatie toe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4"/>
          <p:cNvSpPr/>
          <p:nvPr/>
        </p:nvSpPr>
        <p:spPr>
          <a:xfrm>
            <a:off x="828720" y="490680"/>
            <a:ext cx="76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CRMackintosh"/>
                <a:ea typeface="CRMackintosh"/>
              </a:rPr>
              <a:t>Woordeloze interactiestruct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Tijdelijke aanduiding voor inhoud 7" descr="Ben Vaderda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kstvak 3"/>
          <p:cNvSpPr/>
          <p:nvPr/>
        </p:nvSpPr>
        <p:spPr>
          <a:xfrm>
            <a:off x="344520" y="544680"/>
            <a:ext cx="85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CRMackintosh"/>
                <a:ea typeface="CRMackintosh"/>
              </a:rPr>
              <a:t>Op jezelf, de ander en het materiaal afgestemd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ijdelijke aanduiding voor dia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6A950-0ADC-44A8-9187-6CE4A7D70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hthoek 5"/>
          <p:cNvSpPr/>
          <p:nvPr/>
        </p:nvSpPr>
        <p:spPr>
          <a:xfrm>
            <a:off x="1811160" y="3105000"/>
            <a:ext cx="52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90"/>
                </a:solidFill>
                <a:latin typeface="Arial"/>
              </a:rPr>
              <a:t>Choir making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0:38:33Z</dcterms:created>
  <dc:creator>Anna Bosman</dc:creator>
  <dc:description/>
  <dc:language>en-US</dc:language>
  <cp:lastModifiedBy>Anna Bosman</cp:lastModifiedBy>
  <dcterms:modified xsi:type="dcterms:W3CDTF">2010-06-13T12:53:56Z</dcterms:modified>
  <cp:revision>18</cp:revision>
  <dc:subject/>
  <dc:title>Dia 1</dc:title>
</cp:coreProperties>
</file>