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AFC39-8CD0-4D30-B9F3-A7B64390FF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e ben ik, als Louis dat nog niet heeft vert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2281A-6DFF-47CD-B1B6-25ED012C94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tie is overal en afhankelijk van het niveau van waarop je kijk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er wordt het al wat moeilij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5EAF9-B424-427D-8524-A97869EAA5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p dit niveau werkt EBL, waar de meeste mensen alleen nog maar afwijkend gedrag ziet. We hebben ook niet zo veel aan de DSM, wa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SM-categorisati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: er zijn patr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e: er is varia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evaar om de variatie niet meer te zien, omdat de lijst patronen benadruk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3D190-123E-4497-8F79-903CD5F801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jn ontmoeting met Marijke in 1998 en de geschieden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S-index, promotie en toen was mijn idee: EBL toen nog SLT geheten, heeft wetenschappelijke erkenning no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8ED64-1741-461F-BEA6-C7CDD235E8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BL zoals ik het begrij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AD6E1-866B-403C-BEF2-4310E9DCF4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er stel ik mezelf v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53849-E11B-4B14-BB16-37E58D508D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CF5-9672-4D0E-9269-DB6C938D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CE7-22DB-4602-A9B3-08850C8E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AEA-FBDF-4E29-8E17-56FFB213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7B0-9C30-405B-BF5C-F13BFC65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C25D-A096-4EDC-8622-9B7F52A0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0167-EC99-4631-A7CC-C7C6E902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F1E8-1C5B-4071-9338-0D0EB164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D22F-F575-4F20-9394-F50A8A4F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E75C-4D29-4007-A863-3C4D4EC9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6CC0-DEB3-4534-817A-666747D5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D035-51E5-4F5F-B91E-7E0D38B4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9D8-5467-40DA-A2B0-EB860216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5677-82A1-4C0A-898F-5F1D7B96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F05E-37F8-40D1-98ED-1B936C28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79CA-6393-407C-8600-15AD79F8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1710-4FD7-4A11-9A13-96EADE4A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1B08-F168-4F4A-A61D-C452030A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03CAF-7DA7-4C6F-9789-A341EAAA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0EEDB-A93E-4745-A27F-A18F27C4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399EB-4FA8-4239-81D9-AC8F1F37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A3568-1855-4BB2-BD5D-3FB79316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B0EFF-0FE1-402F-A461-837B1D5E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864-39F5-4EC6-9FC5-29C110FE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B379-D2ED-496E-8877-516C6B4B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44F1-9B3E-4129-9879-B2D05D18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7EDCB-E760-4253-8130-7AFF52DB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FE4A5-9739-48DE-9405-2E2F5653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BBC44-F9B7-4D5B-8E15-8766A6F9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4675E-F284-4655-A663-4A34E7A1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B51C-263A-4AD8-9023-0B87D4F0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5EB-798C-491B-BA4B-197D46A1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32E-D9DD-434C-A940-2BC1E60A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51A-1F39-4713-96CC-0398055A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45C-52E2-4905-8114-DC2F813D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01B-C5BE-4DCE-B1D3-07C9D007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974-0E13-47B7-9ADF-53DA8602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A1E3A-950F-40D9-9F5A-530F1A6694B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591C5-E260-45D8-B614-C98F9B7D1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F4A1C-4206-405F-8666-E5149A90F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-3240" y="0"/>
            <a:ext cx="97441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kstvak 8"/>
          <p:cNvSpPr/>
          <p:nvPr/>
        </p:nvSpPr>
        <p:spPr>
          <a:xfrm>
            <a:off x="357120" y="1806480"/>
            <a:ext cx="88344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0" spc="-1" strike="noStrike">
                <a:solidFill>
                  <a:srgbClr val="f9ffc1"/>
                </a:solidFill>
                <a:latin typeface="CRMackintosh"/>
                <a:ea typeface="CRMackintosh"/>
              </a:rPr>
              <a:t>Emerging Body Langua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400" spc="-1" strike="noStrike">
                <a:solidFill>
                  <a:srgbClr val="f9ffc1"/>
                </a:solidFill>
                <a:latin typeface="CRMackintosh"/>
                <a:ea typeface="CRMackintosh"/>
              </a:rPr>
              <a:t>Sprakeloos dynamis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kstvak 4"/>
          <p:cNvSpPr/>
          <p:nvPr/>
        </p:nvSpPr>
        <p:spPr>
          <a:xfrm>
            <a:off x="363240" y="4932360"/>
            <a:ext cx="569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Calibri"/>
              </a:rPr>
              <a:t>A tribute to Marijke Rutten-S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alibri"/>
              </a:rPr>
              <a:t>12 juni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kstvak 2"/>
          <p:cNvSpPr/>
          <p:nvPr/>
        </p:nvSpPr>
        <p:spPr>
          <a:xfrm>
            <a:off x="672480" y="336600"/>
            <a:ext cx="810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CRMackintosh"/>
                <a:ea typeface="CRMackintosh"/>
              </a:rPr>
              <a:t>in de gezamenlijkheid m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CRMackintosh"/>
                <a:ea typeface="CRMackintosh"/>
              </a:rPr>
              <a:t>de Ander een verwachting wek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kstvak 4"/>
          <p:cNvSpPr/>
          <p:nvPr/>
        </p:nvSpPr>
        <p:spPr>
          <a:xfrm>
            <a:off x="1543680" y="3117960"/>
            <a:ext cx="610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Bobby McFerrin and the Pentatonic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8F3CA-A0C7-432A-9E58-DD193CC0C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kstvak 2"/>
          <p:cNvSpPr/>
          <p:nvPr/>
        </p:nvSpPr>
        <p:spPr>
          <a:xfrm>
            <a:off x="2130480" y="2365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CRMackintosh"/>
                <a:ea typeface="CRMackintosh"/>
              </a:rPr>
              <a:t>Variatie en patrone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9E4A9-1A25-44EB-AE39-4C2CE86B7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8" descr="Hondenrassen.tiff"/>
          <p:cNvPicPr/>
          <p:nvPr/>
        </p:nvPicPr>
        <p:blipFill>
          <a:blip r:embed="rId2"/>
          <a:stretch/>
        </p:blipFill>
        <p:spPr>
          <a:xfrm>
            <a:off x="0" y="1254240"/>
            <a:ext cx="914400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kstvak 2"/>
          <p:cNvSpPr/>
          <p:nvPr/>
        </p:nvSpPr>
        <p:spPr>
          <a:xfrm>
            <a:off x="1947960" y="236520"/>
            <a:ext cx="56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CRMackintosh"/>
                <a:ea typeface="CRMackintosh"/>
              </a:rPr>
              <a:t>Variatie en patrone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CA046-8D39-4363-9994-BB1AB8008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Afbeelding 6" descr="Herders.jpg"/>
          <p:cNvPicPr/>
          <p:nvPr/>
        </p:nvPicPr>
        <p:blipFill>
          <a:blip r:embed="rId2"/>
          <a:stretch/>
        </p:blipFill>
        <p:spPr>
          <a:xfrm>
            <a:off x="1193760" y="1413000"/>
            <a:ext cx="684072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kstvak 2"/>
          <p:cNvSpPr/>
          <p:nvPr/>
        </p:nvSpPr>
        <p:spPr>
          <a:xfrm>
            <a:off x="1730520" y="236520"/>
            <a:ext cx="56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CRMackintosh"/>
                <a:ea typeface="CRMackintosh"/>
              </a:rPr>
              <a:t>Variatie en patrone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4EB4E-5E96-48B3-BA2D-9FBFC0A43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Afbeelding 4" descr="Varensoort.jpg"/>
          <p:cNvPicPr/>
          <p:nvPr/>
        </p:nvPicPr>
        <p:blipFill>
          <a:blip r:embed="rId2"/>
          <a:stretch/>
        </p:blipFill>
        <p:spPr>
          <a:xfrm>
            <a:off x="1947960" y="1136520"/>
            <a:ext cx="545472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E32B9-818C-4141-86D5-17FCFD4A2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3272A-4C62-4A90-8741-A19585C4A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kstvak 3"/>
          <p:cNvSpPr/>
          <p:nvPr/>
        </p:nvSpPr>
        <p:spPr>
          <a:xfrm>
            <a:off x="925560" y="417600"/>
            <a:ext cx="693108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90"/>
                </a:solidFill>
                <a:latin typeface="Calibri"/>
                <a:ea typeface="CRMackintosh"/>
              </a:rPr>
              <a:t>U zag en hoo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CRMackintosh"/>
                <a:ea typeface="CRMackintosh"/>
              </a:rPr>
              <a:t>Prof. dr. Anna M.T. Bosman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90"/>
                </a:solidFill>
                <a:latin typeface="Calibri"/>
              </a:rPr>
              <a:t>Raboud Universiteit Nijmeg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90"/>
                </a:solidFill>
                <a:latin typeface="Calibri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kstvak 3"/>
          <p:cNvSpPr/>
          <p:nvPr/>
        </p:nvSpPr>
        <p:spPr>
          <a:xfrm>
            <a:off x="417600" y="2273400"/>
            <a:ext cx="826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Er waren eens...............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104D8-F667-4F3D-A99B-150C4A7AA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23815-0325-433F-A07E-177F237E4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vak 3"/>
          <p:cNvSpPr/>
          <p:nvPr/>
        </p:nvSpPr>
        <p:spPr>
          <a:xfrm>
            <a:off x="744480" y="396720"/>
            <a:ext cx="738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EBL in een notendo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kstvak 4"/>
          <p:cNvSpPr/>
          <p:nvPr/>
        </p:nvSpPr>
        <p:spPr>
          <a:xfrm>
            <a:off x="490680" y="1941480"/>
            <a:ext cx="865332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90"/>
                </a:solidFill>
                <a:latin typeface="Calibri"/>
              </a:rPr>
              <a:t>In den beginne was er ‘Beweging’ en het vermo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9"/>
              </a:spcAft>
              <a:buClr>
                <a:srgbClr val="00009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  </a:t>
            </a: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om meebewogen te zijn </a:t>
            </a:r>
            <a:r>
              <a:rPr b="0" lang="en-GB" sz="2400" spc="-1" strike="noStrike">
                <a:solidFill>
                  <a:srgbClr val="000090"/>
                </a:solidFill>
                <a:latin typeface="Calibri"/>
              </a:rPr>
              <a:t>(basis van hechtingsrel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9"/>
              </a:spcAft>
              <a:buClr>
                <a:srgbClr val="00009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  </a:t>
            </a: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tot zelfsynchron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9"/>
              </a:spcAft>
              <a:buClr>
                <a:srgbClr val="00009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  </a:t>
            </a: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tot interactionele synchronisatie </a:t>
            </a:r>
            <a:r>
              <a:rPr b="0" lang="en-GB" sz="2400" spc="-1" strike="noStrike">
                <a:solidFill>
                  <a:srgbClr val="000090"/>
                </a:solidFill>
                <a:latin typeface="Calibri"/>
              </a:rPr>
              <a:t>(basis voor verand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kstvak 2"/>
          <p:cNvSpPr/>
          <p:nvPr/>
        </p:nvSpPr>
        <p:spPr>
          <a:xfrm>
            <a:off x="744480" y="5526000"/>
            <a:ext cx="794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90"/>
                </a:solidFill>
                <a:latin typeface="Calibri"/>
              </a:rPr>
              <a:t>Het aangeboren volggedrag van kuikens als een beperkter vorm van het vermogen tot meebewogen zijn van m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09FC7-ADA3-413C-8905-CFF2C4341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kstvak 5"/>
          <p:cNvSpPr/>
          <p:nvPr/>
        </p:nvSpPr>
        <p:spPr>
          <a:xfrm>
            <a:off x="2123280" y="256068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90"/>
                </a:solidFill>
                <a:latin typeface="Arial"/>
              </a:rPr>
              <a:t>Konrad Lorenz en volggedr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11EC4-12D4-43FF-8F45-57961B4F0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31520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6CE20-45EF-4BD4-93FB-B8AA8F834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31520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D542A-DBD7-4DA3-AAA5-8E3DF2D62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kstvak 4"/>
          <p:cNvSpPr/>
          <p:nvPr/>
        </p:nvSpPr>
        <p:spPr>
          <a:xfrm>
            <a:off x="1057680" y="363600"/>
            <a:ext cx="76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RMackintosh"/>
                <a:ea typeface="CRMackintosh"/>
              </a:rPr>
              <a:t>Interactionele synchronis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kstvak 5"/>
          <p:cNvSpPr/>
          <p:nvPr/>
        </p:nvSpPr>
        <p:spPr>
          <a:xfrm>
            <a:off x="816120" y="2778120"/>
            <a:ext cx="78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Deze video is auteursrechterlijk bescher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EF236-07CF-4301-AB7E-93219BF71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vak 3"/>
          <p:cNvSpPr/>
          <p:nvPr/>
        </p:nvSpPr>
        <p:spPr>
          <a:xfrm>
            <a:off x="598320" y="2031840"/>
            <a:ext cx="808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90"/>
                </a:solidFill>
                <a:latin typeface="Calibri"/>
              </a:rPr>
              <a:t>Afstemming </a:t>
            </a:r>
            <a:r>
              <a:rPr b="0" lang="en-GB" sz="2400" spc="-1" strike="noStrike">
                <a:solidFill>
                  <a:srgbClr val="000090"/>
                </a:solidFill>
                <a:latin typeface="Calibri"/>
              </a:rPr>
              <a:t>(0-1 jaar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Calibri"/>
              </a:rPr>
              <a:t>In elkaars rimte hetzelfde doen met ritmische pau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90"/>
                </a:solidFill>
                <a:latin typeface="Calibri"/>
              </a:rPr>
              <a:t>Beurtwisseling </a:t>
            </a:r>
            <a:r>
              <a:rPr b="0" lang="en-GB" sz="2400" spc="-1" strike="noStrike">
                <a:solidFill>
                  <a:srgbClr val="000090"/>
                </a:solidFill>
                <a:latin typeface="Calibri"/>
              </a:rPr>
              <a:t>(1-2 jaa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Calibri"/>
              </a:rPr>
              <a:t>Na elkaar ‘hetzelfde’ doen met ritmische pau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90"/>
                </a:solidFill>
                <a:latin typeface="Calibri"/>
              </a:rPr>
              <a:t>Uitwisseling </a:t>
            </a:r>
            <a:r>
              <a:rPr b="0" lang="en-GB" sz="2400" spc="-1" strike="noStrike">
                <a:solidFill>
                  <a:srgbClr val="000090"/>
                </a:solidFill>
                <a:latin typeface="Calibri"/>
              </a:rPr>
              <a:t>(2-3 ja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Calibri"/>
              </a:rPr>
              <a:t>In de beurtwisseling een passende variatie toep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kstvak 4"/>
          <p:cNvSpPr/>
          <p:nvPr/>
        </p:nvSpPr>
        <p:spPr>
          <a:xfrm>
            <a:off x="828720" y="490680"/>
            <a:ext cx="76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CRMackintosh"/>
                <a:ea typeface="CRMackintosh"/>
              </a:rPr>
              <a:t>Woordeloze interactiestructu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kstvak 3"/>
          <p:cNvSpPr/>
          <p:nvPr/>
        </p:nvSpPr>
        <p:spPr>
          <a:xfrm>
            <a:off x="344520" y="544680"/>
            <a:ext cx="85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CRMackintosh"/>
                <a:ea typeface="CRMackintosh"/>
              </a:rPr>
              <a:t>Op jezelf, de ander en het materiaal afgestemd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39AED-8BDF-47FF-A5D5-C0D53D565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hthoek 5"/>
          <p:cNvSpPr/>
          <p:nvPr/>
        </p:nvSpPr>
        <p:spPr>
          <a:xfrm>
            <a:off x="1811160" y="3105000"/>
            <a:ext cx="52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90"/>
                </a:solidFill>
                <a:latin typeface="Arial"/>
              </a:rPr>
              <a:t>Choir making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0:38:33Z</dcterms:created>
  <dc:creator>Anna Bosman</dc:creator>
  <dc:description/>
  <dc:language>en-US</dc:language>
  <cp:lastModifiedBy>Anna Bosman</cp:lastModifiedBy>
  <dcterms:modified xsi:type="dcterms:W3CDTF">2010-06-13T12:53:56Z</dcterms:modified>
  <cp:revision>18</cp:revision>
  <dc:subject/>
  <dc:title>Dia 1</dc:title>
</cp:coreProperties>
</file>