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7.pct" ContentType="image/x-pict"/>
  <Override PartName="/ppt/media/image11.pct" ContentType="image/x-pict"/>
  <Override PartName="/ppt/media/image6.pct" ContentType="image/x-pict"/>
  <Override PartName="/ppt/media/image10.pct" ContentType="image/x-pict"/>
  <Override PartName="/ppt/media/image4.pct" ContentType="image/x-pict"/>
  <Override PartName="/ppt/media/image21.pct" ContentType="image/x-pict"/>
  <Override PartName="/ppt/media/image19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3.pct" ContentType="image/x-pict"/>
  <Override PartName="/ppt/media/image20.pct" ContentType="image/x-pict"/>
  <Override PartName="/ppt/media/image18.pct" ContentType="image/x-pict"/>
  <Override PartName="/ppt/media/image1.jpeg" ContentType="image/jpeg"/>
  <Override PartName="/ppt/media/image2.jpeg" ContentType="image/jpeg"/>
  <Override PartName="/ppt/media/image5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2CF8C-6FC7-456F-BF02-428A58B67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2120" y="4057200"/>
            <a:ext cx="761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8F32A-4D84-4C1D-A850-7F748129B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2120" y="405720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320" y="405720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39176-BA9A-4B8F-9934-E785A8149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38640" y="182844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15160" y="182844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2120" y="405720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38640" y="405720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15160" y="405720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D13D2-624E-4F2E-8EC1-D42C28EAD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C9B49-2A4D-4BD2-BBE4-EF30CF705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37980-F012-4562-A887-5CFC4062C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1C1F3-25D3-4267-972D-58847BC88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43096-D993-4065-BE40-A3CF5EA4D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90F08-F129-4225-A44C-181ECDD90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40C5A-D952-4444-8DCE-2959C6BA0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762120" y="405720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29986-291A-4F93-8226-F2BAB9E42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493D7-270E-4B0D-AB94-A869F5A2B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6320" y="405720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198AE-6756-4A0F-85A8-161F98372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62120" y="4057200"/>
            <a:ext cx="761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8E40D-5DE8-4FD9-AEB9-25CAD98E5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62120" y="4057200"/>
            <a:ext cx="761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5F477-25AF-43B2-A272-5460B3409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62120" y="405720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6320" y="405720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A92DC-B915-4CCA-8C2B-E69CE263C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8640" y="182844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15160" y="182844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762120" y="405720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8640" y="405720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15160" y="405720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08629-37A4-4678-99B5-6502B32B2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80703-7E9D-4C34-85DB-F2E96D775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BE15A-E0F2-418C-9956-6DD7CE4F2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FCCC9-8917-4245-A84B-279A45851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B349B-6972-49D9-8323-2C7ED3F83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2120" y="405720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C8E9F-D325-45CD-BF3F-2D0A00067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320" y="405720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50D3E-B548-4C29-8E4B-0D6F58204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2120" y="4057200"/>
            <a:ext cx="761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AAA7A-5CA4-449E-A0E2-5DFC905BA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440" y="6324480"/>
            <a:ext cx="1676520" cy="4572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742840" y="6324480"/>
            <a:ext cx="3429000" cy="4572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1234C-62C5-4D92-852C-B6C85FC5D95F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3623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266D8-8823-4A1C-9311-D96F3851ADE1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ct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ct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ct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pct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pct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pct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pct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pct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pct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pct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pct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pct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pct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pct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1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zoleerjekinderenlezenenspellen.nl/" TargetMode="External"/><Relationship Id="rId3" Type="http://schemas.openxmlformats.org/officeDocument/2006/relationships/hyperlink" Target="http://www.zoleerjekinderenlezenenspellen.nl/" TargetMode="External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828440" y="1980720"/>
            <a:ext cx="655308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5400" spc="-1" strike="noStrike">
                <a:solidFill>
                  <a:srgbClr val="000000"/>
                </a:solidFill>
                <a:latin typeface="Arial"/>
              </a:rPr>
              <a:t>Zo leer je kinderen </a:t>
            </a:r>
            <a:br>
              <a:rPr sz="5400"/>
            </a:br>
            <a:r>
              <a:rPr b="1" sz="5400" spc="-1" strike="noStrike">
                <a:solidFill>
                  <a:srgbClr val="000000"/>
                </a:solidFill>
                <a:latin typeface="Arial"/>
              </a:rPr>
              <a:t>lezen en spellen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85800" y="4114800"/>
            <a:ext cx="769608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400" spc="-1" strike="noStrike">
                <a:solidFill>
                  <a:srgbClr val="000000"/>
                </a:solidFill>
                <a:latin typeface="Arial"/>
              </a:rPr>
              <a:t>Prof. dr. Anna M. T. Bosma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Orthopedagogiek, Radboud Universiteit Nijme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a.bosman@pwo.ru.n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www.annabosman.e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000000"/>
                </a:solidFill>
                <a:latin typeface="Arial"/>
              </a:rPr>
              <a:t>Auditieve synthese</a:t>
            </a:r>
            <a:r>
              <a:rPr b="1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(max. = 40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762120" y="1828800"/>
          <a:ext cx="7619760" cy="4265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1828800"/>
                    <a:ext cx="7619760" cy="426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000000"/>
                </a:solidFill>
                <a:latin typeface="Arial"/>
              </a:rPr>
              <a:t>Letters lezen</a:t>
            </a:r>
            <a:r>
              <a:rPr b="1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(max. = 34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762120" y="1828800"/>
          <a:ext cx="7619760" cy="4265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1828800"/>
                    <a:ext cx="7619760" cy="426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000000"/>
                </a:solidFill>
                <a:latin typeface="Arial"/>
              </a:rPr>
              <a:t>DMT 1a</a:t>
            </a:r>
            <a:r>
              <a:rPr b="1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in aantal woorden per minuut</a:t>
            </a:r>
            <a:r>
              <a:rPr b="1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762120" y="1828800"/>
          <a:ext cx="7619760" cy="4265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1828800"/>
                    <a:ext cx="7619760" cy="426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000000"/>
                </a:solidFill>
                <a:latin typeface="Arial"/>
              </a:rPr>
              <a:t>DMT 2a</a:t>
            </a:r>
            <a:r>
              <a:rPr b="1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in aantal woorden per minuut</a:t>
            </a:r>
            <a:r>
              <a:rPr b="1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762120" y="1828800"/>
          <a:ext cx="7619760" cy="4265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1828800"/>
                    <a:ext cx="7619760" cy="426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000000"/>
                </a:solidFill>
                <a:latin typeface="Arial"/>
              </a:rPr>
              <a:t>DMT 3a</a:t>
            </a:r>
            <a:r>
              <a:rPr b="1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in aantal woorden per minuut</a:t>
            </a:r>
            <a:r>
              <a:rPr b="1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762120" y="1828800"/>
          <a:ext cx="7619760" cy="4265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1828800"/>
                    <a:ext cx="7619760" cy="426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000000"/>
                </a:solidFill>
                <a:latin typeface="Arial"/>
              </a:rPr>
              <a:t>Auditieve analyse</a:t>
            </a:r>
            <a:r>
              <a:rPr b="1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(max. = 40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762120" y="1828800"/>
          <a:ext cx="7619760" cy="4265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1828800"/>
                    <a:ext cx="7619760" cy="426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000000"/>
                </a:solidFill>
                <a:latin typeface="Arial"/>
              </a:rPr>
              <a:t>Letters spellen</a:t>
            </a:r>
            <a:r>
              <a:rPr b="1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(max. = 34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762120" y="1828800"/>
          <a:ext cx="7619760" cy="4265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1828800"/>
                    <a:ext cx="7619760" cy="426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000000"/>
                </a:solidFill>
                <a:latin typeface="Arial"/>
              </a:rPr>
              <a:t>8-Woorden spellen</a:t>
            </a:r>
            <a:r>
              <a:rPr b="1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(max. = 8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762120" y="1828800"/>
          <a:ext cx="7619760" cy="4265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1828800"/>
                    <a:ext cx="7619760" cy="426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000000"/>
                </a:solidFill>
                <a:latin typeface="Arial"/>
              </a:rPr>
              <a:t>SVS Dictees 1-3 in % correct </a:t>
            </a:r>
            <a:r>
              <a:rPr b="1" sz="2000" spc="-1" strike="noStrike">
                <a:solidFill>
                  <a:srgbClr val="000000"/>
                </a:solidFill>
                <a:latin typeface="Arial"/>
              </a:rPr>
              <a:t>(in maart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762120" y="1828800"/>
          <a:ext cx="7619760" cy="4265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1828800"/>
                    <a:ext cx="7619760" cy="426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000000"/>
                </a:solidFill>
                <a:latin typeface="Arial"/>
              </a:rPr>
              <a:t>SVS Dictees 4-5 in % correct </a:t>
            </a:r>
            <a:r>
              <a:rPr b="1" sz="2000" spc="-1" strike="noStrike">
                <a:solidFill>
                  <a:srgbClr val="000000"/>
                </a:solidFill>
                <a:latin typeface="Arial"/>
              </a:rPr>
              <a:t>(in juni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762120" y="1828800"/>
          <a:ext cx="7619760" cy="4265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1828800"/>
                    <a:ext cx="7619760" cy="426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et probleem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esachterst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-15% in het Bao (Struiksma, 200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3% in het Sbao (van Bon e.a.,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llingachterst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en gegeve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orzaa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iet intelligentie of afkomst, maa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01820"/>
                </a:solidFill>
                <a:latin typeface="Arial"/>
              </a:rPr>
              <a:t>instructiekwalite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3623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400" spc="-1" strike="noStrike">
                <a:solidFill>
                  <a:srgbClr val="000000"/>
                </a:solidFill>
                <a:latin typeface="Arial"/>
              </a:rPr>
              <a:t>Niveaus van de scholen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800" spc="-1" strike="noStrike">
                <a:solidFill>
                  <a:srgbClr val="000000"/>
                </a:solidFill>
                <a:latin typeface="Arial"/>
              </a:rPr>
              <a:t>Cito normen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762120" y="1828800"/>
          <a:ext cx="7619760" cy="4265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1828800"/>
                    <a:ext cx="7619760" cy="426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000000"/>
                </a:solidFill>
                <a:latin typeface="Arial"/>
              </a:rPr>
              <a:t>DMT 1a niveaus in juni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762120" y="1828800"/>
          <a:ext cx="7619760" cy="4265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1828800"/>
                    <a:ext cx="7619760" cy="426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000000"/>
                </a:solidFill>
                <a:latin typeface="Arial"/>
              </a:rPr>
              <a:t>DMT 2a niveaus in juni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762120" y="1828800"/>
          <a:ext cx="7619760" cy="4265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1828800"/>
                    <a:ext cx="7619760" cy="426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000000"/>
                </a:solidFill>
                <a:latin typeface="Arial"/>
              </a:rPr>
              <a:t>DMT 3a niveaus in juni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762120" y="1828800"/>
          <a:ext cx="7619760" cy="4265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1828800"/>
                    <a:ext cx="7619760" cy="426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000000"/>
                </a:solidFill>
                <a:latin typeface="Arial"/>
              </a:rPr>
              <a:t>Avi-1 niveaus in juni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762120" y="1828800"/>
          <a:ext cx="7619760" cy="4265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1828800"/>
                    <a:ext cx="7619760" cy="426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000000"/>
                </a:solidFill>
                <a:latin typeface="Arial"/>
              </a:rPr>
              <a:t>Avi-2 niveaus in juni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762120" y="1828800"/>
          <a:ext cx="7619760" cy="4265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1828800"/>
                    <a:ext cx="7619760" cy="426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000000"/>
                </a:solidFill>
                <a:latin typeface="Arial"/>
              </a:rPr>
              <a:t>Avi-3 niveaus in juni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762120" y="1828800"/>
          <a:ext cx="7619760" cy="4265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1828800"/>
                    <a:ext cx="7619760" cy="426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000000"/>
                </a:solidFill>
                <a:latin typeface="Arial"/>
              </a:rPr>
              <a:t>Spelling M23 niveaus in maar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762120" y="1828800"/>
          <a:ext cx="7619760" cy="4265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1828800"/>
                    <a:ext cx="7619760" cy="426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000000"/>
                </a:solidFill>
                <a:latin typeface="Arial"/>
              </a:rPr>
              <a:t>Spelling E3b niveaus in juni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762120" y="1828800"/>
          <a:ext cx="7619760" cy="4265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1828800"/>
                    <a:ext cx="7619760" cy="426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Het doel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or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men van lees- en spelling-achterstanden in Sbao (…en Ba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o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ffectieve Instruct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400" spc="-1" strike="noStrike">
                <a:solidFill>
                  <a:srgbClr val="000000"/>
                </a:solidFill>
                <a:latin typeface="Arial"/>
              </a:rPr>
              <a:t>Conclusie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76197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Arial"/>
              </a:rPr>
              <a:t>De school met ZLKLS heeft op zowel lezen als spellen substantieel betere prestaties dan de scholen zonde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Arial"/>
              </a:rPr>
              <a:t>Het leesniveau van de school met ZLKLS is </a:t>
            </a:r>
            <a:r>
              <a:rPr b="0" i="1" sz="2800" spc="-1" strike="noStrike">
                <a:solidFill>
                  <a:srgbClr val="000000"/>
                </a:solidFill>
                <a:latin typeface="Arial"/>
              </a:rPr>
              <a:t>vergelijkbaar</a:t>
            </a:r>
            <a:r>
              <a:rPr b="0" sz="2800" spc="-1" strike="noStrike">
                <a:solidFill>
                  <a:srgbClr val="000000"/>
                </a:solidFill>
                <a:latin typeface="Arial"/>
              </a:rPr>
              <a:t> met dat van het regulier onderwij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Arial"/>
              </a:rPr>
              <a:t>Het spellingniveau van de school met ZLKLS is </a:t>
            </a:r>
            <a:r>
              <a:rPr b="0" i="1" sz="2800" spc="-1" strike="noStrike">
                <a:solidFill>
                  <a:srgbClr val="000000"/>
                </a:solidFill>
                <a:latin typeface="Arial"/>
              </a:rPr>
              <a:t>beter</a:t>
            </a:r>
            <a:r>
              <a:rPr b="0" sz="2800" spc="-1" strike="noStrike">
                <a:solidFill>
                  <a:srgbClr val="000000"/>
                </a:solidFill>
                <a:latin typeface="Arial"/>
              </a:rPr>
              <a:t> dan dat van het regulier onderwij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2514600" y="1752480"/>
            <a:ext cx="3962520" cy="4496040"/>
          </a:xfrm>
          <a:prstGeom prst="verticalScroll">
            <a:avLst>
              <a:gd name="adj" fmla="val 12500"/>
            </a:avLst>
          </a:prstGeom>
          <a:solidFill>
            <a:srgbClr val="75a44b"/>
          </a:soli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581280" y="2590920"/>
            <a:ext cx="1828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 e z e 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04920" y="2362320"/>
            <a:ext cx="1752480" cy="1447560"/>
          </a:xfrm>
          <a:prstGeom prst="cloudCallout">
            <a:avLst>
              <a:gd name="adj1" fmla="val -20652"/>
              <a:gd name="adj2" fmla="val 100546"/>
            </a:avLst>
          </a:prstGeom>
          <a:solidFill>
            <a:srgbClr val="99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705720" y="4038480"/>
            <a:ext cx="1752480" cy="1447920"/>
          </a:xfrm>
          <a:prstGeom prst="cloudCallout">
            <a:avLst>
              <a:gd name="adj1" fmla="val -29347"/>
              <a:gd name="adj2" fmla="val 126865"/>
            </a:avLst>
          </a:prstGeom>
          <a:solidFill>
            <a:srgbClr val="00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at maakt ZLKLS Effectief?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Het ‘Wat’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752480"/>
            <a:ext cx="86868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uctuu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n de orthografie door een denkkader (meta-cogniti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nkwijz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n oefeningen op basis van de taakanaly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esoefeningen vooraf aan lezen (auditieve synthes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llingoefening vooraf aan spellen (auditieve analys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Het ‘Hoe’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7315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e instruct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erkracht is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ntale opstel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iatie tijdens groeps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ënteringsba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creet do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efenen van onderde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tegratie met bestaande kenn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-sensor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 ba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suele, auditieve en motorische kana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etsing en herha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ke dag dezelfde volgor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ke dag een dict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Succes verzekerd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nk voor uw aandac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Arial"/>
                <a:hlinkClick r:id="rId2"/>
              </a:rPr>
              <a:t>www.zoleerjekinderenlezenenspellen.</a:t>
            </a:r>
            <a:r>
              <a:rPr b="0" lang="en-US" sz="3200" spc="-1" strike="noStrike" u="sng">
                <a:solidFill>
                  <a:srgbClr val="003300"/>
                </a:solidFill>
                <a:uFillTx/>
                <a:latin typeface="Arial"/>
                <a:hlinkClick r:id="rId3"/>
              </a:rPr>
              <a:t>n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aarmee?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 methodi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Zo leer je kinderen lezen en spellen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ZLKLS; Schraven, 200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twikkeld door drs. Jo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é Schra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38224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400" spc="-1" strike="noStrike">
                <a:solidFill>
                  <a:srgbClr val="000000"/>
                </a:solidFill>
                <a:latin typeface="Arial"/>
              </a:rPr>
              <a:t>Onderzoeksvragen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560" y="2057040"/>
            <a:ext cx="83818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Arial"/>
              </a:rPr>
              <a:t>Wat is het effect van de methodiek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LKLS</a:t>
            </a:r>
            <a:r>
              <a:rPr b="0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Arial"/>
              </a:rPr>
              <a:t>Tot welk niveau leidt de methodiek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LKLS</a:t>
            </a:r>
            <a:r>
              <a:rPr b="0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000000"/>
                </a:solidFill>
                <a:latin typeface="Arial"/>
              </a:rPr>
              <a:t>Deelnemende scholen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609480" y="1981080"/>
          <a:ext cx="7620120" cy="4554720"/>
        </p:xfrm>
        <a:graphic>
          <a:graphicData uri="http://schemas.openxmlformats.org/drawingml/2006/table">
            <a:tbl>
              <a:tblPr/>
              <a:tblGrid>
                <a:gridCol w="1295640"/>
                <a:gridCol w="1752480"/>
                <a:gridCol w="1371600"/>
                <a:gridCol w="1371600"/>
                <a:gridCol w="1828800"/>
              </a:tblGrid>
              <a:tr h="828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hoo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hodie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 / j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ers-talig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icijnen /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agno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LKL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/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/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/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/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/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hoo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jaar L&amp;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o-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o-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Ba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000000"/>
                </a:solidFill>
                <a:latin typeface="Arial"/>
              </a:rPr>
              <a:t>Gemiddelde leeftijd + scores op cognitieve test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762120" y="1828800"/>
          <a:ext cx="7924680" cy="2819520"/>
        </p:xfrm>
        <a:graphic>
          <a:graphicData uri="http://schemas.openxmlformats.org/drawingml/2006/table">
            <a:tbl>
              <a:tblPr/>
              <a:tblGrid>
                <a:gridCol w="685800"/>
                <a:gridCol w="1523880"/>
                <a:gridCol w="1066680"/>
                <a:gridCol w="1067040"/>
                <a:gridCol w="1143000"/>
                <a:gridCol w="182520"/>
                <a:gridCol w="2255760"/>
              </a:tblGrid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9966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eftij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9966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9966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9966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T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9966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ijfers vw/a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9966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/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/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99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99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99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9966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9966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/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9966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6" name=""/>
          <p:cNvSpPr/>
          <p:nvPr/>
        </p:nvSpPr>
        <p:spPr>
          <a:xfrm>
            <a:off x="762120" y="5181480"/>
            <a:ext cx="78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SPM = Non-verbale intelligentie; Rav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WST = Woordenschat; RAKI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LTM = Lange termijn geheugen; 12-woordent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Cijfers vw/aw = korte termijn geheugen; cijferreeksen voor- en achterwaa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000000"/>
                </a:solidFill>
                <a:latin typeface="Arial"/>
              </a:rPr>
              <a:t>Toetskalender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533520" y="1295280"/>
          <a:ext cx="8076960" cy="5253120"/>
        </p:xfrm>
        <a:graphic>
          <a:graphicData uri="http://schemas.openxmlformats.org/drawingml/2006/table">
            <a:tbl>
              <a:tblPr/>
              <a:tblGrid>
                <a:gridCol w="3581280"/>
                <a:gridCol w="1523880"/>
                <a:gridCol w="1371600"/>
                <a:gridCol w="838440"/>
                <a:gridCol w="7617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ptemb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emb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ar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n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z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ditieve synthe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tters lez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M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ell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ditieve analy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tters spell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-woordendicte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V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4560" y="251424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400" spc="-1" strike="noStrike">
                <a:solidFill>
                  <a:srgbClr val="000000"/>
                </a:solidFill>
                <a:latin typeface="Arial"/>
              </a:rPr>
              <a:t>Verschillen tussen de scholen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3T08:12:18Z</dcterms:created>
  <dc:creator>Office 2004 Test Drive Anna Bosman</dc:creator>
  <dc:description/>
  <dc:language>en-US</dc:language>
  <cp:lastModifiedBy>Office 2004 Test Drive Anna Bosman</cp:lastModifiedBy>
  <dcterms:modified xsi:type="dcterms:W3CDTF">2008-03-06T08:27:16Z</dcterms:modified>
  <cp:revision>75</cp:revision>
  <dc:subject/>
  <dc:title>Zo leer je kinderen  lezen en spellen</dc:title>
</cp:coreProperties>
</file>