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4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.jpeg" ContentType="image/jpeg"/>
  <Override PartName="/ppt/media/image2.jpeg" ContentType="image/jpeg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D30-91FE-4C62-B632-471E7AC1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04E-6D20-4045-8369-4A52C124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F6E-AE62-4372-9101-E15C8EDB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445-9EE3-4E78-82F2-31924EAF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DB58-7119-4F41-831B-952B961B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B5B3-CEF7-4A71-9294-690F705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027E-27D3-43CA-9452-46D6D123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3885-281B-488A-AFCA-3519E2A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1EBA-EDD6-4C3C-9B75-0E623D97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2C12-20B4-4227-B595-40CE1C24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020D-DF8C-4641-AA46-BAE5A21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4E2-2327-421C-82F8-58FC1B5C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1ACC-F41E-4D4D-A243-C902D8A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688F-0A36-4437-84C8-E17A436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9F2-3F20-4FFF-8253-74C20D17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056B-7518-4000-A25D-CF36C76F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34C5-50A6-4A8B-8745-ABDC8504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440-68FE-4504-9515-E22F244C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501-015D-4FCC-96EA-512E3D17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7E9-742C-49F7-876F-337D683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017-D61C-4CF8-9DB0-98009A97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CC2-EBA7-4961-90F4-C690E2A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CFA-4D18-42D7-8A51-911F8DC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16D-FC08-46FC-973D-2F952A7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646-8071-4260-A060-28837E9F631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EBBF-275A-4ABE-A914-E6F073A6271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oleerjekinderenlezenenspellen.nl/" TargetMode="External"/><Relationship Id="rId3" Type="http://schemas.openxmlformats.org/officeDocument/2006/relationships/hyperlink" Target="http://www.zoleerjekinderenlezenenspellen.nl/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198072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000000"/>
                </a:solidFill>
                <a:latin typeface="Arial"/>
              </a:rPr>
              <a:t>Zo leer je kinderen </a:t>
            </a:r>
            <a:br>
              <a:rPr sz="5400"/>
            </a:br>
            <a:r>
              <a:rPr b="1" sz="5400" spc="-1" strike="noStrike">
                <a:solidFill>
                  <a:srgbClr val="000000"/>
                </a:solidFill>
                <a:latin typeface="Arial"/>
              </a:rPr>
              <a:t>lezen en spellen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41148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400" spc="-1" strike="noStrike">
                <a:solidFill>
                  <a:srgbClr val="000000"/>
                </a:solidFill>
                <a:latin typeface="Arial"/>
              </a:rPr>
              <a:t>Prof. dr. Anna M. T. Bosm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rthopedagogiek, Radboud Universiteit Nijm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.bosman@pwo.ru.n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synthe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lez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in aantal woorden per minuut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uditieve analyse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4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Letters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34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8-Woorden spellen</a:t>
            </a:r>
            <a:r>
              <a:rPr b="1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(max. = 8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1-3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maart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VS Dictees 4-5 in % correct </a:t>
            </a:r>
            <a:r>
              <a:rPr b="1" sz="2000" spc="-1" strike="noStrike">
                <a:solidFill>
                  <a:srgbClr val="000000"/>
                </a:solidFill>
                <a:latin typeface="Arial"/>
              </a:rPr>
              <a:t>(in jun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t proble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s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5% in het Bao (Struiksma,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% in het Sbao (van Bon e.a.,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ach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geg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rz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telligentie of afkomst, ma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1820"/>
                </a:solidFill>
                <a:latin typeface="Arial"/>
              </a:rPr>
              <a:t>instructiekwa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Niveaus va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Arial"/>
              </a:rPr>
              <a:t>Cito norme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1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2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MT 3a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1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2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Avi-3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M23 niveaus in maar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Spelling E3b niveaus in jun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62120" y="1828800"/>
          <a:ext cx="7619760" cy="426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619760" cy="42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do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en van lees- en spelling-achterstanden in Sbao (…en Ba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ffectieve Instruc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Conclus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De school met ZLKLS heeft op zowel lezen als spellen substantieel betere prestaties dan de scholen zon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lees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vergelijkbaa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met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Het spellingniveau van de school met ZLKLS is </a:t>
            </a:r>
            <a:r>
              <a:rPr b="0" i="1" sz="2800" spc="-1" strike="noStrike">
                <a:solidFill>
                  <a:srgbClr val="000000"/>
                </a:solidFill>
                <a:latin typeface="Arial"/>
              </a:rPr>
              <a:t>beter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dan dat van het regulier onderwij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1752480"/>
            <a:ext cx="3962520" cy="4496040"/>
          </a:xfrm>
          <a:prstGeom prst="verticalScroll">
            <a:avLst>
              <a:gd name="adj" fmla="val 12500"/>
            </a:avLst>
          </a:prstGeom>
          <a:solidFill>
            <a:srgbClr val="75a44b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590920"/>
            <a:ext cx="1828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 e z e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1752480" cy="1447560"/>
          </a:xfrm>
          <a:prstGeom prst="cloudCallout">
            <a:avLst>
              <a:gd name="adj1" fmla="val -20652"/>
              <a:gd name="adj2" fmla="val 100546"/>
            </a:avLst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4038480"/>
            <a:ext cx="1752480" cy="1447920"/>
          </a:xfrm>
          <a:prstGeom prst="cloudCallout">
            <a:avLst>
              <a:gd name="adj1" fmla="val -29347"/>
              <a:gd name="adj2" fmla="val 126865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 maakt ZLKLS Effectief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Wat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de orthografie door een denkkader (meta-cognit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kwij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 oefeningen op basis van de taak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esoefeningen vooraf aan lezen (auditieve synthe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llingoefening vooraf aan spellen (auditieve 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t ‘Hoe’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rkracht i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ale 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e tijdens groeps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nterings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et do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efenen van ond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ie met bestaande 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ns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ele, auditieve en motorische kan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etsing en herh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dezelfde volgo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e dag een dic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ucces verzeker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k voor uw aand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2"/>
              </a:rPr>
              <a:t>www.zoleerjekinderenlezenenspellen.</a:t>
            </a:r>
            <a:r>
              <a:rPr b="0" lang="en-US" sz="3200" spc="-1" strike="noStrike" u="sng">
                <a:solidFill>
                  <a:srgbClr val="003300"/>
                </a:solidFill>
                <a:uFillTx/>
                <a:latin typeface="Arial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arme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 method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o leer je kinderen lezen en spell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LKLS; Schraven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wikkeld door drs. J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Sch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Onderzoeksvrag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Wat is het effect van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Tot welk niveau leidt de methodie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KLS</a:t>
            </a:r>
            <a:r>
              <a:rPr b="0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Deelnemende schol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09480" y="1981080"/>
          <a:ext cx="7620120" cy="4554720"/>
        </p:xfrm>
        <a:graphic>
          <a:graphicData uri="http://schemas.openxmlformats.org/drawingml/2006/table">
            <a:tbl>
              <a:tblPr/>
              <a:tblGrid>
                <a:gridCol w="1295640"/>
                <a:gridCol w="1752480"/>
                <a:gridCol w="1371600"/>
                <a:gridCol w="1371600"/>
                <a:gridCol w="182880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i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/ 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ers-tali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jnen 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K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jaar L&amp;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o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B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</a:rPr>
              <a:t>Gemiddelde leeftijd + scores op cognitieve te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828800"/>
          <a:ext cx="7924680" cy="2819520"/>
        </p:xfrm>
        <a:graphic>
          <a:graphicData uri="http://schemas.openxmlformats.org/drawingml/2006/table">
            <a:tbl>
              <a:tblPr/>
              <a:tblGrid>
                <a:gridCol w="685800"/>
                <a:gridCol w="1523880"/>
                <a:gridCol w="1066680"/>
                <a:gridCol w="1067040"/>
                <a:gridCol w="1143000"/>
                <a:gridCol w="182520"/>
                <a:gridCol w="22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ftij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jfers vw/a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9966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99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62120" y="51814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PM = Non-verbale intelligentie; Rav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ST = Woordenschat; RAK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TM = Lange termijn geheugen; 12-woorde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ijfers vw/aw = korte termijn geheugen; cijferreeksen voor- en achter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Arial"/>
              </a:rPr>
              <a:t>Toetskalen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1295280"/>
          <a:ext cx="8076960" cy="5253120"/>
        </p:xfrm>
        <a:graphic>
          <a:graphicData uri="http://schemas.openxmlformats.org/drawingml/2006/table">
            <a:tbl>
              <a:tblPr/>
              <a:tblGrid>
                <a:gridCol w="3581280"/>
                <a:gridCol w="1523880"/>
                <a:gridCol w="1371600"/>
                <a:gridCol w="838440"/>
                <a:gridCol w="761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synthe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le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ieve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 spe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woordendict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Arial"/>
              </a:rPr>
              <a:t>Verschillen tussen de schole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8:12:18Z</dcterms:created>
  <dc:creator>Office 2004 Test Drive Anna Bosman</dc:creator>
  <dc:description/>
  <dc:language>en-US</dc:language>
  <cp:lastModifiedBy>Office 2004 Test Drive Anna Bosman</cp:lastModifiedBy>
  <dcterms:modified xsi:type="dcterms:W3CDTF">2008-03-06T08:27:16Z</dcterms:modified>
  <cp:revision>75</cp:revision>
  <dc:subject/>
  <dc:title>Zo leer je kinderen  lezen en spellen</dc:title>
</cp:coreProperties>
</file>