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D9D-5C9D-47AD-BEC3-86F67A45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960-B371-48D8-B34A-BFB713B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F80-E45C-43E3-BEEF-B750902A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E30-27E5-46A7-B383-4B7B1E60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23AE-86D5-40F8-9939-21D06602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F187-C951-48E9-87F8-60BA7630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6B8C-CEFB-477A-8064-E0401AE2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DD6E-3863-4C56-BBC0-A10C5035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D221-630D-481E-8BC0-898DB79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8C8-DAC3-48D9-907F-A31098E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318F-0CD2-4203-B92A-E713129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DEA-7F84-4F43-80C7-B08A4D68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44E-13E1-452A-BC99-9A36EA5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B4A-FC4C-4D82-9288-6447CB8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EDC-2EB3-4D74-8354-D37C608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2F74-EC38-41A4-A058-CC266F88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34C4-B8BA-439A-92E0-585FD559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D2B-4B53-4AB2-AAD8-9398E8F1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43F-CA8A-4233-A300-17CC57FD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C5B-E055-45B8-A2E1-D7651992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B0E-EFC8-4DCE-89A8-64BDD0A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EF0-124E-4505-A1B2-156BFF9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7C6-B933-4B5E-ACC8-EFEED70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BA4-0EA0-46BB-8351-DDB4789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FE3-8098-49B5-879A-1586F04284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4CE5-8751-4A60-9AFA-351004DF29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06T08:27:16Z</dcterms:modified>
  <cp:revision>75</cp:revision>
  <dc:subject/>
  <dc:title>Zo leer je kinderen  lezen en spellen</dc:title>
</cp:coreProperties>
</file>