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819-D602-4195-B840-E2A8E4A5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8C2-C5FE-4695-91B8-F9585ADF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DBC-3ECD-4593-BC45-D3514F61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8D1-6022-4B9B-8862-F27247DA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3A1B-B9FE-4117-9843-5BBA5CBA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2E1E-F6E5-4597-9864-C894AAE3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EFDD-9F9E-4A3A-87DE-DEC1927C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A31-B1AB-445C-B17F-2A44DC34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2683-6415-4FA3-B575-DB39C7C7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2F8D-F002-4CE1-947F-90AD20E8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39A2-1B0E-44C6-9F8D-210A1FC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CEF-8C1B-4B23-8E5E-490DD4CF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B705-D57C-43EA-95E4-E30B37E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420A-8F93-45A0-9720-2A1A9DB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8AF3-8B59-4330-9711-A23AAC36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D72D-3706-4677-B555-618A3B1E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B812-00C3-4D13-A21A-E0E10CD1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AAC-B82B-4670-98C9-F7C02B3C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A58-5180-459D-B3FF-9254EBD4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781-1665-43CD-952D-F0B0DA4C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564-B67F-4D17-BB0A-5FA1D58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A0D-1BA1-49A4-9861-3205D08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9B6-3F7F-472C-B31A-716271D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0B1-15E2-4444-A68E-05F8450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FE35-BB1E-4EBA-B626-9F5942384D3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E65C-B3DC-43A5-8059-67C0F7D71B5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Zo leer je kinderen </a:t>
            </a:r>
            <a:br>
              <a:rPr sz="5400"/>
            </a:br>
            <a:r>
              <a:rPr b="1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de orthografie door een denkkader (meta-cognit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efeningen op basis van de taak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 (auditieve synth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 (auditieve 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e tijdens groeps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nterings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et 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fenen van ond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e met bestaand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ele, auditieve en motorische 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8076960" cy="5253120"/>
        </p:xfrm>
        <a:graphic>
          <a:graphicData uri="http://schemas.openxmlformats.org/drawingml/2006/table">
            <a:tbl>
              <a:tblPr/>
              <a:tblGrid>
                <a:gridCol w="3581280"/>
                <a:gridCol w="1523880"/>
                <a:gridCol w="1371600"/>
                <a:gridCol w="8384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06T08:27:16Z</dcterms:modified>
  <cp:revision>75</cp:revision>
  <dc:subject/>
  <dc:title>Zo leer je kinderen  lezen en spellen</dc:title>
</cp:coreProperties>
</file>