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07CA-DE5B-491F-92E1-7E65FC38B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FAFE-A033-4957-8548-2A8E37DF0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55B2-4778-426B-B584-C4E884B09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F731-824A-49E1-9AFE-108B5B665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8EA-4DF0-4EA5-B093-8589616B3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9A0-0C07-448A-85D6-9BE00903E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itleggen over de thermometer en dat we dergelijke instrumenten niet hebben in de psycholog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chien een file met overzicht van welke items bij welk constructen horen Walda en Smolewska apart weergev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2204-E82A-4742-AA4B-BC3502BF5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2338-3DDF-46FC-A0DE-8E7DDC5E0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E8FD-D625-4004-B82C-105B488FE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D9E5-DE6B-46B4-83F1-3FD38676D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285-8F8F-43AF-8B6B-9113A429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F92-C13D-4C34-AED9-52B08312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86B-0858-419A-B542-AD9709B9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466C-9192-4A35-971D-6A5C97A1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B44-0326-472A-8257-6248BDC9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E3C-6233-4EED-9B97-4AC5C054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3DD-C49D-4A9A-B2DF-2A7DDF10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D3F-BB77-40B5-AAE4-B782C38F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D40F-F6C6-4FCE-A0FE-DD70D104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B4D0-3A4E-4884-AFD6-6E15CE7A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FA9-C7EF-4E05-8A2E-22B61B2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ABC-953F-4079-9959-BC8B95EA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76AD-DDBC-46CE-9307-2DFED953D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DynamiekFFF5FF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20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CRMackintosh"/>
              </a:rPr>
              <a:t>Wetenschappelijk onderzoek naar Hoogsensitivite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360" y="3429000"/>
            <a:ext cx="7010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Prof. dr. Anna M.T. Bo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90"/>
                </a:solidFill>
                <a:uFillTx/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19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Lustrumcongres VH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Radboud Universiteit Nijme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Sectie Orthopedagogiek van leren en ontwikk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C77E-D957-45F8-8FD7-F39AD3B41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 gemeten bij Volwassenen</a:t>
            </a:r>
            <a:br>
              <a:rPr sz="45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71516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Met dank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Mijn collega wetenschappers (zie de bronnen aan het eind van deze presentat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DD15-75FA-4445-9EAF-43209F717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8C7B-487E-493D-93B8-33C344554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856E-53F3-4D98-8B2A-44296F652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2231-D9A3-4FFC-86C8-C1ED4BA5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9511-D027-4EBF-987E-02210526D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Niet </a:t>
            </a:r>
            <a:r>
              <a:rPr b="1" lang="en-GB" sz="4800" spc="-1" strike="noStrike">
                <a:solidFill>
                  <a:srgbClr val="660066"/>
                </a:solidFill>
                <a:latin typeface="CRMackintosh"/>
                <a:ea typeface="CRMackintosh"/>
              </a:rPr>
              <a:t>Onderzocht is de relatie tussen Hoogsensitiviteit 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093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Hoogbegaafdheid/meervoudige intelligen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Leer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Leerstijl (begrijpen of uit het hoofd l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Lesstofverwerking met meerdere modalit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Rechterhersenhelft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Cognitieve voorkeur (visueel-ruimtelijk of 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Lichaamst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Motoriek (fijne en gro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Geheel-deel ondersc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onclusie: vooralsnog is 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één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ewijs dat deze factoren gerelateerd zijn aan hoogsensitiv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8A82-90D7-4688-94F2-E27EEF262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05920" cy="20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CRMackintosh"/>
              </a:rPr>
              <a:t>Hartelijke dank voor uw belangstell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360" y="419076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Prof. dr. Anna M.T. Bos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90"/>
                </a:solidFill>
                <a:uFillTx/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Radboud Universiteit Nijme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0"/>
                </a:solidFill>
                <a:latin typeface="Arial"/>
              </a:rPr>
              <a:t>Sectie Orthopedagogiek van leren en ontwikk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3361-6F58-4903-B635-8CDEC6DCC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CRMackintosh"/>
                <a:ea typeface="CRMackintosh"/>
              </a:rPr>
              <a:t>Bronnen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Aron, E. N. (2000). High sensitivity as one source of fearfulness and shyness. In L. A. Schmidt &amp; J. Schulkin (Eds.),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 Extreme fear, shyness, and social Phobia: Origins, biological mechanisms, and clinical outcomes 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(pp. 251-272). New York: Oxford University P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Aron, E.N., &amp; Aron, A. (1997). Sensory-processing sensitivity and its relation to introversion and emotionality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Journal of Personality and Social Psychology, 73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345-36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Aron, E. N., Aron, A., &amp; Davies, K. M. (2005). Adult shyness: The interaction of temperamental sensitivity and an adverse childhood environment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Social Psychology Bulletin, 31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181-197.</a:t>
            </a:r>
            <a:r>
              <a:rPr b="1" lang="en-US" sz="14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Benham, G. (2006). The highly sensitive person: Stress and physical symptom reports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Individual Differences, 40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, 1433-144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Evers, A., Rasche, J., &amp; Schabracq, M. J. (2008). High sensory-processing sensitivity at work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International Journal of Stress Management, 15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189-1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Gortemaker, G. (2009).</a:t>
            </a:r>
            <a:r>
              <a:rPr b="0" i="1" lang="nl-NL" sz="1400" spc="-1" strike="noStrike">
                <a:solidFill>
                  <a:srgbClr val="000090"/>
                </a:solidFill>
                <a:latin typeface="Arial"/>
              </a:rPr>
              <a:t> Hoogsensitiviteit bij kinderen in het speciaal (basis)onderwijs. </a:t>
            </a:r>
            <a:r>
              <a:rPr b="0" lang="nl-NL" sz="1400" spc="-1" strike="noStrike">
                <a:solidFill>
                  <a:srgbClr val="000090"/>
                </a:solidFill>
                <a:latin typeface="Arial"/>
              </a:rPr>
              <a:t>Master scriptie Orthopedagogiek, Radboud Universiteit Nijme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Hofman, S. G., &amp; Bitran, S. (2007). Sensory-processing sensitivity in social anxiety disorder: Relationship to harm avoidance and diagnostic subtypes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. Journal of Anxiety Disorders, 21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944-95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Jerome, E. M., &amp; Liss, M. (2005). Relationships between sensory processing style, adult attachment, and coping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Individual Differences, 38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1341-135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Liss, M., Mailloux, J., &amp; Erchull, M. J. (2008). The relationships between sensory processing sensitivity, alexithymia, autism, depression, and anxiety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Individual Differences, 45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255-25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CA9803-0F93-4C29-BFB2-026706AD0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CRMackintosh"/>
                <a:ea typeface="CRMackintosh"/>
              </a:rPr>
              <a:t>Bronnen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52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Liss, M., Timmel, L., Baxley, K.,  &amp; Killingsworth, P. (2005). Sensory processing sensitivity and its relation to parental bonding, anxiety, and depression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Personality and Individual Differences, 39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1429-143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Neal, J. A., Edelmann, R. J., &amp; Glachan, M. (2002). Behavioural inhibition and symptoms of anxiety and depression: Is there a specific relationship with social phobia?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British Journal of Clinical Psychology, 41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361-3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Meyer, B. J., Ajchenbrenner, M., &amp; Bowles, D. P. (2005). Sensory sensitiviy, attachment experiences, and rejection responses among adults with borderline and avoidant features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Journal of Personality Disorders, 19,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 641-6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Meyer, B. J., &amp; Carver, C.S. (2000). Negative childhood accounts, sensitivity, and pessimism: A study of avoidant personality disorder features in college students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Journal of Personality Disorders, 14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, 233-24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Mulders, S.A.M.S. (2008). </a:t>
            </a:r>
            <a:r>
              <a:rPr b="0" i="1" lang="en-GB" sz="1400" spc="-1" strike="noStrike">
                <a:solidFill>
                  <a:srgbClr val="000090"/>
                </a:solidFill>
                <a:latin typeface="Arial"/>
              </a:rPr>
              <a:t>Hooggevoelige personen: Hoog gevoelig voor burnout? </a:t>
            </a: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Master scriptie Gezondheidspsychologie, Open Universiteit Nederlan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Schuller, I., van Zijp, S., &amp; van der Zant-Willers, S. (2006). </a:t>
            </a:r>
            <a:r>
              <a:rPr b="0" i="1" lang="en-GB" sz="1400" spc="-1" strike="noStrike">
                <a:solidFill>
                  <a:srgbClr val="000090"/>
                </a:solidFill>
                <a:latin typeface="Arial"/>
              </a:rPr>
              <a:t>Werkstress, coping en persoonlijkheid met specifieke aandacht voor hoogsensitiviteit, neuroticisme en introversie</a:t>
            </a:r>
            <a:r>
              <a:rPr b="0" lang="en-GB" sz="1400" spc="-1" strike="noStrike">
                <a:solidFill>
                  <a:srgbClr val="000090"/>
                </a:solidFill>
                <a:latin typeface="Arial"/>
              </a:rPr>
              <a:t>. Master scriptie Psychologie van Arbeid, Gezondheid en Organisatie, Universiteit Utrec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Slaats Baeten, E. (2007)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Schoolbeleving en ervaren gezondheidsklachten van hoogsensitieve leerlingen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. Masterscriptie Open Universiteit, the Netherla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Walda, S. (2007). </a:t>
            </a:r>
            <a:r>
              <a:rPr b="0" i="1" lang="en-US" sz="1400" spc="-1" strike="noStrike">
                <a:solidFill>
                  <a:srgbClr val="000090"/>
                </a:solidFill>
                <a:latin typeface="Arial"/>
              </a:rPr>
              <a:t>Hoogsensitiviteit bij kinderen in het basisonderwijs</a:t>
            </a:r>
            <a:r>
              <a:rPr b="0" lang="en-US" sz="1400" spc="-1" strike="noStrike">
                <a:solidFill>
                  <a:srgbClr val="000090"/>
                </a:solidFill>
                <a:latin typeface="Arial"/>
              </a:rPr>
              <a:t>. Master scriptie Radboud Universiteit Nijmeg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384EE2-F113-44E4-A126-4E521A490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Theoretisch ka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a) Twee hersensyste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Behavioural Activitation System (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gevoelig voor beloning en vermijden van straf en dopa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Behavioural Inhibition System (BIS)</a:t>
            </a: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gevoelig voor straf en niet-beloning en nieuwigheid; seroto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b) Relatieve werking van BAS en BIS bepalen mede het temper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0"/>
                </a:solidFill>
                <a:latin typeface="Arial"/>
              </a:rPr>
              <a:t>c) Interactie temperament en opvoeding =&gt; persoonlijk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C020-4DCF-4B5E-AEB1-3DECC54AA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 ‘meten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Ho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(vooralsnog) met een vragen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Wat meet de vragenlij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Karaktertr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Tempera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 ‘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Gestold’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0"/>
                </a:solidFill>
                <a:latin typeface="Arial"/>
              </a:rPr>
              <a:t>Hoeveel dimens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1: hoogsensitiviteit (Aron &amp; Aron, 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2: positieve en negatieve sensitiviteit (Walda, 2007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3: snelheid van prikkeling, esthetische sensitiviteit, l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000090"/>
                </a:solidFill>
                <a:latin typeface="Arial"/>
              </a:rPr>
              <a:t>sensorische drempel, (Smolewska e.a.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77C0-598E-4DBC-9789-0FD20C834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 gemeten bij kinderen</a:t>
            </a:r>
            <a:br>
              <a:rPr sz="45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4582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Met dank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Dr. Joep T.A. Bakker (Radboud Universiteit Nijme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Drs. G. Gortemaker (Radboud Universiteit Nijme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Drs. Sietske A.E. Walda (Braams &amp; Partners, Dev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556A-63BD-4374-A89F-7F587602F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CRMackintosh"/>
                <a:ea typeface="CRMackintosh"/>
              </a:rPr>
              <a:t>Onderzoeksvrag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0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0"/>
                </a:solidFill>
                <a:latin typeface="Arial"/>
              </a:rPr>
              <a:t>Zijn er verschillen in sensitiviteit tussen leerlingen in het regulier en speciaal onderwij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0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0"/>
                </a:solidFill>
                <a:latin typeface="Arial"/>
              </a:rPr>
              <a:t>Wat is de overeenkomst tussen de  oordelen van kinderen, ouders en leerkrachten over hoogsensitiviteit  bij kind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03CB-9ACE-4675-B0CF-D88E9C43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66"/>
                </a:solidFill>
                <a:latin typeface="CRMackintosh"/>
                <a:ea typeface="CRMackintosh"/>
              </a:rPr>
              <a:t>Deelnem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1752480"/>
          <a:ext cx="7848720" cy="4667400"/>
        </p:xfrm>
        <a:graphic>
          <a:graphicData uri="http://schemas.openxmlformats.org/drawingml/2006/table">
            <a:tbl>
              <a:tblPr/>
              <a:tblGrid>
                <a:gridCol w="2057400"/>
                <a:gridCol w="2819520"/>
                <a:gridCol w="297180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 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al 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e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krach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3A7B-B965-4F5B-B1BC-D6232FC50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sco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209680"/>
          <a:ext cx="8229600" cy="3962520"/>
        </p:xfrm>
        <a:graphic>
          <a:graphicData uri="http://schemas.openxmlformats.org/drawingml/2006/table">
            <a:tbl>
              <a:tblPr/>
              <a:tblGrid>
                <a:gridCol w="2133720"/>
                <a:gridCol w="1778040"/>
                <a:gridCol w="1792080"/>
                <a:gridCol w="2525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middel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= 1; max. 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sch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e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  &gt; Specia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al &gt; Re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krach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 = Specia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0B93-211C-463D-8948-0E01B126B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660066"/>
                </a:solidFill>
                <a:latin typeface="CRMackintosh"/>
                <a:ea typeface="CRMackintosh"/>
              </a:rPr>
              <a:t>Overeenstemm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7B7D-3827-4FA7-90CB-C23543877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09480" y="1447920"/>
          <a:ext cx="7925040" cy="4113000"/>
        </p:xfrm>
        <a:graphic>
          <a:graphicData uri="http://schemas.openxmlformats.org/drawingml/2006/table">
            <a:tbl>
              <a:tblPr/>
              <a:tblGrid>
                <a:gridCol w="3353040"/>
                <a:gridCol w="2286000"/>
                <a:gridCol w="2286000"/>
              </a:tblGrid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tiecoëfficient (</a:t>
                      </a:r>
                      <a:r>
                        <a:rPr b="1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krach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1224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ier 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1224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e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1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1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9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al onderwij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e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6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9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d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2d2d8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3" name="Tekstvak 7"/>
          <p:cNvSpPr/>
          <p:nvPr/>
        </p:nvSpPr>
        <p:spPr>
          <a:xfrm>
            <a:off x="2209680" y="61722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 is geen samenhang; 1 is perfecte samen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kstvak 8"/>
          <p:cNvSpPr/>
          <p:nvPr/>
        </p:nvSpPr>
        <p:spPr>
          <a:xfrm>
            <a:off x="620280" y="556272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lt; .05; **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&lt; 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Hoogsensitiviteit van </a:t>
            </a: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RMackintosh"/>
                <a:ea typeface="CRMackintosh"/>
              </a:rPr>
              <a:t>kinderen met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80880" y="2666880"/>
            <a:ext cx="8382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  <a:ea typeface="Papyrus"/>
              </a:rPr>
              <a:t>Er bestaat een statistisch betrouwbare samenhang tussen de oordelen van kinderen, ouders en leerkrach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  <a:ea typeface="Papyrus"/>
              </a:rPr>
              <a:t>Voor praktisch gebruik is deze overeenstemming echter niet groot genoeg om de beoordeling van hoogsensitiviteit van kinderen aan ouders of leerkrachten over te 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C5CE-31F4-45FD-8068-24E2A3610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9:02:37Z</dcterms:created>
  <dc:creator>Anna Bosman</dc:creator>
  <dc:description/>
  <dc:language>en-US</dc:language>
  <cp:lastModifiedBy>Anna Bosman</cp:lastModifiedBy>
  <cp:lastPrinted>2009-12-14T08:59:07Z</cp:lastPrinted>
  <dcterms:modified xsi:type="dcterms:W3CDTF">2009-12-18T13:10:44Z</dcterms:modified>
  <cp:revision>116</cp:revision>
  <dc:subject/>
  <dc:title>Complexity Theory: A new approach in science </dc:title>
</cp:coreProperties>
</file>