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537B-E8EF-4916-BF21-75CAFE34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953-627F-490B-A058-27925CBA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1C7-8D84-40C1-943B-25823D7C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9FF-EAC6-40DF-9A56-28369C95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E3A-48DD-4E73-94C6-8E7CEB7EA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C71-3675-4F29-8132-46EE4B1F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itleggen over de thermometer en dat we dergelijke instrumenten niet hebben in de psycholog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chien een file met overzicht van welke items bij welk constructen horen Walda en Smolewska apart weergev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A0B-E602-4752-AC36-5B87F42B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176-F194-4076-9BA0-BEAFC792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2F6A-5796-4453-A45D-7B213AEB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1F7D-5E7B-45D3-9359-73DDAAE2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1A1-9AD4-4723-837E-2E3BE007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E72-7B96-4DB8-AAD1-A961E264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F3-4A40-4470-BD3A-AED59C50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DA5-94CE-4465-9A30-5E1A57EF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2D6-1AD2-4F4F-8AB1-8695870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0D2-296D-4C15-83E0-B58F9B2E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3F2-F0F0-49F3-A75B-BC841C7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97F-8F2C-44A1-80DA-63C4709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58B-8247-425E-87C1-8B00E827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298-81C9-4806-97BE-DFC83FB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EC1-A5BA-49F9-BE72-82D4BF7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387-1218-484F-BFB8-7F35BD4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8690-76DF-4C25-8564-09594E1E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DynamiekFFF5F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0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</a:rPr>
              <a:t>Wetenschappelijk onderzoek naar Hoogsensitivite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Prof. dr. Anna M.T.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0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19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Lustrumcongres V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Sectie Orthopedagogiek van leren en ontwikk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F382-54F0-469F-8EA6-77A978C8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gemeten bij Volwassenen</a:t>
            </a:r>
            <a:br>
              <a:rPr sz="45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71516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et dank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Mijn collega wetenschappers (zie de bronnen aan het eind van deze present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339-43CD-4647-BC1E-3816ACF1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B29-BDA1-4592-B1C4-E8DBC97C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37C-0C3A-4AED-B13C-EF6981AD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03EA-447E-4F6E-9EBD-0CFBACE9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0BF-67EE-42F6-8794-1C32FC689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Niet </a:t>
            </a:r>
            <a:r>
              <a:rPr b="1" lang="en-GB" sz="4800" spc="-1" strike="noStrike">
                <a:solidFill>
                  <a:srgbClr val="660066"/>
                </a:solidFill>
                <a:latin typeface="CRMackintosh"/>
                <a:ea typeface="CRMackintosh"/>
              </a:rPr>
              <a:t>Onderzocht is de relatie tussen Hoogsensitiviteit 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93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Hoogbegaafdheid/meervoudige intellige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er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erstijl (begrijpen of uit het hoofd 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sstofverwerking met meerdere modalit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Rechterhersenhelft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Cognitieve voorkeur (visueel-ruimtelijk of 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ichaamst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Motoriek (fijne en gro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heel-deel ondersc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clusie: vooralsnog is 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éé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ewijs dat deze factoren gerelateerd zijn aan hoogsensitiv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9D20-A5F4-4F05-98A6-4CF600A3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0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</a:rPr>
              <a:t>Hartelijke dank voor uw belangstel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41907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Prof. dr. Anna M.T.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0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Sectie Orthopedagogiek van leren en ontwikk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356-D2C1-4690-BFE1-FBA62F82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  <a:ea typeface="CRMackintosh"/>
              </a:rPr>
              <a:t>Bronne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 N. (2000). High sensitivity as one source of fearfulness and shyness. In L. A. Schmidt &amp; J. Schulkin (Eds.),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 Extreme fear, shyness, and social Phobia: Origins, biological mechanisms, and clinical outcomes 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(pp. 251-272). New York: Oxford University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N., &amp; Aron, A. (1997). Sensory-processing sensitivity and its relation to introversion and emotionality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and Social Psychology, 73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345-36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 N., Aron, A., &amp; Davies, K. M. (2005). Adult shyness: The interaction of temperamental sensitivity and an adverse childhood environment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Social Psychology Bulletin, 3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81-197.</a:t>
            </a: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Benham, G. (2006). The highly sensitive person: Stress and physical symptom report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40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, 1433-144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Evers, A., Rasche, J., &amp; Schabracq, M. J. (2008). High sensory-processing sensitivity at work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International Journal of Stress Management, 15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89-1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Gortemaker, G. (2009).</a:t>
            </a:r>
            <a:r>
              <a:rPr b="0" i="1" lang="nl-NL" sz="1400" spc="-1" strike="noStrike">
                <a:solidFill>
                  <a:srgbClr val="000090"/>
                </a:solidFill>
                <a:latin typeface="Arial"/>
              </a:rPr>
              <a:t> Hoogsensitiviteit bij kinderen in het speciaal (basis)onderwijs. </a:t>
            </a:r>
            <a:r>
              <a:rPr b="0" lang="nl-NL" sz="1400" spc="-1" strike="noStrike">
                <a:solidFill>
                  <a:srgbClr val="000090"/>
                </a:solidFill>
                <a:latin typeface="Arial"/>
              </a:rPr>
              <a:t>Master scriptie Orthopedagogiek, Radboud Universiteit Nijme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Hofman, S. G., &amp; Bitran, S. (2007). Sensory-processing sensitivity in social anxiety disorder: Relationship to harm avoidance and diagnostic subtypes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. Journal of Anxiety Disorders, 2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944-9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Jerome, E. M., &amp; Liss, M. (2005). Relationships between sensory processing style, adult attachment, and coping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38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341-135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Liss, M., Mailloux, J., &amp; Erchull, M. J. (2008). The relationships between sensory processing sensitivity, alexithymia, autism, depression, and anxiety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45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255-2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50FA3E-9BB0-466E-8FE3-BD3343EDD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  <a:ea typeface="CRMackintosh"/>
              </a:rPr>
              <a:t>Bronne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Liss, M., Timmel, L., Baxley, K.,  &amp; Killingsworth, P. (2005). Sensory processing sensitivity and its relation to parental bonding, anxiety, and depression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39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429-143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Neal, J. A., Edelmann, R. J., &amp; Glachan, M. (2002). Behavioural inhibition and symptoms of anxiety and depression: Is there a specific relationship with social phobia?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British Journal of Clinical Psychology, 4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361-3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Meyer, B. J., Ajchenbrenner, M., &amp; Bowles, D. P. (2005). Sensory sensitiviy, attachment experiences, and rejection responses among adults with borderline and avoidant feature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Disorders, 19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641-6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Meyer, B. J., &amp; Carver, C.S. (2000). Negative childhood accounts, sensitivity, and pessimism: A study of avoidant personality disorder features in college student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Disorders, 14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, 233-2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Mulders, S.A.M.S. (2008). </a:t>
            </a:r>
            <a:r>
              <a:rPr b="0" i="1" lang="en-GB" sz="1400" spc="-1" strike="noStrike">
                <a:solidFill>
                  <a:srgbClr val="000090"/>
                </a:solidFill>
                <a:latin typeface="Arial"/>
              </a:rPr>
              <a:t>Hooggevoelige personen: Hoog gevoelig voor burnout? </a:t>
            </a: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Master scriptie Gezondheidspsychologie, Open Universiteit Ned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Schuller, I., van Zijp, S., &amp; van der Zant-Willers, S. (2006). </a:t>
            </a:r>
            <a:r>
              <a:rPr b="0" i="1" lang="en-GB" sz="1400" spc="-1" strike="noStrike">
                <a:solidFill>
                  <a:srgbClr val="000090"/>
                </a:solidFill>
                <a:latin typeface="Arial"/>
              </a:rPr>
              <a:t>Werkstress, coping en persoonlijkheid met specifieke aandacht voor hoogsensitiviteit, neuroticisme en introversie</a:t>
            </a: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. Master scriptie Psychologie van Arbeid, Gezondheid en Organisatie, Universiteit Utre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Slaats Baeten, E. (2007)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Schoolbeleving en ervaren gezondheidsklachten van hoogsensitieve leerlingen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. Masterscriptie Open Universiteit, the Netherla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Walda, S. (2007)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Hoogsensitiviteit bij kinderen in het basisonderwijs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. Master scriptie Radboud Universiteit Nijme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59496B-562E-449D-BE8A-F3D25C26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Theoretisch ka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) Twee hersensyste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Behavioural Activitation System (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voelig voor beloning en vermijden van straf en dop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Behavioural Inhibition System (BIS)</a:t>
            </a: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voelig voor straf en niet-beloning en nieuwigheid; seroto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) Relatieve werking van BAS en BIS bepalen mede het temper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) Interactie temperament en opvoeding =&gt; persoon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2E25-3A00-463D-B796-1A575B49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‘meten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Ho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(vooralsnog) met een vragen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Wat meet de vragenlij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Karaktert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Temper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‘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stold’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Hoeveel dimens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1: hoogsensitiviteit (Aron &amp; Aron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2: positieve en negatieve sensitiviteit (Walda, 200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3: snelheid van prikkeling, esthetische sensitiviteit, l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sensorische drempel, (Smolewska e.a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60F4-8400-4D20-A659-F14085E9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gemeten bij kinderen</a:t>
            </a:r>
            <a:br>
              <a:rPr sz="45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4582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et dank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. Joep T.A. Bakker (Radboud Universiteit Nijme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s. G. Gortemaker (Radboud Universiteit Nijme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s. Sietske A.E. Walda (Braams &amp; Partners, Dev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F1EC-2AC9-431C-AA6D-F6FF4349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Onderzoeksvrag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0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Zijn er verschillen in sensitiviteit tussen leerlingen in het regulier en speciaal onderwij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Wat is de overeenkomst tussen de  oordelen van kinderen, ouders en leerkrachten over hoogsensitiviteit  bij kind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DD15-B062-47CE-BA71-6E31E0D5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Deelnem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752480"/>
          <a:ext cx="7848720" cy="4667400"/>
        </p:xfrm>
        <a:graphic>
          <a:graphicData uri="http://schemas.openxmlformats.org/drawingml/2006/table">
            <a:tbl>
              <a:tblPr/>
              <a:tblGrid>
                <a:gridCol w="2057400"/>
                <a:gridCol w="2819520"/>
                <a:gridCol w="29718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E5C-D571-496C-8465-65CCC902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sco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209680"/>
          <a:ext cx="8229600" cy="3962520"/>
        </p:xfrm>
        <a:graphic>
          <a:graphicData uri="http://schemas.openxmlformats.org/drawingml/2006/table">
            <a:tbl>
              <a:tblPr/>
              <a:tblGrid>
                <a:gridCol w="2133720"/>
                <a:gridCol w="1778040"/>
                <a:gridCol w="1792080"/>
                <a:gridCol w="2525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iddel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= 1; max.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 &gt; Specia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&gt; Re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= Specia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EC5-E274-47A1-BADD-7E45884A3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Overeenstemm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759D-3306-4721-A6F8-B476F0D1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1447920"/>
          <a:ext cx="7925040" cy="4113000"/>
        </p:xfrm>
        <a:graphic>
          <a:graphicData uri="http://schemas.openxmlformats.org/drawingml/2006/table">
            <a:tbl>
              <a:tblPr/>
              <a:tblGrid>
                <a:gridCol w="3353040"/>
                <a:gridCol w="2286000"/>
                <a:gridCol w="2286000"/>
              </a:tblGrid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ecoëfficient (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6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3" name="Tekstvak 7"/>
          <p:cNvSpPr/>
          <p:nvPr/>
        </p:nvSpPr>
        <p:spPr>
          <a:xfrm>
            <a:off x="2209680" y="6172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is geen samenhang; 1 is perfecte samen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vak 8"/>
          <p:cNvSpPr/>
          <p:nvPr/>
        </p:nvSpPr>
        <p:spPr>
          <a:xfrm>
            <a:off x="620280" y="55627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lt; .05; **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lt; 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van 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kinderen met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266688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  <a:ea typeface="Papyrus"/>
              </a:rPr>
              <a:t>Er bestaat een statistisch betrouwbare samenhang tussen de oordelen van kinderen, ouders en leerkrach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  <a:ea typeface="Papyrus"/>
              </a:rPr>
              <a:t>Voor praktisch gebruik is deze overeenstemming echter niet groot genoeg om de beoordeling van hoogsensitiviteit van kinderen aan ouders of leerkrachten over te 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8CD-5616-4B2A-BE7F-A871CB54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9:02:37Z</dcterms:created>
  <dc:creator>Anna Bosman</dc:creator>
  <dc:description/>
  <dc:language>en-US</dc:language>
  <cp:lastModifiedBy>Anna Bosman</cp:lastModifiedBy>
  <cp:lastPrinted>2009-12-14T08:59:07Z</cp:lastPrinted>
  <dcterms:modified xsi:type="dcterms:W3CDTF">2009-12-18T13:10:44Z</dcterms:modified>
  <cp:revision>116</cp:revision>
  <dc:subject/>
  <dc:title>Complexity Theory: A new approach in science </dc:title>
</cp:coreProperties>
</file>