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144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F172B-65BE-4ADA-8AD3-27E8F32416C6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B3ABD-DD4D-458D-9557-D1AD7F39B2FA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5A58E7-32ED-4A75-8402-BCCD8370679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57079-725B-4E7B-9628-92BD1B138BFC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27BEF-7F62-402F-BA66-49A0C0BC9BED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A98C5-61CD-4735-8FF0-13B4F47A3D11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911C4-4375-4A6C-82F4-1F29C6614173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4FC1C-3201-4A5B-B158-1399495A4F3F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B5708-B1B4-401B-8A3E-3F39955897E0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98875-55D7-49CA-B923-27D80B7C1F7C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3923B4-F029-475B-BBCB-20E3CF34662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04E9F-855A-4319-89D7-BB1814CECE73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4E2F81-E9AA-4A64-9270-739AC2EC6E1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CECC5-0219-4EE2-AB7B-01DCF71AD28B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AF6D9-6D6F-497A-A7E8-322AED50F5F3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3D2F5-0455-4932-860C-4A5E1B991F39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B736C-8B2A-4705-9FFE-24A90D796690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8D7368-245F-406F-A7F5-308CCAFE41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0EDDD-4B84-41BA-8A65-4741387ADA70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16A2E-DE9B-4795-B97E-22121E2A4423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2CCE-F6AB-42D1-9DB3-E8BE68552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A103-4893-4F5A-B675-03E026CD7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2A66-8D8F-4460-B243-461269E9A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3A0E-3B39-49B1-B82B-243E83440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A5BC-6F10-4A7B-9DDB-529D6E6A84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AED7-3202-42D9-BC23-323BA6372A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46E9-217A-4E66-ADF0-A6C67E52C1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6C3F-8682-4F44-A5A9-460B539F04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0815E-19B4-4998-B870-6E13046A4F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BCA2-FAAB-4A78-8AA8-310DEA2E76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A615C-E666-467F-936B-C287B04434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B3163-C3A1-4777-9EF9-E2B3D8A78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F88F8-A84C-4B9C-BFE7-975D1DC19E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358B-0470-459B-93F1-26C1AD5743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612D-FA50-466E-BB49-68A4FF079F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B83A-1590-4732-AFD3-1A8C8A4056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1FB33-9455-4571-9DD1-3400277AB1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F3459-C88F-4E09-BB9E-4905CCE72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2ABD-78EA-42CE-BA79-BA22917C3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905C-1BC4-4A7E-82F1-D41F0C86E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A112-CDD5-4BD5-93D8-3295E27DE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0369-1EE4-4CAD-9598-7DC98B633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51A5-A6C7-429E-B715-199F658BD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FF93-A35C-4BA9-AC30-AAE50ACAD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E29F86-21B7-4A3C-8DCE-C546994BE8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FEB013-6A60-4CC9-BCA8-FEBFEE396A93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143000" y="631800"/>
            <a:ext cx="80773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Effectief lees- en spellingonderwijs</a:t>
            </a:r>
            <a:br>
              <a:rPr sz="6000"/>
            </a:b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28600" y="3809880"/>
            <a:ext cx="68580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660066"/>
                </a:solidFill>
                <a:latin typeface="Arial"/>
              </a:rPr>
              <a:t>Prof. dr. A. M. T. Bos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Radboud Universiteit Nijme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Sectie Orthopedagogiek van Leren en Ontwikk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www.annabosman.e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3a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20720" y="1800360"/>
          <a:ext cx="8499600" cy="46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800360"/>
                    <a:ext cx="849960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1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60360" y="1905120"/>
          <a:ext cx="8112240" cy="44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905120"/>
                    <a:ext cx="8112240" cy="44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2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0000" y="1905120"/>
          <a:ext cx="793908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05120"/>
                    <a:ext cx="793908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762120" y="4572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3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1600200"/>
          <a:ext cx="868068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00200"/>
                    <a:ext cx="86806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762120" y="30492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lling E3b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9640" y="1676520"/>
          <a:ext cx="883296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76520"/>
                    <a:ext cx="883296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23005f"/>
                </a:solidFill>
                <a:latin typeface="Arial"/>
              </a:rPr>
              <a:t>Kernvraag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762120" y="1981080"/>
            <a:ext cx="8420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Wat maakt de methodiek effectief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Inhoudelijk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128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Klankzuivere periode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basis is het fonologisch princ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lank-synthese ben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lankgeb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zen, schrijv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vanaf het begin, elke 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Niet klankzuivere periode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(basis zijn de morfologische en etymologische princi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ategorieën, regels en denkwij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tekst) lezen, schrijv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elke 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0" y="53316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Didactisch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10920" y="182844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d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recte instructie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iënteren, isoleren en gener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dap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ulti-sensorieel (auditief, visueel, motoris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oe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356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Organisatorisch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10920" y="1828800"/>
            <a:ext cx="88390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roepsgewijze instr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rontale groepsops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fferenti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ast lesrit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dequate aankleding klaslok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ZLKLS is gebaseerd op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864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instructi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door de leerkracht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direct instructie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olledige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oriënteringsbasi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Russische leerpsycholog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gestructureerd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anpak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taakanalytis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erhaling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n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oefening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overl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vast les- en dagritme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vertrouwd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multisensoriël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asi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belicha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n het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Nederland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regels en denkwijz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v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leren lez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obleemgebie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t maakt de methodiek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REVENTIE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De methodie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838080" y="2133720"/>
            <a:ext cx="8420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3600" spc="-1" strike="noStrike">
                <a:solidFill>
                  <a:srgbClr val="660066"/>
                </a:solidFill>
                <a:latin typeface="Arial"/>
              </a:rPr>
              <a:t>‘</a:t>
            </a:r>
            <a:r>
              <a:rPr b="1" lang="nl-NL" sz="3600" spc="-1" strike="noStrike">
                <a:solidFill>
                  <a:srgbClr val="660066"/>
                </a:solidFill>
                <a:latin typeface="Arial"/>
              </a:rPr>
              <a:t>Zo leer je kinderen lezen en spellen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660066"/>
                </a:solidFill>
                <a:latin typeface="Arial"/>
              </a:rPr>
              <a:t>ontwikkeld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660066"/>
                </a:solidFill>
                <a:latin typeface="Arial"/>
              </a:rPr>
              <a:t>Drs. José Schrav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23005f"/>
                </a:solidFill>
                <a:latin typeface="Arial"/>
              </a:rPr>
              <a:t>Advies: Trakteer uzelf</a:t>
            </a:r>
            <a:endParaRPr b="0" lang="en-US" sz="4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864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ap: 32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VD: 80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ap + DVD: 102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bestellen v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www.zoleerjekinderenlezenenspel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PS: ik heb geen aandelen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ale dank aa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rs. Jos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BO ‘De Schalm’ 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BS ‘Het kofschip’ te Zeven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5800" y="1066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Het suc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5800" y="2514600"/>
            <a:ext cx="8915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660066"/>
                </a:solidFill>
                <a:latin typeface="Arial"/>
              </a:rPr>
              <a:t>op het Regulier Basisonderwij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scores 2007-200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17600" y="2514600"/>
            <a:ext cx="92012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ito Leesscores DMT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914400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62120" y="449280"/>
            <a:ext cx="8420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3005f"/>
                </a:solidFill>
                <a:latin typeface="Arial"/>
              </a:rPr>
              <a:t>Cito Spellingscor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8534160" cy="19335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457200" y="4267080"/>
            <a:ext cx="2666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762120" y="4876920"/>
            <a:ext cx="8686800" cy="1712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1430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85800" y="1066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Het suc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685800" y="2514600"/>
            <a:ext cx="8915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660066"/>
                </a:solidFill>
                <a:latin typeface="Arial"/>
              </a:rPr>
              <a:t>op het Speciaal Basisonderwij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91440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1a  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60360" y="1905120"/>
          <a:ext cx="76550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905120"/>
                    <a:ext cx="76550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2a   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676520"/>
          <a:ext cx="8832960" cy="47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76520"/>
                    <a:ext cx="8832960" cy="47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4:14:26Z</dcterms:created>
  <dc:creator/>
  <dc:description/>
  <dc:language>en-US</dc:language>
  <cp:lastModifiedBy>Anna Bosman</cp:lastModifiedBy>
  <dcterms:modified xsi:type="dcterms:W3CDTF">2009-10-05T21:35:06Z</dcterms:modified>
  <cp:revision>46</cp:revision>
  <dc:subject/>
  <dc:title>Ontwikkelingspsychologie van opvoeding en onderwijs  PWB2100</dc:title>
</cp:coreProperties>
</file>