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8A2BC-AFC9-47A1-86C9-E45A0FA1C89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B8ED-141C-479A-9175-B7858C83FD95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EAE738-2EA8-4CD8-A1F1-5F6A6A2024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3ACB3-A749-43EC-83D0-A98EDC754CA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6C120-2894-4CDA-9205-C5EAF2DA106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267C3-F931-472D-B7B8-F3E70382C927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951E5-169A-4076-B00D-B282AF8DE94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5AD2-D82F-49CE-B65E-BB0B25B4063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BAB8-9C1A-4951-8726-7A5793F2502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B2278-F55E-449C-9578-259591BBF4E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C2B6A0-C239-4478-9572-F955A6CBE2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58410-DD6E-4528-92A6-2F5A2CDC3F3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560F19-ACE1-4A3E-BE25-6BCAA106A2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ACBF5-3D84-4563-B469-16C93ADF2BB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EB48E-85E7-4AE5-911A-E921F517D4E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29FA5-D07B-4571-A873-7638976B49A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2867-C624-4E9A-BD00-7B1F6C7BEA8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577CE1-BF84-4DF9-926D-C9655B76C6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19654-D7D8-4E19-A0C1-4D803B4D394A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8CF7F-29C6-4FBC-8AC9-3C1C3F29549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9F98-E58D-4636-AE28-06819B705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71F3-29FA-4B41-8FDD-FAC6E486D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B5A5-6982-424B-AC3E-7602B7263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5F51-EA90-4920-B458-E3756FD0E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DEB7-06AA-4E07-975B-21D0C11518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F20C-60DE-491E-855E-F3E2B3E83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9C41-6F57-405B-B84B-FBE3FD1131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09A5-8240-496A-9ACD-CEEC4268CC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D95F-ADC0-41C0-A5E9-D0408271F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0E7A-BEB3-4085-8421-EF411753CC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A6A0-5613-4AF1-9B13-5456A07B2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BCAF-FA15-4BB9-A5D1-355EFE772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D531-7C60-42AC-A12C-4F4E61E4F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439F-4260-481A-8DAC-D437770A9F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B9C9-8BFD-4ED3-AD81-A1FA2C0A85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52C7-FE5F-4054-8EF8-D5E3DD42B9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DFD9-BFEF-4AED-A86F-305DD0418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AAEE-2313-48AE-B8D5-E53BA9BAC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ECA-1B90-41D3-8068-E24499042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A98B-8C36-435F-A7C1-6B09DDF8B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5F8F-9C0A-4B93-BF48-78636D72D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9980-BBB4-47BD-AF9D-2CDE28104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15BB-19C6-418A-9EE1-B45952E7B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A596-04DE-4D60-9FF3-0FD76D8C7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26EDF6-8D0E-4F97-936A-625FB6D387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4A6CFE-F1F5-434F-B148-CE8070372D54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318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Effectief lees- en spellingonderwijs</a:t>
            </a:r>
            <a:br>
              <a:rPr sz="6000"/>
            </a:b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3809880"/>
            <a:ext cx="685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Prof. dr. A. M. T. Bo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Radboud Universiteit Nijm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Sectie Orthopedagogiek van Leren en Ontwikk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www.annabosman.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3a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20720" y="1800360"/>
          <a:ext cx="849960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800360"/>
                    <a:ext cx="849960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1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60360" y="1905120"/>
          <a:ext cx="8112240" cy="44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811224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2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1905120"/>
          <a:ext cx="79390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79390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762120" y="4572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3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600200"/>
          <a:ext cx="868068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6806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762120" y="3049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lling E3b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676520"/>
          <a:ext cx="883296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23005f"/>
                </a:solidFill>
                <a:latin typeface="Arial"/>
              </a:rPr>
              <a:t>Kernvraa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62120" y="1981080"/>
            <a:ext cx="842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Wat maakt de methodiek effectief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Inhoudelijk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Klankzuivere period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asis is het fonologisch princ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-synthese ben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ge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anaf het begin, 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iet klankzuivere period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(basis zijn de morfologische en etymologische princi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tegorieën, regels en denkwij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tekst) 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0" y="53316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Didact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0920" y="18284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recte instructie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iënteren, isoleren en gener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ap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ulti-sensorieel (auditief, visueel, motoris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e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56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Organisator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0920" y="1828800"/>
            <a:ext cx="88390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roepsgewijz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rontale groepsop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fferenti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ast lesrit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equate aankleding klaslok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ZLKLS is gebaseerd op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864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instructi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oor de leerkracht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direct instructie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olledige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riënterings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ussische leerpsycholog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gestructureerd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anpak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taakanalytis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erhaling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n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efening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verl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vast les- en dagritm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ertrouwd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multisensoriël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elicha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n het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Nederland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egels en denkwijz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v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leren lez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obleemgebie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t maakt de methodiek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EVENTIE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De methodie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38080" y="2133720"/>
            <a:ext cx="8420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‘</a:t>
            </a: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Zo leer je kinderen lezen en spellen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ontwikkeld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23005f"/>
                </a:solidFill>
                <a:latin typeface="Arial"/>
              </a:rPr>
              <a:t>Advies: Trakteer uzelf</a:t>
            </a:r>
            <a:endParaRPr b="0" lang="en-US" sz="4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864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: 3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VD: 80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 + DVD: 10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estellen v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ww.zoleerjekinderenlezenenspel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PS: ik heb geen aandelen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ale dank a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BO ‘De Schalm’ 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BS ‘Het kofschip’ te Zeve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Regulier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scores 2007-200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17600" y="2514600"/>
            <a:ext cx="9201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ito Leesscores DMT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914400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62120" y="44928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3005f"/>
                </a:solidFill>
                <a:latin typeface="Arial"/>
              </a:rPr>
              <a:t>Cito Spellingsco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8534160" cy="1933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57200" y="4267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8686800" cy="1712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1430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Speciaal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1440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1a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60360" y="1905120"/>
          <a:ext cx="76550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76550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2a 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676520"/>
          <a:ext cx="8832960" cy="47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14:26Z</dcterms:created>
  <dc:creator/>
  <dc:description/>
  <dc:language>en-US</dc:language>
  <cp:lastModifiedBy>Anna Bosman</cp:lastModifiedBy>
  <dcterms:modified xsi:type="dcterms:W3CDTF">2009-10-05T21:35:06Z</dcterms:modified>
  <cp:revision>46</cp:revision>
  <dc:subject/>
  <dc:title>Ontwikkelingspsychologie van opvoeding en onderwijs  PWB2100</dc:title>
</cp:coreProperties>
</file>