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144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8205D-7F71-48B9-BF9F-E2D2A5141A53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385B4-9CF3-411D-A89D-EAB2DE6BBD60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B998A3-0931-4C43-9C30-1C106FE2202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62E1D-4619-42F9-A78D-CA52235E5519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3E1EE-288A-4289-9C11-C093CD708BA9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08E83-7B4A-4ABD-A818-5CDB47FD7CA7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5EEF2-287E-468B-8085-913514743386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B321D-4106-47E9-AA9F-7A616425A8C2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15C4B-9371-48C0-8613-D221FE7C7E6D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7E608-4C8B-4A61-BAC2-55AB707EE65D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3A27AB-7263-45B6-9C6C-E8283DE2733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80B0E-2422-4425-9A35-84DB0A10C1C9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4538D2-1D4A-4E98-9452-ECEB70D873D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AE620-37D6-4899-BD14-7D802E87EC31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874AC-FA97-425F-8DE4-91BF00E2593E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EBCEB-A0EB-48B2-8A98-110DC0458984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6BFD9-3B18-4E1E-9F8F-71924E2CC122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777A45-0E52-45AD-BA9A-DF364398124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DDBC9-DA40-49F8-9006-D1FC5F54CD7D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B9617-DC7E-401D-AC8D-ACF4DAD69E74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DFE7-1BD5-4DA7-BAE4-820249F64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73FE-F150-4AAF-BCD4-EF38CB97F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6F1A-7841-48FB-B954-52B4EFC99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20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536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20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536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6B6C-E64E-42E2-9389-674F47797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7839C-9B19-4519-9174-80053C8749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3330-45E2-45F8-8E58-8D466EF5F7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CCE0-824C-4F21-9357-221EDECD8D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1F577-B4EC-43C3-9550-F0B3F5E699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4CAED-9C94-487A-8618-26652E5DAD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463680"/>
            <a:ext cx="841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A30E1-E13F-4B8B-950C-3F11A38B72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3B79-3086-4913-A934-CCD184AD22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F533-88D9-44ED-9038-8975E69B4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27CF5-268B-4512-AB2B-36965F7C52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DF5A8-8EAE-4395-B5FA-3A09EB2D2A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D21B9-53DF-42D3-A844-290D099B21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21AE9-02EE-4298-9FB7-97C7C0F851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20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536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20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536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BE880-5C8A-4967-8333-1FD0EA3CA5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1BB9-48C7-48D3-B2EF-AF233A9E4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A02E-B113-4701-85A4-5FEE4E034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CB517-B39F-4DF2-ADC6-C81023E0D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2680" y="463680"/>
            <a:ext cx="841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DD0B-1DE6-4ED1-9986-F0DFCE887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26EB-A33E-4D02-9EA8-2B193B43C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A5CD-06D1-463D-8746-BCAF76DFAC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4C3A-E24E-447A-9196-EE1F70604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743040" y="6245280"/>
            <a:ext cx="206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384720" y="624528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98840" y="6248160"/>
            <a:ext cx="2062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8192D2-1213-4E1A-A4AC-3DC10325AB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43040" y="6245280"/>
            <a:ext cx="206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384720" y="624528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098840" y="6248160"/>
            <a:ext cx="2062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1BF72F-34FD-400D-B9E0-3A894A9A1C15}" type="slidenum">
              <a:rPr b="0" lang="nl-NL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143000" y="631800"/>
            <a:ext cx="807732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Effectief lees- en spellingonderwijs</a:t>
            </a:r>
            <a:br>
              <a:rPr sz="6000"/>
            </a:br>
            <a:br>
              <a:rPr sz="36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28600" y="3809880"/>
            <a:ext cx="685800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660066"/>
                </a:solidFill>
                <a:latin typeface="Arial"/>
              </a:rPr>
              <a:t>Prof. dr. A. M. T. Bos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Radboud Universiteit Nijme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Sectie Orthopedagogiek van Leren en Ontwikke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www.annabosman.e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MT 3a  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720" y="1800360"/>
          <a:ext cx="8499600" cy="46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800360"/>
                    <a:ext cx="849960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VI-1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60360" y="1905120"/>
          <a:ext cx="8112240" cy="44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905120"/>
                    <a:ext cx="8112240" cy="44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VI-2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00000" y="1905120"/>
          <a:ext cx="793908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05120"/>
                    <a:ext cx="793908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762120" y="4572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VI-3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9640" y="1600200"/>
          <a:ext cx="868068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00200"/>
                    <a:ext cx="86806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762120" y="30492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lling E3b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9640" y="1676520"/>
          <a:ext cx="883296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76520"/>
                    <a:ext cx="883296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6600" spc="-1" strike="noStrike">
                <a:solidFill>
                  <a:srgbClr val="23005f"/>
                </a:solidFill>
                <a:latin typeface="Arial"/>
              </a:rPr>
              <a:t>Kernvraag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762120" y="1981080"/>
            <a:ext cx="84200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Wat maakt de methodiek effectief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23005f"/>
                </a:solidFill>
                <a:latin typeface="Arial"/>
              </a:rPr>
              <a:t>Inhoudelijke principes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1128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Klankzuivere periode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basis is het fonologisch princ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lank-synthese ben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klankgeba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zen, schrijven en spellen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vanaf het begin, elke 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Niet klankzuivere periode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(basis zijn de morfologische en etymologische princip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ategorieën, regels en denkwij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(tekst) lezen, schrijven en spellen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elke d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3200" y="533160"/>
            <a:ext cx="841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23005f"/>
                </a:solidFill>
                <a:latin typeface="Arial"/>
              </a:rPr>
              <a:t>Didactische principes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10920" y="182844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rd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irecte instructie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riënteren, isoleren en general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dap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ulti-sensorieel (auditief, visueel, motoris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oe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356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23005f"/>
                </a:solidFill>
                <a:latin typeface="Arial"/>
              </a:rPr>
              <a:t>Organisatorische principes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10920" y="1828800"/>
            <a:ext cx="88390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groepsgewijze instr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rontale groepsops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ifferenti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vast lesrit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dequate aankleding klaslok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400" spc="-1" strike="noStrike">
                <a:solidFill>
                  <a:srgbClr val="23005f"/>
                </a:solidFill>
                <a:latin typeface="Arial"/>
              </a:rPr>
              <a:t>ZLKLS is gebaseerd op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8640" y="14475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instructie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door de leerkracht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direct instructie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olledige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oriënteringsbasis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Russische leerpsycholog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gestructureerde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anpak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taakanalytis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herhaling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n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oefening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overl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vast les- en dagritme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vertrouwd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multisensoriële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basis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belicha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kennis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van het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Nederlands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regels en denkwijz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660066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kennis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ver </a:t>
            </a:r>
            <a:r>
              <a:rPr b="0" i="1" lang="en-US" sz="2800" spc="-1" strike="noStrike">
                <a:solidFill>
                  <a:srgbClr val="660066"/>
                </a:solidFill>
                <a:latin typeface="Arial"/>
              </a:rPr>
              <a:t>leren lezen en spellen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(probleemgebie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18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it maakt de methodiek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REVENTIE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De methodiek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838080" y="2133720"/>
            <a:ext cx="8420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nl-NL" sz="3600" spc="-1" strike="noStrike">
                <a:solidFill>
                  <a:srgbClr val="660066"/>
                </a:solidFill>
                <a:latin typeface="Arial"/>
              </a:rPr>
              <a:t>‘</a:t>
            </a:r>
            <a:r>
              <a:rPr b="1" lang="nl-NL" sz="3600" spc="-1" strike="noStrike">
                <a:solidFill>
                  <a:srgbClr val="660066"/>
                </a:solidFill>
                <a:latin typeface="Arial"/>
              </a:rPr>
              <a:t>Zo leer je kinderen lezen en spellen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660066"/>
                </a:solidFill>
                <a:latin typeface="Arial"/>
              </a:rPr>
              <a:t>ontwikkeld d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nl-NL" sz="3600" spc="-1" strike="noStrike">
                <a:solidFill>
                  <a:srgbClr val="660066"/>
                </a:solidFill>
                <a:latin typeface="Arial"/>
              </a:rPr>
              <a:t>Drs. José Schrav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800" spc="-1" strike="noStrike">
                <a:solidFill>
                  <a:srgbClr val="23005f"/>
                </a:solidFill>
                <a:latin typeface="Arial"/>
              </a:rPr>
              <a:t>Advies: Trakteer uzelf</a:t>
            </a:r>
            <a:endParaRPr b="0" lang="en-US" sz="48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8640" y="17521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ap: 32,- 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VD: 80,- 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Map + DVD: 102,- 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bestellen v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www.zoleerjekinderenlezenenspellen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PS: ik heb geen aandelen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ciale dank aa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rs. José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BO ‘De Schalm’ te Zw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BS ‘Het kofschip’ te Zeven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685800" y="10666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Het succ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5800" y="2514600"/>
            <a:ext cx="8915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660066"/>
                </a:solidFill>
                <a:latin typeface="Arial"/>
              </a:rPr>
              <a:t>op het Regulier Basisonderwij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AVI-scores 2007-200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Afbeelding 3" descr="AVI-scores.tiff"/>
          <p:cNvPicPr/>
          <p:nvPr/>
        </p:nvPicPr>
        <p:blipFill>
          <a:blip r:embed="rId1"/>
          <a:stretch/>
        </p:blipFill>
        <p:spPr>
          <a:xfrm>
            <a:off x="230040" y="2514600"/>
            <a:ext cx="93790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Cito Leesscores DMT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kstvak 3"/>
          <p:cNvSpPr/>
          <p:nvPr/>
        </p:nvSpPr>
        <p:spPr>
          <a:xfrm>
            <a:off x="2776680" y="360684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Afbeelding 4" descr="DMT-2 Kofschip.tiff"/>
          <p:cNvPicPr/>
          <p:nvPr/>
        </p:nvPicPr>
        <p:blipFill>
          <a:blip r:embed="rId1"/>
          <a:stretch/>
        </p:blipFill>
        <p:spPr>
          <a:xfrm>
            <a:off x="382680" y="2362320"/>
            <a:ext cx="92962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762120" y="449280"/>
            <a:ext cx="8420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23005f"/>
                </a:solidFill>
                <a:latin typeface="Arial"/>
              </a:rPr>
              <a:t>Cito Spellingscor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4267080"/>
            <a:ext cx="2666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roe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34960" y="4800600"/>
            <a:ext cx="8686800" cy="1712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14300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roe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Afbeelding 6" descr="Cito Spelling 3.tiff"/>
          <p:cNvPicPr/>
          <p:nvPr/>
        </p:nvPicPr>
        <p:blipFill>
          <a:blip r:embed="rId2"/>
          <a:stretch/>
        </p:blipFill>
        <p:spPr>
          <a:xfrm>
            <a:off x="306360" y="1905120"/>
            <a:ext cx="920736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685800" y="10666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Het succ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85800" y="2514600"/>
            <a:ext cx="8915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660066"/>
                </a:solidFill>
                <a:latin typeface="Arial"/>
              </a:rPr>
              <a:t>op het Speciaal Basisonderwij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91440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MT 1a    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60360" y="1905120"/>
          <a:ext cx="76550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1905120"/>
                    <a:ext cx="76550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DMT 2a          2006-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1676520"/>
          <a:ext cx="8832960" cy="47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76520"/>
                    <a:ext cx="8832960" cy="47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4:14:26Z</dcterms:created>
  <dc:creator/>
  <dc:description/>
  <dc:language>en-US</dc:language>
  <cp:lastModifiedBy>Anna Bosman</cp:lastModifiedBy>
  <dcterms:modified xsi:type="dcterms:W3CDTF">2009-11-18T07:24:24Z</dcterms:modified>
  <cp:revision>49</cp:revision>
  <dc:subject/>
  <dc:title>Ontwikkelingspsychologie van opvoeding en onderwijs  PWB2100</dc:title>
</cp:coreProperties>
</file>