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144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AE828-E27F-4125-944C-D3F47F074204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3E6CD-61D2-4170-B4BE-25C4FC83CBB5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34AD31-140B-4A10-A2F0-31E7CB1235D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8099A-B557-4C28-8D63-B9801AF28EBE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E080A-D3C3-4BAA-86EA-F5B6AC075C12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22424-EFC5-4FF7-889A-95A1AB540760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C4849-3E3E-4F3B-8C73-8C991BA0CD42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B0DCA-A775-41DF-AE8D-CD7C83EB81DA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1AB5A-D15C-4A4E-8934-BF52891B86B8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CBBB1-8CF3-4C57-B969-41DCCB2A0007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88B374-F54D-4AB0-9792-61F3E5EE117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8F76F-86A3-402C-807E-A3226BEEB6DC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9CA2F0-59B8-4260-9FCB-BDD4F6CE67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C6036-62A9-4205-BACB-E6E781CCD893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F5A90-D3F8-4199-9EF1-741D7BD8C4CC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2F15C-A1BA-4CB9-AB0C-AD90B55B962E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E31E8-8C19-4996-8E9B-A10F07B73672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697833-48D5-4AA7-B84A-00CA603E80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AE1EF-E0D6-4788-865F-766F8AEDDDF2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617BC-99AD-4C7E-A2AA-4865D013B5D1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783B-74C4-4481-8658-3626E09FD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6C0F-44E6-4332-B683-73B5E1FA8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46C4-6294-4BD8-B683-C1912662A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1F7F-3D9F-409E-8BCD-C1FFBECE9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442F-9F68-4144-A5B8-D86D72231B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456E-0CB2-423B-AD34-6122A6F2D9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CB11-4E8A-48E0-B07A-B434D0B2AF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E32F-54B1-4419-AEC3-2E5DDA8A94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3C32-2A8B-46CA-BFD1-A9CA1F5307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29FC-4DBC-4F67-BFB7-5CDC7E1D40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66B4-8E32-4646-BE69-CA9BF6AC80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DF6F-6F6E-4F6D-A4FF-7D5AED87B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433C-FD07-447C-80A4-6BF4892C46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5578-69A4-4449-9A95-CAE20C760F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28FC-4BA8-40C0-B0A4-25E50339CD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D571-1F89-43C3-B8DA-660329E41D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5214-874A-4F92-AC64-2404B83C2C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722A-FDA2-438A-8E91-469ED47CA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0870-6D5A-4810-A013-45A51603B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C460-0D01-4141-8F67-44E7208BA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0903-518F-441B-989B-3CD033058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37B8-A6BB-447C-AC7E-4451F07BC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AA97-0DF6-417F-8982-AB6A31210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F22D-076A-484C-9E7B-299A291D6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E83F67-1E90-4293-80FA-F7A88C6874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204642-67D2-463B-A4C2-6084431FDD07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143000" y="631800"/>
            <a:ext cx="80773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Effectief lees- en spellingonderwijs</a:t>
            </a:r>
            <a:br>
              <a:rPr sz="6000"/>
            </a:b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28600" y="3809880"/>
            <a:ext cx="68580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660066"/>
                </a:solidFill>
                <a:latin typeface="Arial"/>
              </a:rPr>
              <a:t>Prof. dr. A. M. T. Bos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Radboud Universiteit Nijme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Sectie Orthopedagogiek van Leren en Ontwikk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www.annabosman.e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3a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720" y="1800360"/>
          <a:ext cx="8499600" cy="46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800360"/>
                    <a:ext cx="849960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1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60360" y="1905120"/>
          <a:ext cx="8112240" cy="44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905120"/>
                    <a:ext cx="8112240" cy="44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2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1905120"/>
          <a:ext cx="793908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05120"/>
                    <a:ext cx="793908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762120" y="4572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3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9640" y="1600200"/>
          <a:ext cx="868068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00200"/>
                    <a:ext cx="86806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762120" y="30492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lling E3b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1676520"/>
          <a:ext cx="883296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76520"/>
                    <a:ext cx="883296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23005f"/>
                </a:solidFill>
                <a:latin typeface="Arial"/>
              </a:rPr>
              <a:t>Kernvraag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62120" y="1981080"/>
            <a:ext cx="8420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Wat maakt de methodiek effectief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Inhoudelijk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128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Klankzuivere periode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basis is het fonologisch princ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lank-synthese ben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lankgeb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zen, schrijv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vanaf het begin, elke 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Niet klankzuivere periode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(basis zijn de morfologische en etymologische princi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ategorieën, regels en denkwij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tekst) lezen, schrijv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elke 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0" y="53316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Didactisch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10920" y="182844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d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recte instructie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iënteren, isoleren en gener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dap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ulti-sensorieel (auditief, visueel, motoris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oe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56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Organisatorisch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0920" y="1828800"/>
            <a:ext cx="88390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roepsgewijze instr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rontale groepsops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fferenti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ast lesrit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dequate aankleding klaslok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ZLKLS is gebaseerd op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864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instructi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door de leerkracht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direct instructie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olledige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oriënteringsbasi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Russische leerpsycholog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gestructureerd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anpak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taakanalytis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erhaling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n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oefening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overl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vast les- en dagritme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vertrouwd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multisensoriël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asi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belicha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n het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Nederland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regels en denkwijz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v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leren lez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obleemgebie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t maakt de methodiek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REVENTIE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De methodie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838080" y="2133720"/>
            <a:ext cx="8420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3600" spc="-1" strike="noStrike">
                <a:solidFill>
                  <a:srgbClr val="660066"/>
                </a:solidFill>
                <a:latin typeface="Arial"/>
              </a:rPr>
              <a:t>‘</a:t>
            </a:r>
            <a:r>
              <a:rPr b="1" lang="nl-NL" sz="3600" spc="-1" strike="noStrike">
                <a:solidFill>
                  <a:srgbClr val="660066"/>
                </a:solidFill>
                <a:latin typeface="Arial"/>
              </a:rPr>
              <a:t>Zo leer je kinderen lezen en spellen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660066"/>
                </a:solidFill>
                <a:latin typeface="Arial"/>
              </a:rPr>
              <a:t>ontwikkeld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660066"/>
                </a:solidFill>
                <a:latin typeface="Arial"/>
              </a:rPr>
              <a:t>Drs. José Schrav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23005f"/>
                </a:solidFill>
                <a:latin typeface="Arial"/>
              </a:rPr>
              <a:t>Advies: Trakteer uzelf</a:t>
            </a:r>
            <a:endParaRPr b="0" lang="en-US" sz="4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864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ap: 32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VD: 80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ap + DVD: 102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bestellen v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www.zoleerjekinderenlezenenspel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PS: ik heb geen aandelen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ale dank aa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rs. Jos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BO ‘De Schalm’ 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BS ‘Het kofschip’ te Zeven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5800" y="1066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Het suc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5800" y="2514600"/>
            <a:ext cx="8915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660066"/>
                </a:solidFill>
                <a:latin typeface="Arial"/>
              </a:rPr>
              <a:t>op het Regulier Basisonderwij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scores 2007-200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Afbeelding 3" descr="AVI-scores.tiff"/>
          <p:cNvPicPr/>
          <p:nvPr/>
        </p:nvPicPr>
        <p:blipFill>
          <a:blip r:embed="rId1"/>
          <a:stretch/>
        </p:blipFill>
        <p:spPr>
          <a:xfrm>
            <a:off x="230040" y="2514600"/>
            <a:ext cx="93790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ito Leesscores DMT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kstvak 3"/>
          <p:cNvSpPr/>
          <p:nvPr/>
        </p:nvSpPr>
        <p:spPr>
          <a:xfrm>
            <a:off x="2776680" y="360684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Afbeelding 4" descr="DMT-2 Kofschip.tiff"/>
          <p:cNvPicPr/>
          <p:nvPr/>
        </p:nvPicPr>
        <p:blipFill>
          <a:blip r:embed="rId1"/>
          <a:stretch/>
        </p:blipFill>
        <p:spPr>
          <a:xfrm>
            <a:off x="382680" y="2362320"/>
            <a:ext cx="9296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762120" y="449280"/>
            <a:ext cx="8420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3005f"/>
                </a:solidFill>
                <a:latin typeface="Arial"/>
              </a:rPr>
              <a:t>Cito Spellingscor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4267080"/>
            <a:ext cx="2666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34960" y="4800600"/>
            <a:ext cx="8686800" cy="1712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1430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fbeelding 6" descr="Cito Spelling 3.tiff"/>
          <p:cNvPicPr/>
          <p:nvPr/>
        </p:nvPicPr>
        <p:blipFill>
          <a:blip r:embed="rId2"/>
          <a:stretch/>
        </p:blipFill>
        <p:spPr>
          <a:xfrm>
            <a:off x="306360" y="1905120"/>
            <a:ext cx="920736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85800" y="1066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Het suc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85800" y="2514600"/>
            <a:ext cx="8915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660066"/>
                </a:solidFill>
                <a:latin typeface="Arial"/>
              </a:rPr>
              <a:t>op het Speciaal Basisonderwij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91440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1a  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60360" y="1905120"/>
          <a:ext cx="76550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905120"/>
                    <a:ext cx="76550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2a   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1676520"/>
          <a:ext cx="8832960" cy="47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76520"/>
                    <a:ext cx="8832960" cy="47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4:14:26Z</dcterms:created>
  <dc:creator/>
  <dc:description/>
  <dc:language>en-US</dc:language>
  <cp:lastModifiedBy>Anna Bosman</cp:lastModifiedBy>
  <dcterms:modified xsi:type="dcterms:W3CDTF">2009-11-18T07:24:24Z</dcterms:modified>
  <cp:revision>49</cp:revision>
  <dc:subject/>
  <dc:title>Ontwikkelingspsychologie van opvoeding en onderwijs  PWB2100</dc:title>
</cp:coreProperties>
</file>