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25.jpeg" ContentType="image/jpeg"/>
  <Override PartName="/ppt/media/image8.pct" ContentType="image/x-pict"/>
  <Override PartName="/ppt/media/image27.jpeg" ContentType="image/jpeg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23.jpeg" ContentType="image/jpeg"/>
  <Override PartName="/ppt/media/image28.pct" ContentType="image/x-pict"/>
  <Override PartName="/ppt/media/image26.jpeg" ContentType="image/jpeg"/>
  <Override PartName="/ppt/media/image16.pct" ContentType="image/x-pict"/>
  <Override PartName="/ppt/media/image24.jpeg" ContentType="image/jpeg"/>
  <Override PartName="/ppt/media/image2.pct" ContentType="image/x-pict"/>
  <Override PartName="/ppt/media/image19.pct" ContentType="image/x-pict"/>
  <Override PartName="/ppt/media/image3.pct" ContentType="image/x-pict"/>
  <Override PartName="/ppt/media/image22.jpeg" ContentType="image/jpeg"/>
  <Override PartName="/ppt/media/image20.pct" ContentType="image/x-pict"/>
  <Override PartName="/ppt/media/image18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4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6C3-CBF3-4E4C-8913-E22E301F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DB22-6AF6-4CF1-B2EF-845B2B8D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BE0-2EA5-467F-B0DE-D4214B20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796-4263-4245-AA98-6F674F2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0D7-549D-4D17-9747-95DE54C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587-D522-40F7-918A-355EE24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CFD3-E49F-419E-8BA8-B7F6D294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C13A-51BB-4993-AA77-85F737F8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B40-53C3-4F1F-8392-A9FA3DCD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419-27BF-4DA9-AD8B-14BD3527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B84-655B-4394-9F54-11CA951F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E28-AA61-4853-938A-7DE2133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C50D-DBC7-475E-8E1B-C17A6373B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96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129528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5400" spc="-1" strike="noStrike">
                <a:solidFill>
                  <a:srgbClr val="000000"/>
                </a:solidFill>
                <a:latin typeface="Arial"/>
              </a:rPr>
              <a:t>Zo leer je</a:t>
            </a:r>
            <a:br>
              <a:rPr sz="5400"/>
            </a:br>
            <a:r>
              <a:rPr b="0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99"/>
                </a:solidFill>
                <a:latin typeface="Arial"/>
              </a:rPr>
              <a:t>Prof. dr. Anna M.T. Bosma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   &amp;  </a:t>
            </a:r>
            <a:r>
              <a:rPr b="0" sz="2000" spc="-1" strike="noStrike">
                <a:solidFill>
                  <a:srgbClr val="009999"/>
                </a:solidFill>
                <a:latin typeface="Arial"/>
              </a:rPr>
              <a:t>Drs. Jos</a:t>
            </a:r>
            <a:r>
              <a:rPr b="0" sz="20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é L.M. Schr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Sectie Orthopedagogiek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Orthopedagoo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Radboud Universiteit Nijmegen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TGM, Zutph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a.bosman@pwo.ru.nl</a:t>
            </a:r>
            <a:r>
              <a:rPr b="0" sz="15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zlkls@planet.n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333399"/>
                </a:solidFill>
                <a:latin typeface="Arial"/>
              </a:rPr>
              <a:t>www.annabosman.eu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500" spc="-1" strike="noStrike">
                <a:solidFill>
                  <a:srgbClr val="009999"/>
                </a:solidFill>
                <a:latin typeface="Arial"/>
              </a:rPr>
              <a:t>www.zoleerjekinderenlezenenspellen.n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457200" y="198108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810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754640" y="609480"/>
            <a:ext cx="589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676520"/>
            <a:ext cx="82296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73280" y="3200400"/>
            <a:ext cx="61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752480"/>
            <a:ext cx="8305920" cy="36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9480" y="27936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55680" y="0"/>
            <a:ext cx="48308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220968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0"/>
            <a:ext cx="220968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284200" y="2209680"/>
            <a:ext cx="500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emethod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1371600"/>
            <a:ext cx="76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gro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66880"/>
            <a:ext cx="7545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rkrachten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basisonderwi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92240" y="274680"/>
            <a:ext cx="7594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9560" y="1600200"/>
            <a:ext cx="7707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zicht geven in de hoofdelementen van het technisch lees- en spellingpro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eteren van het instructiegedrag van leerk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 methode effectiever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51040" y="274680"/>
            <a:ext cx="7835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98560" y="1600200"/>
            <a:ext cx="7788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E STAAT CENTRA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ënteren, isoleren,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 instructie, expliciete uitleg 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METHODIE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iedere methode t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SGERICHTE AANP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66680" y="1523880"/>
            <a:ext cx="67820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kk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1430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ef onderw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514600"/>
            <a:ext cx="7848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entie: ‘Ik kan het’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afhankelijkheid: ‘Ik kan het zelf’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e:’Ik hoor erbij’ waa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cceserva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ivat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1905120"/>
            <a:ext cx="792468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67652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sop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9072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cti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1523880"/>
            <a:ext cx="6705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DOEL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NING (denkkade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T LESRIT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KE DAG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SENSORIE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f, visueel, motori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66680" y="91440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EE PERI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3048120"/>
            <a:ext cx="7467480" cy="30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T KLANKZUIVERE PERI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9907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2895480"/>
            <a:ext cx="7924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KLANKSYNTHES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PELLING KRIJGT VANAF HET BEGIN EVENVEEL AANDACHT EN OEF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GELIJKS AUDITIEF DICTEE ALS INOEFEN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0720" y="0"/>
            <a:ext cx="53625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951200" y="0"/>
            <a:ext cx="52401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125360" y="0"/>
            <a:ext cx="68914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523880" y="6094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OND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ren van d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ele discim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rden, tekst l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discrim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ef dictee, letters,woorden,z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e lessen: begin en einde peri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2120" y="9907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 kern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133720"/>
            <a:ext cx="83822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t verteld wat het onderdeel inhoud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at er in de klas uitzie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e-mogelijkhede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code: video -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981080"/>
            <a:ext cx="81532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80880" y="2133720"/>
            <a:ext cx="83822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 klankzuivere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32040" y="274680"/>
            <a:ext cx="7754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angrijke uitgangspun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-klankzuivere peri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9560" y="1828800"/>
            <a:ext cx="77072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NING OP OVEREENKOMSTIGE LEES-SCHRIJFWIJZ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ELS ALS DENKSTRATEGI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KRIJGT VANAF HET BEGIN EVENVEEL AANDACHT EN OEF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kk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INPRENTING ma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NING aan de kinderen aanlere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 hoort het woord (stukje van het woord) bi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moet je dan de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et klankzuivere period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eel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onder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s en klank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rden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kvo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e woorden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st 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ief dictee als inoefen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564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nningsschema’s  voor elke groep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t zijn de concrete leerlijnen voor lezen en sp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31960" y="0"/>
            <a:ext cx="56800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017800" y="0"/>
            <a:ext cx="510696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ヒラギノ角ゴ Pro W3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4584960" cy="3470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17480" y="3809880"/>
            <a:ext cx="44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&amp; Anna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609480" y="1981080"/>
          <a:ext cx="7620120" cy="462780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762120" y="51055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838080" y="1101600"/>
          <a:ext cx="8077320" cy="5693040"/>
        </p:xfrm>
        <a:graphic>
          <a:graphicData uri="http://schemas.openxmlformats.org/drawingml/2006/table">
            <a:tbl>
              <a:tblPr/>
              <a:tblGrid>
                <a:gridCol w="3581640"/>
                <a:gridCol w="1523880"/>
                <a:gridCol w="1370160"/>
                <a:gridCol w="838080"/>
                <a:gridCol w="763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2360" y="2743200"/>
            <a:ext cx="758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07:39Z</dcterms:created>
  <dc:creator>rowena.thijm</dc:creator>
  <dc:description/>
  <dc:language>en-US</dc:language>
  <cp:lastModifiedBy>Anna Bosman</cp:lastModifiedBy>
  <dcterms:modified xsi:type="dcterms:W3CDTF">2009-02-09T21:07:10Z</dcterms:modified>
  <cp:revision>9</cp:revision>
  <dc:subject/>
  <dc:title>Slide 1</dc:title>
</cp:coreProperties>
</file>