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25.jpeg" ContentType="image/jpeg"/>
  <Override PartName="/ppt/media/image8.pct" ContentType="image/x-pict"/>
  <Override PartName="/ppt/media/image27.jpeg" ContentType="image/jpeg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21.jpeg" ContentType="image/jpeg"/>
  <Override PartName="/ppt/media/image5.pct" ContentType="image/x-pict"/>
  <Override PartName="/ppt/media/image23.jpeg" ContentType="image/jpeg"/>
  <Override PartName="/ppt/media/image28.pct" ContentType="image/x-pict"/>
  <Override PartName="/ppt/media/image26.jpeg" ContentType="image/jpeg"/>
  <Override PartName="/ppt/media/image16.pct" ContentType="image/x-pict"/>
  <Override PartName="/ppt/media/image24.jpeg" ContentType="image/jpeg"/>
  <Override PartName="/ppt/media/image2.pct" ContentType="image/x-pict"/>
  <Override PartName="/ppt/media/image19.pct" ContentType="image/x-pict"/>
  <Override PartName="/ppt/media/image3.pct" ContentType="image/x-pict"/>
  <Override PartName="/ppt/media/image22.jpeg" ContentType="image/jpeg"/>
  <Override PartName="/ppt/media/image20.pct" ContentType="image/x-pict"/>
  <Override PartName="/ppt/media/image18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4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6D9-AE01-48E3-9221-D1247568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A86-CE89-43F8-95C0-114F25DA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40C-EEC6-46A8-B8B5-D3B784DB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30C-E7E4-41BD-B777-2CB37F11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BFF-A2C6-4161-88F3-1A61C708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467-3D2F-41D7-86FF-840CE3B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DDB-CFAA-40AF-86A5-41611BC3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645-6DA9-42A3-8BBB-A6945C83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BEA-1D95-40D7-BEFD-E8603599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D6B-2EAE-440A-9C31-441B96C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3A7-B46F-47A5-915B-0EF08C8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795-2478-4737-86A0-845F753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8EBF-D7F5-4501-A7BF-82AEBEAEF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96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295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400" spc="-1" strike="noStrike">
                <a:solidFill>
                  <a:srgbClr val="000000"/>
                </a:solidFill>
                <a:latin typeface="Arial"/>
              </a:rPr>
              <a:t>Zo leer je</a:t>
            </a:r>
            <a:br>
              <a:rPr sz="5400"/>
            </a:br>
            <a:r>
              <a:rPr b="0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99"/>
                </a:solidFill>
                <a:latin typeface="Arial"/>
              </a:rPr>
              <a:t>Prof. dr. Anna M.T. Bosma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&amp;  </a:t>
            </a:r>
            <a:r>
              <a:rPr b="0" sz="2000" spc="-1" strike="noStrike">
                <a:solidFill>
                  <a:srgbClr val="009999"/>
                </a:solidFill>
                <a:latin typeface="Arial"/>
              </a:rPr>
              <a:t>Drs. Jos</a:t>
            </a:r>
            <a:r>
              <a:rPr b="0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é L.M. Schr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Sectie Orthopedagogiek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Orthopedagoo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Radboud Universiteit Nijmegen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TGM, Zutph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a.bosman@pwo.ru.nl</a:t>
            </a:r>
            <a:r>
              <a:rPr b="0" sz="15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zlkls@planet.n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www.annabosman.eu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www.zoleerjekinderenlezenenspellen.n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57200" y="198108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754640" y="609480"/>
            <a:ext cx="58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676520"/>
            <a:ext cx="82296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73280" y="3200400"/>
            <a:ext cx="61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752480"/>
            <a:ext cx="8305920" cy="36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9480" y="2793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55680" y="0"/>
            <a:ext cx="483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20968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0"/>
            <a:ext cx="220968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4200" y="2209680"/>
            <a:ext cx="500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emethod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38080" y="1371600"/>
            <a:ext cx="76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gro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66880"/>
            <a:ext cx="7545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krachten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basisonderw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92240" y="274680"/>
            <a:ext cx="759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9560" y="1600200"/>
            <a:ext cx="7707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zicht geven in de hoofdelementen van het technisch lees- en spellingpro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eteren van het instructiegedrag van leerk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 methode effectiever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510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angrijke uitgangspu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E STAAT CENTRA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ënteren, isoleren, gener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instructie, expliciete uitleg 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METHODIE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iedere methode t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SGERICHTE AANP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66680" y="1523880"/>
            <a:ext cx="67820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kk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11430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ef onderw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514600"/>
            <a:ext cx="7848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ntie: ‘Ik kan het’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heid: ‘Ik kan het zelf’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e:’Ik hoor erbij’ waa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cceserva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iva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1905120"/>
            <a:ext cx="792468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167652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sop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907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523880"/>
            <a:ext cx="6705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DOEL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NING (denkkad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T LESRIT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SENSORIE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f, visueel, moto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66680" y="91440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 PERI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048120"/>
            <a:ext cx="7467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KZUIVERE PERIOD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KLANKZUIVERE PERI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9907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angrijke uitgangspun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nkzuivere 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895480"/>
            <a:ext cx="7924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LANKSYNTHES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PELLING KRIJGT VANAF HET BEGIN EVENVEEL AANDACHT EN OEF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GELIJKS AUDITIEF DICTEE ALS INOEFEN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0720" y="0"/>
            <a:ext cx="53625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51200" y="0"/>
            <a:ext cx="5240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25360" y="0"/>
            <a:ext cx="68914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3880" y="60948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nkzuivere 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OND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ren van d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ele discim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rden, tekst le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ve discrim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f dictee, letters,woorden,z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 lessen: begin en einde peri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GE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2120" y="990720"/>
            <a:ext cx="792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 kern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133720"/>
            <a:ext cx="83822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t verteld wat het onderdeel inhoud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at er in de klas uitzi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e-mogelijkhede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code: video -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1981080"/>
            <a:ext cx="815328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80880" y="2133720"/>
            <a:ext cx="83822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t klankzuive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32040" y="274680"/>
            <a:ext cx="775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angrijke uitgangspun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t-klankzuivere 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9560" y="1828800"/>
            <a:ext cx="77072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NING OP OVEREENKOMSTIGE LEES-SCHRIJFWIJZ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S ALS DENKSTRATEGI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KRIJGT VANAF HET BEGIN EVENVEEL AANDACHT EN OEF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kk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INPRENTING ma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NING aan de kinderen aanlere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hoort het woord (stukje van het woord) bi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oet je dan d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t klankzuivere period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el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onder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s en klank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rden 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kvo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e woorden 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st 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ief dictee als inoefen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nningsschema’s  voor elke groep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t zijn de concrete leerlijnen voor lezen en sp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31960" y="0"/>
            <a:ext cx="5680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17800" y="0"/>
            <a:ext cx="51069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4584960" cy="347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17480" y="3809880"/>
            <a:ext cx="44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 &amp; Anna Bo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609480" y="1981080"/>
          <a:ext cx="7620120" cy="462780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762120" y="5105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838080" y="1101600"/>
          <a:ext cx="8077320" cy="5693040"/>
        </p:xfrm>
        <a:graphic>
          <a:graphicData uri="http://schemas.openxmlformats.org/drawingml/2006/table">
            <a:tbl>
              <a:tblPr/>
              <a:tblGrid>
                <a:gridCol w="3581640"/>
                <a:gridCol w="1523880"/>
                <a:gridCol w="1370160"/>
                <a:gridCol w="838080"/>
                <a:gridCol w="76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2360" y="2743200"/>
            <a:ext cx="75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07:39Z</dcterms:created>
  <dc:creator>rowena.thijm</dc:creator>
  <dc:description/>
  <dc:language>en-US</dc:language>
  <cp:lastModifiedBy>Anna Bosman</cp:lastModifiedBy>
  <dcterms:modified xsi:type="dcterms:W3CDTF">2009-02-09T21:07:10Z</dcterms:modified>
  <cp:revision>9</cp:revision>
  <dc:subject/>
  <dc:title>Slide 1</dc:title>
</cp:coreProperties>
</file>