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2B41-A41B-4303-8FA7-BC4173AD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FDE-E50D-47C3-AC17-509D13BC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4F0-D2A9-4BAB-BF19-B58808FA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AD4-85EC-48B4-9059-0F55110C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4366-E5A2-4571-AAA8-46FD498A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4752-F01F-4703-9CD1-149463C3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A447-5014-456B-BED5-DBDF8F53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2ABA-3251-4388-B05A-51AEE8C0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3469-5BD3-4C22-AFB8-B63AE3C9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C751-6ACF-4EEF-9C51-1E17806C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7FBF-EBB8-4548-948B-6A0785DD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EAB-190E-49ED-A271-7798C9D5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2580-3A06-4A24-B933-F8FCD162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19B9-E1EB-40E0-AAB0-4FB80A4F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E3CD-77A2-4457-ADE3-AD74559A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1419-EDF6-49A7-8797-79CB4576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F515-BC5A-4FB9-B7DE-0E325B8E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E99-B369-4B9E-B939-2991469A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AD30-EB35-434D-9445-1BD72D4E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2E4C-DB44-486D-80E7-657C0FE5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CE2-BDD9-431B-81B4-06E6A9C8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28F-EC17-4867-BBF0-AEB1654D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276-CCBC-4635-B6F9-A7BC802B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6F8-744D-44E4-9BAD-27D53999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C4CB-ADE2-4137-B56F-C2E3D6869A4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8F50-0255-441B-A1C1-DFD8A0E7A42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zoleerjekinderenlezenenspellen.nl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19807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Arial"/>
              </a:rPr>
              <a:t>Onderzoek naar leren lezen en spellen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114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Arial"/>
              </a:rPr>
              <a:t>Prof. dr. Anna M. T. Bosm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rthopedagogiek, Radboud Universiteit Nijm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 u="sng">
                <a:solidFill>
                  <a:srgbClr val="003300"/>
                </a:solidFill>
                <a:uFillTx/>
                <a:latin typeface="Arial"/>
                <a:hlinkClick r:id="rId2"/>
              </a:rPr>
              <a:t>a.bosman@pwo.ru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8 maar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‘Hoe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 instr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rkracht i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ale opst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r zintuigen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g, oor, en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etsing en her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ke dag dezelfde volg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ke dag een dic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derzoeksvraa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e aanp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 leer je kinderen lezen en spell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er dan andere(n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elnemen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1828800"/>
          <a:ext cx="7619760" cy="4267080"/>
        </p:xfrm>
        <a:graphic>
          <a:graphicData uri="http://schemas.openxmlformats.org/drawingml/2006/table">
            <a:tbl>
              <a:tblPr/>
              <a:tblGrid>
                <a:gridCol w="1523880"/>
                <a:gridCol w="1295280"/>
                <a:gridCol w="1447920"/>
                <a:gridCol w="1828800"/>
                <a:gridCol w="152388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/ 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ers-tali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jnen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aar L&amp;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zlkl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eftijd, intelligentie en woordensch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3000" y="1905120"/>
          <a:ext cx="7467480" cy="2819160"/>
        </p:xfrm>
        <a:graphic>
          <a:graphicData uri="http://schemas.openxmlformats.org/drawingml/2006/table">
            <a:tbl>
              <a:tblPr/>
              <a:tblGrid>
                <a:gridCol w="641160"/>
                <a:gridCol w="1852560"/>
                <a:gridCol w="2042640"/>
                <a:gridCol w="2499480"/>
                <a:gridCol w="216000"/>
                <a:gridCol w="2160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ftij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ligent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rdensc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</a:t>
                      </a: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</a:t>
                      </a: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</a:t>
                      </a: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d</a:t>
                      </a: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762120" y="51814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Leerlingen op school Z zijn gemiddeld een half jaar ouder dan op X en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3 leestoetsen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ters lez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2120" y="1828800"/>
          <a:ext cx="7619760" cy="43434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orden lez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antal per minuu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447920"/>
          <a:ext cx="7543800" cy="489564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T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ksten lezen (AV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 met de 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m gaat naar schoo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k koop die roos van j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 is al zes jaa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zet ik in een va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jn zus loes is nog geen vi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 gaat het huis weer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is bij moe in hu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 zet de roos in de va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ar is jan met de ka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es zit nu bij de wi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op een roos, koop een roo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 zet de pan op het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t gaat met loes naar ja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ar gaat de b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 zijn pa en w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 is die roos moo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198072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3 spellingtoetsen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ters schrijv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62120" y="1828800"/>
          <a:ext cx="7619760" cy="43434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el van onderzoe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is verkrijgen d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oud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ologis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erbaa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-woorden dicte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ellingtoets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1600200"/>
          <a:ext cx="7620120" cy="47466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752480"/>
                <a:gridCol w="129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ie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r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o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oetskalen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09480" y="1471680"/>
          <a:ext cx="8305920" cy="5333760"/>
        </p:xfrm>
        <a:graphic>
          <a:graphicData uri="http://schemas.openxmlformats.org/drawingml/2006/table">
            <a:tbl>
              <a:tblPr/>
              <a:tblGrid>
                <a:gridCol w="3200400"/>
                <a:gridCol w="1447920"/>
                <a:gridCol w="1447920"/>
                <a:gridCol w="1143000"/>
                <a:gridCol w="106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rden 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sten 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woordendict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Verschillen tussen 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tters lez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1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tters spell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8-Woorden spell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8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Maart-Dictees 1-3 in % corr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Juni-Dictees 4-5 in % corr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rie soorten onderzoeksvrag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etische vr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sch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ktische vraag (mijn onderzo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Niveaus van 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Arial"/>
              </a:rPr>
              <a:t>Cito normen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-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Conclus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chool X (zlkls) is veel beter dan Y en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chool X (speciaal basisonderwijs) doet niet onder voor scholen voor regulier onderwi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ritische vrag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het absoluut zeker dat ZLKLS de oorzaak van de goede resultaten 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het voor alle soorten leerlingen effectie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n alle onderdelen van het lespakket noodzakelijk om succes te hebb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voor een onderzoek zou jij doen om vast te stellen of het echt door ZLKLS kwam dat school X zoveel beter w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elling van Pytj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ythagoras ca. 570-507 BC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bestaat een oneindig aantal drietallen van natuurlijke getallen die de volgende stelling waarmake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atste stelling van Fermat*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01-1665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besta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rietal van natuurlijke getallen die voldoet aan de st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etc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fw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In 1994 bewezen door de Britse wiskundige Andrew W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e sla je gegevens/data op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rij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0: Gaatjes (ponskaarten o.a. draaiorg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sch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2: magneetband (bandreco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6: magneetschijf (hard disk, floppy d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sche schij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2: CD (1982 op de mark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8: DVD (in 1996 op de mark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7: BD of Blu-ray (februari 2008 op de mark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xt: Holographic Versatile Disc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e leer je kinderen lezen en spellen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590560"/>
            <a:ext cx="6858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s- en spellingprobl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ier basisonderwijs: 10%-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al basisonderwijs &gt; 7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14600" y="1752480"/>
            <a:ext cx="3962520" cy="4496040"/>
          </a:xfrm>
          <a:prstGeom prst="verticalScroll">
            <a:avLst>
              <a:gd name="adj" fmla="val 12500"/>
            </a:avLst>
          </a:prstGeom>
          <a:solidFill>
            <a:srgbClr val="75a44b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2590920"/>
            <a:ext cx="182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 e z 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362320"/>
            <a:ext cx="1752480" cy="1447560"/>
          </a:xfrm>
          <a:prstGeom prst="cloudCallout">
            <a:avLst>
              <a:gd name="adj1" fmla="val -20652"/>
              <a:gd name="adj2" fmla="val 10054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4038480"/>
            <a:ext cx="1752480" cy="1447920"/>
          </a:xfrm>
          <a:prstGeom prst="cloudCallout">
            <a:avLst>
              <a:gd name="adj1" fmla="val -29347"/>
              <a:gd name="adj2" fmla="val 126865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a44b"/>
                </a:solidFill>
                <a:latin typeface="Arial"/>
              </a:rPr>
              <a:t>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o leer je kinderen lezen en spelle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‘Wat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ur van de Nederlandse spelling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 (denk aan de raam/ramen of ram/ram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kwijzen (oei, je hoort en j en je schrijft een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ur van oefeningen doorheb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soefeningen vooraf aan le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llingoefening vooraf aan sp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8:12:18Z</dcterms:created>
  <dc:creator>Office 2004 Test Drive Anna Bosman</dc:creator>
  <dc:description/>
  <dc:language>en-US</dc:language>
  <cp:lastModifiedBy>Office 2004 Test Drive Anna Bosman</cp:lastModifiedBy>
  <dcterms:modified xsi:type="dcterms:W3CDTF">2008-03-16T15:35:40Z</dcterms:modified>
  <cp:revision>93</cp:revision>
  <dc:subject/>
  <dc:title>Zo leer je kinderen  lezen en spellen</dc:title>
</cp:coreProperties>
</file>