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D8B-E07A-41A1-9E0A-4D37FA67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6A1-E8F0-4F68-A5F8-35D80958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409-CC25-499B-9BDB-10A29B8D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7D7-C6AC-4474-989F-6D74B41D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8A6B-DEDD-4B41-87CE-75E3A42D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E6A5-03DE-472E-89DF-D862DF9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5EE-09E6-4DE1-8569-E7174CB2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0AEF-D5DA-4281-BD90-2EB9226B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07DA-838B-453F-9F33-F392A25A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C82C-6C07-4ABE-8889-5A1DBDF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FAF8-764C-4C90-BA57-6C720EB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BD6-2014-4E83-91DB-5072EE34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F59-7975-46E4-B8A6-B410733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B8BE-8C32-4A2B-9DD6-BF404B8A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E8F7-3CBA-4F87-92B8-418B17C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41A-1E10-4AD3-A1EF-C94A65B9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964B-AF31-4CC9-BC20-7923AFFC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926-6F13-4BEF-97F2-3368F28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3B3-242C-4DA3-BB24-CF90C6D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5CF-355D-45F8-9411-C248AFA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29A-A808-4FB8-A339-15346EFE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FCC-3D4F-40F0-ADC2-182C45DB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5A1-C492-4B6D-A172-6534563A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04AE-1635-46E8-9E90-32D11B4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0A2D-E4CC-4FBB-A328-A1887C0757F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E55E-63F0-4916-8717-E869DA04B37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Onderzoek naar leren 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8 maar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zintuigen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g, oor, 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derzoeksvraa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er dan andere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lnemen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1828800"/>
          <a:ext cx="7619760" cy="4267080"/>
        </p:xfrm>
        <a:graphic>
          <a:graphicData uri="http://schemas.openxmlformats.org/drawingml/2006/table">
            <a:tbl>
              <a:tblPr/>
              <a:tblGrid>
                <a:gridCol w="1523880"/>
                <a:gridCol w="1295280"/>
                <a:gridCol w="1447920"/>
                <a:gridCol w="1828800"/>
                <a:gridCol w="15238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zlk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eftijd, intelligentie en woordensc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43000" y="1905120"/>
          <a:ext cx="7467480" cy="2819160"/>
        </p:xfrm>
        <a:graphic>
          <a:graphicData uri="http://schemas.openxmlformats.org/drawingml/2006/table">
            <a:tbl>
              <a:tblPr/>
              <a:tblGrid>
                <a:gridCol w="641160"/>
                <a:gridCol w="1852560"/>
                <a:gridCol w="2042640"/>
                <a:gridCol w="2499480"/>
                <a:gridCol w="216000"/>
                <a:gridCol w="216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s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62120" y="51814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erlingen op school Z zijn gemiddeld een half jaar ouder dan op X e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lees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lez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orden lez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antal per minuu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447920"/>
          <a:ext cx="7543800" cy="48956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ksten lezen (A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met de 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m gaat naar scho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 koop die roos van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is al zes ja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t ik in een va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n zus loes is nog geen v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gaat het huis weer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is bij moe in h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zet de roos in de v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is jan met de k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es zit nu bij de wi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 een roos, koop een roo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zet de pan op het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 gaat met loes naar j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gaat de 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zijn pa en 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is die roos mo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spelling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schrijv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el van onderzoe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is verkrijgen d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oud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is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erbaa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-woorden dict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toe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600200"/>
          <a:ext cx="7620120" cy="4746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75248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09480" y="1471680"/>
          <a:ext cx="8305920" cy="5333760"/>
        </p:xfrm>
        <a:graphic>
          <a:graphicData uri="http://schemas.openxmlformats.org/drawingml/2006/table">
            <a:tbl>
              <a:tblPr/>
              <a:tblGrid>
                <a:gridCol w="3200400"/>
                <a:gridCol w="1447920"/>
                <a:gridCol w="144792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Maart-Dictees 1-3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Juni-Dictees 4-5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ie soorten 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8001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sche v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sc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ktische vraag (mijn onderzo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zlkls) is veel beter dan Y e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speciaal basisonderwijs) doet niet onder voor scholen voor regulier 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ritische 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et absoluut zeker dat ZLKLS de oorzaak van de goede resultaten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het voor alle soorten leerlingen effectief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n alle onderdelen van het lespakket noodzakelijk om succes te hebb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voor een onderzoek zou jij doen om vast te stellen of het echt door ZLKLS kwam dat school X zoveel beter w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elling van Pyt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ythagoras ca. 570-507 B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 bestaat een oneindig aantal drietallen van natuurlijke getallen die de volgende stelling waarmake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beelden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atste stelling van Fermat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601-166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etal van natuurlijke getallen die voldoet aan de 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et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4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 1994 bewezen door de Britse wiskundige Andrew W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e sla je gegevens/data op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rij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0: Gaatjes (ponskaarten o.a. draaior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isch materi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: magneetband (bandrec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6: magneetschijf (hard disk, floppy d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sche schij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: CD (1982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8: DVD (in 1996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7: BD of Blu-ray (februari 2008 op de mark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xt: Holographic Versatile Disc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e leer je kinderen lezen en spelle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- en spellingprobl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ier basisonderwijs: 10%-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basisonderwijs &gt; 7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a44b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 leer je kinderen lezen en spelle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de Nederlandse spelling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 (denk aan de raam/ramen of ram/ra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 (oei, je hoort en j en je schrijft een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oefeningen door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16T15:35:40Z</dcterms:modified>
  <cp:revision>93</cp:revision>
  <dc:subject/>
  <dc:title>Zo leer je kinderen  lezen en spellen</dc:title>
</cp:coreProperties>
</file>