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36C-8508-4CD3-BECA-A2D71BC5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8B8-648D-42FE-823B-26FE8924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C54-0135-4F06-8ABC-9E8C5425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24A-C021-4AD1-8BFB-9522DD02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5D26-E001-48DA-8F3B-627CD791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8356-4E9E-40EE-96AA-E829EEE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143-4073-4842-BB86-52C63987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59B-AB48-4804-9370-EBFE58A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C35F-AD06-41C8-A0B6-6992445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07A7-BF87-4809-8AD0-CE4B50E4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B3C-99B1-4CEC-919F-E3BA5B7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140-54E3-42C9-8CBF-26E0763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F59-92CA-40A2-B03E-345667E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C9AD-2E05-4D1F-91C7-E1B8E12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241D-2DBF-4D87-8E63-221257B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2F38-A713-413F-8E14-E7B8B654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C76-3360-4BEF-9E45-16F216C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372-1A7C-4F79-9C63-CB63A323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422-13E9-41CF-95F3-ACBFC86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A6D-6912-4E12-AB05-E8BFD7F4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382-2D01-4187-8E9C-A4E6A4F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264-027E-4ACD-BCC8-2E374AB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1AD-A9A8-4087-8127-52EC319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966-FD9F-475F-AED7-3977D67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030-9454-4B44-87EB-BBBB1270F0F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B91-BEE8-4B91-B598-289F3226EA9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Onderzoek naar leren 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9 maar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orden lez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antal per minuu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447920"/>
          <a:ext cx="7543800" cy="48956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ksten lezen (A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met de 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m gaat naar scho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 koop die roos van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is al zes ja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t ik in een va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n zus loes is nog geen v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gaat het huis weer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is bij moe in h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zet de roos in de v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is jan met de k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es zit nu bij de wi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 een roos, koop een roo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zet de pan op het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 gaat met loes naar j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gaat de 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zijn pa en 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is die roos mo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spelling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schrijv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-woorden dict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toe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620120" cy="4746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75248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471680"/>
          <a:ext cx="8305920" cy="5333760"/>
        </p:xfrm>
        <a:graphic>
          <a:graphicData uri="http://schemas.openxmlformats.org/drawingml/2006/table">
            <a:tbl>
              <a:tblPr/>
              <a:tblGrid>
                <a:gridCol w="3200400"/>
                <a:gridCol w="1447920"/>
                <a:gridCol w="144792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e leer je kinderen lezen en spelle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s- en spellingproblemen/achterst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ier basisonderwijs: 10%-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al basisonderwijs &gt; 7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rzaak is niet intelligentie of afkomst, maar </a:t>
            </a: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Maart-Dictees 1-3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Juni-Dictees 4-5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zlkls) is veel beter dan Y e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speciaal basisonderwijs) doet niet onder voor scholen voor regulier 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a44b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 leer je kinderen lezen en spelle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de Nederlandse spelling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 (denk aan de raam/ramen of ram/ra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 (oei, je hoort en j en je schrijft een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oefeningen door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zintuigen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g, oor, 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derzoeksvraa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er dan andere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lnemen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828800"/>
          <a:ext cx="7619760" cy="4267080"/>
        </p:xfrm>
        <a:graphic>
          <a:graphicData uri="http://schemas.openxmlformats.org/drawingml/2006/table">
            <a:tbl>
              <a:tblPr/>
              <a:tblGrid>
                <a:gridCol w="1523880"/>
                <a:gridCol w="1295280"/>
                <a:gridCol w="1447920"/>
                <a:gridCol w="1828800"/>
                <a:gridCol w="15238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zlk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eftijd, intelligentie en woordensc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1905120"/>
          <a:ext cx="7467480" cy="2819160"/>
        </p:xfrm>
        <a:graphic>
          <a:graphicData uri="http://schemas.openxmlformats.org/drawingml/2006/table">
            <a:tbl>
              <a:tblPr/>
              <a:tblGrid>
                <a:gridCol w="641160"/>
                <a:gridCol w="1852560"/>
                <a:gridCol w="2042640"/>
                <a:gridCol w="2499480"/>
                <a:gridCol w="216000"/>
                <a:gridCol w="216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s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erlingen op school Z zijn gemiddeld een half jaar ouder dan op X e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lees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lez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16T15:35:12Z</dcterms:modified>
  <cp:revision>94</cp:revision>
  <dc:subject/>
  <dc:title>Zo leer je kinderen  lezen en spellen</dc:title>
</cp:coreProperties>
</file>