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F78-D101-47E7-BA16-F6B011C0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36D-91C0-42EB-99E1-D4D9540A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B87-68A3-4BA4-A2A1-C1AB2508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8720-177D-4109-B173-D2396FD7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B92C-111A-4F59-BDDA-0F158171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2EB3-FCD0-48B4-9A63-F6DAA597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8B37-DDEF-4990-B524-9930504D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6A8A-5FCF-48F8-B049-F1F4BDF7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D13A-2BAC-4B30-9E5C-E2951845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7FDF-7074-413B-90B1-D1393100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837D-7042-4FBB-AB06-665CEF3A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FA4-6B17-4294-9249-E962322A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519B-3CD6-42CE-A318-E42AD67C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6E20-537B-4381-976B-CA621060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1813-4FE4-43DE-AE0B-BCF03F83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5F9D-5081-4C18-96E1-30869F6E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02C3-F322-47AB-AA53-31D08C96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B35-1A01-41D0-B4C7-AE92A59F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747-FF99-430E-9ADF-B122FBAB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81C-A206-46DE-B0F1-4C3A3CE4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76C-B4DC-4266-B32D-F5AC69FB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514-7D09-4385-A883-31995E17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749-C2EB-4525-8C2C-CE133D0C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EAE-E610-4A04-9F20-9B413428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B3EF-7234-4623-8900-E89B24953AA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C6F3-5BD0-469A-BFCB-6A383C37C15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oleerjekinderenlezenenspellen.nl/" TargetMode="External"/><Relationship Id="rId3" Type="http://schemas.openxmlformats.org/officeDocument/2006/relationships/hyperlink" Target="http://www.zoleerjekinderenlezenenspellen.n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19807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Arial"/>
              </a:rPr>
              <a:t>Onderzoek naar leren lezen en spellen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Arial"/>
              </a:rPr>
              <a:t>Prof. dr. Anna M. T. Bosm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rthopedagogiek, Radboud Universiteit Nijm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.bosman@pwo.ru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9 maart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orden lez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antal per minuu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447920"/>
          <a:ext cx="7543800" cy="489564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T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ksten lezen (AV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 met de 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m gaat naar schoo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k koop die roos van j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 is al zes jaa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zet ik in een va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jn zus loes is nog geen vi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 gaat het huis weer 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is bij moe in hu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 zet de roos in de va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 is jan met de ka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es zit nu bij de wi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op een roos, koop een roo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 zet de pan op het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et gaat met loes naar ja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ar gaat de b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 zijn pa en w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is die roos moo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98072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3 spellingtoetsen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ters schrijv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828800"/>
          <a:ext cx="7619760" cy="43434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-woorden dicte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llingtoets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600200"/>
          <a:ext cx="7620120" cy="47466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752480"/>
                <a:gridCol w="129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u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i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e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l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r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oetskalen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471680"/>
          <a:ext cx="8305920" cy="5333760"/>
        </p:xfrm>
        <a:graphic>
          <a:graphicData uri="http://schemas.openxmlformats.org/drawingml/2006/table">
            <a:tbl>
              <a:tblPr/>
              <a:tblGrid>
                <a:gridCol w="3200400"/>
                <a:gridCol w="1447920"/>
                <a:gridCol w="1447920"/>
                <a:gridCol w="1143000"/>
                <a:gridCol w="1066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rden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ksten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woordendict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Verschillen tusse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lez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1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e leer je kinderen lezen en spellen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s- en spellingproblemen/achterst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ier basisonderwijs: 10%-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al basisonderwijs &gt; 7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rzaak is niet intelligentie of afkomst, maar </a:t>
            </a:r>
            <a:r>
              <a:rPr b="0" lang="en-US" sz="2800" spc="-1" strike="noStrike">
                <a:solidFill>
                  <a:srgbClr val="e01820"/>
                </a:solidFill>
                <a:latin typeface="Arial"/>
              </a:rPr>
              <a:t>instructiekwa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8-Woorden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8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Maart-Dictees 1-3 in % corr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Juni-Dictees 4-5 in % corr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Niveaus va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Arial"/>
              </a:rPr>
              <a:t>Cito norme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-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Conclus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chool X (zlkls) is veel beter dan Y en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chool X (speciaal basisonderwijs) doet niet onder voor scholen voor regulier onderwi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do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en van lees- en spelling-achterstanden in Sbao (…en B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eve Instruc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14600" y="1752480"/>
            <a:ext cx="3962520" cy="4496040"/>
          </a:xfrm>
          <a:prstGeom prst="verticalScroll">
            <a:avLst>
              <a:gd name="adj" fmla="val 12500"/>
            </a:avLst>
          </a:prstGeom>
          <a:solidFill>
            <a:srgbClr val="75a44b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2590920"/>
            <a:ext cx="182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 e z 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362320"/>
            <a:ext cx="1752480" cy="1447560"/>
          </a:xfrm>
          <a:prstGeom prst="cloudCallout">
            <a:avLst>
              <a:gd name="adj1" fmla="val -20652"/>
              <a:gd name="adj2" fmla="val 10054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4038480"/>
            <a:ext cx="1752480" cy="1447920"/>
          </a:xfrm>
          <a:prstGeom prst="cloudCallout">
            <a:avLst>
              <a:gd name="adj1" fmla="val -29347"/>
              <a:gd name="adj2" fmla="val 126865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a44b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o leer je kinderen lezen en spelle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Wat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 van de Nederlandse spelling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 (denk aan de raam/ramen of ram/ram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kwijzen (oei, je hoort en j en je schrijft een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 van oefeningen doorheb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soefeningen vooraf aan le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oefening vooraf aan sp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Hoe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 instr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erkracht i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ntale ops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r zintuigen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g, oor, en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etsing en her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ke dag dezelfde volg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ke dag een dic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ucces verzekerd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k voor uw aand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www.zoleerjekinderenlezenenspellen.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3"/>
              </a:rPr>
              <a:t>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arme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method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 leer je kinderen lezen en spell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LKLS; Schraven,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wikkeld door drs. J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derzoeksvraa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e aanp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 leer je kinderen lezen en spell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er dan andere(n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elnemen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62120" y="1828800"/>
          <a:ext cx="7619760" cy="4267080"/>
        </p:xfrm>
        <a:graphic>
          <a:graphicData uri="http://schemas.openxmlformats.org/drawingml/2006/table">
            <a:tbl>
              <a:tblPr/>
              <a:tblGrid>
                <a:gridCol w="1523880"/>
                <a:gridCol w="1295280"/>
                <a:gridCol w="1447920"/>
                <a:gridCol w="1828800"/>
                <a:gridCol w="15238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/ 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ers-tali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jnen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aar L&amp;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zlkl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eftijd, intelligentie en woordensch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43000" y="1905120"/>
          <a:ext cx="7467480" cy="2819160"/>
        </p:xfrm>
        <a:graphic>
          <a:graphicData uri="http://schemas.openxmlformats.org/drawingml/2006/table">
            <a:tbl>
              <a:tblPr/>
              <a:tblGrid>
                <a:gridCol w="641160"/>
                <a:gridCol w="1852560"/>
                <a:gridCol w="2042640"/>
                <a:gridCol w="2499480"/>
                <a:gridCol w="216000"/>
                <a:gridCol w="2160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ftij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ligent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ordensc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</a:t>
                      </a: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</a:t>
                      </a: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</a:t>
                      </a: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 </a:t>
                      </a:r>
                      <a:r>
                        <a:rPr b="0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d</a:t>
                      </a: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62120" y="51814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eerlingen op school Z zijn gemiddeld een half jaar ouder dan op X e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3 leestoetsen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ters lez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2120" y="1828800"/>
          <a:ext cx="7619760" cy="43434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8:12:18Z</dcterms:created>
  <dc:creator>Office 2004 Test Drive Anna Bosman</dc:creator>
  <dc:description/>
  <dc:language>en-US</dc:language>
  <cp:lastModifiedBy>Office 2004 Test Drive Anna Bosman</cp:lastModifiedBy>
  <dcterms:modified xsi:type="dcterms:W3CDTF">2008-03-16T15:35:12Z</dcterms:modified>
  <cp:revision>94</cp:revision>
  <dc:subject/>
  <dc:title>Zo leer je kinderen  lezen en spellen</dc:title>
</cp:coreProperties>
</file>