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4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2.jpeg" ContentType="image/jpe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C4DD-1D7C-4E09-B22B-019B612C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9593-32E3-4B97-8406-57B5F139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2604-2359-48AD-A907-F5CB1D81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4469-5332-4992-9C6E-52AE1868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F3AE-BD19-43A6-B46D-B6CDBC49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9B3B-98C5-4ED6-BC1C-FA7C2A07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068C-DFBD-4357-B622-88C15DD8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ECC8-58F3-4407-8460-D4810542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8B73-2F6A-40B2-8123-B8E09852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8868-5139-4E79-967B-FFB89724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1BC5-E4D3-44E2-8EC6-2B7C9ED2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6A42-69D1-4C0C-A3A0-4D640237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A22F-3A6D-4DEE-98BC-EEDD9839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9C2E-2B0C-41FA-842D-B1861CC9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DFFA-C116-4B51-9436-E0D34558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EA2B-5E9B-4634-9155-89D39272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6FA2-D126-452C-947A-E931E212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7CA4-DAB0-44F3-AA2A-0C043C1F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6153-54C1-4D54-B7F1-32B495A8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6094-31A3-40BC-B510-101A7AEB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5207-602C-459C-9AFF-8E29365F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FD86-8597-4C5B-A650-990A3216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BB55-B2E4-45E2-B1F1-976BAAA3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0D78-70B1-4043-A5CB-BB6DE5B4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24480"/>
            <a:ext cx="16765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32448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E5A8-E165-4104-879C-9AB947BE476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F84E-673E-423D-A078-62F2DBD8692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ct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ct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zoleerjekinderenlezenenspellen.nl/" TargetMode="External"/><Relationship Id="rId3" Type="http://schemas.openxmlformats.org/officeDocument/2006/relationships/hyperlink" Target="http://www.zoleerjekinderenlezenenspellen.nl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9807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Arial"/>
              </a:rPr>
              <a:t>How to teach children reading and spelling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4114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Arial"/>
              </a:rPr>
              <a:t>Anna M. T. Bosm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Special Education, Radboud Universiteit Nijm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The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.bosman@pwo.ru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www.annabosman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Phoneme blending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(max. = 4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62120" y="1600200"/>
          <a:ext cx="7772400" cy="458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600200"/>
                    <a:ext cx="777240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Reading letters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3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Reading CVC words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n/min.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Reading CCVC words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n/min.)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Reading multi-syllable words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n/min.)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Phoneme segmentatio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4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600200"/>
          <a:ext cx="7772400" cy="458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600200"/>
                    <a:ext cx="777240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Writing letters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3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8-words dictatio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8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pelling tests March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% correc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pelling tests June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% correc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de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-15% in regular edu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% in speci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lling de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ther intelligence nor background,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1820"/>
                </a:solidFill>
                <a:latin typeface="Arial"/>
              </a:rPr>
              <a:t>Quality of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School levels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Arial"/>
              </a:rPr>
              <a:t>Dutch national norms </a:t>
            </a:r>
            <a:r>
              <a:rPr b="1" sz="2800" spc="-1" strike="noStrike">
                <a:solidFill>
                  <a:srgbClr val="000000"/>
                </a:solidFill>
                <a:latin typeface="Arial"/>
              </a:rPr>
              <a:t>(Cito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62120" y="190512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90512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Reading CVC-words in Ju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Reading CCVCCC-words in Ju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217080" y="5362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</a:rPr>
              <a:t>Reading multi-syllable words in Ju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Text-level 1 in Ju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Text-level 2 in Ju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Text-level 3 in Ju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62120" y="190512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90512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pelling level in March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pelling level in Ju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y goa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on of reading and spelling problems in special (and regular)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ffective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61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Reading and spelling is substantially and signficantly better in School X than Y and 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Reading performance of School X is at the level of regular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Spelling performance of School X is above the level of regular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stency levels of English and Dutch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057400"/>
            <a:ext cx="1676520" cy="1295280"/>
          </a:xfrm>
          <a:prstGeom prst="octagon">
            <a:avLst>
              <a:gd name="adj" fmla="val 29287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4952880"/>
            <a:ext cx="1981080" cy="1143000"/>
          </a:xfrm>
          <a:prstGeom prst="octagon">
            <a:avLst>
              <a:gd name="adj" fmla="val 29287"/>
            </a:avLst>
          </a:prstGeom>
          <a:solidFill>
            <a:srgbClr val="ff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63" idx="0"/>
            <a:endCxn id="162" idx="1"/>
          </p:cNvCxnSpPr>
          <p:nvPr/>
        </p:nvCxnSpPr>
        <p:spPr>
          <a:xfrm flipV="1" rot="16200000">
            <a:off x="2952360" y="3180600"/>
            <a:ext cx="2248560" cy="1296000"/>
          </a:xfrm>
          <a:prstGeom prst="curvedConnector5">
            <a:avLst>
              <a:gd name="adj1" fmla="val 35580"/>
              <a:gd name="adj2" fmla="val 58821"/>
              <a:gd name="adj3" fmla="val 35580"/>
            </a:avLst>
          </a:prstGeom>
          <a:ln w="76320">
            <a:solidFill>
              <a:srgbClr val="3300ff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H="1">
            <a:off x="3885480" y="2362320"/>
            <a:ext cx="1143720" cy="2782080"/>
          </a:xfrm>
          <a:prstGeom prst="curvedConnector5">
            <a:avLst>
              <a:gd name="adj1" fmla="val -19993"/>
              <a:gd name="adj2" fmla="val 30814"/>
              <a:gd name="adj3" fmla="val -19993"/>
            </a:avLst>
          </a:prstGeom>
          <a:ln w="76320">
            <a:solidFill>
              <a:srgbClr val="ff00cc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533520" y="243828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[di:r] deer/d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[par] pair/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05720" y="396252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876920"/>
            <a:ext cx="179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nglish 2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utch   3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220968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nglish 6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utch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86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31200" y="37339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14600" y="1752480"/>
            <a:ext cx="3962520" cy="4496040"/>
          </a:xfrm>
          <a:prstGeom prst="verticalScroll">
            <a:avLst>
              <a:gd name="adj" fmla="val 12500"/>
            </a:avLst>
          </a:prstGeom>
          <a:solidFill>
            <a:srgbClr val="75a44b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2590920"/>
            <a:ext cx="2209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 e a d i n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2362320"/>
            <a:ext cx="1752480" cy="1447560"/>
          </a:xfrm>
          <a:prstGeom prst="cloudCallout">
            <a:avLst>
              <a:gd name="adj1" fmla="val -20652"/>
              <a:gd name="adj2" fmla="val 10054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4038480"/>
            <a:ext cx="1752480" cy="1447920"/>
          </a:xfrm>
          <a:prstGeom prst="cloudCallout">
            <a:avLst>
              <a:gd name="adj1" fmla="val -29347"/>
              <a:gd name="adj2" fmla="val 126865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makes HTCRS effectiv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‘What’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orthography using a well-defined framework (meta-cogn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ys of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exercises based on task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ing exercises prior to reading (phoneme blen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lling exercises prior to spelling (phoneme segm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‘How’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ws facing the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ion during group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ientation basis (Russian psycholog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rete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actice each of the compon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ration in exist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sensory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, auditory, and 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ily repetition &amp;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ay same order of exerc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ay a spell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Guaranteed success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  <a:hlinkClick r:id="rId2"/>
              </a:rPr>
              <a:t>www.zoleerjekinderenlezenenspellen.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  <a:hlinkClick r:id="rId3"/>
              </a:rPr>
              <a:t>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th wha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teach children reading and spell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TCRS; Schraven, 1994/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J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Schraven M.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What is the effect of HTC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What level can be reached with HTC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pertaining to students in speci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Participating schoo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9480" y="1981080"/>
          <a:ext cx="7620120" cy="4554720"/>
        </p:xfrm>
        <a:graphic>
          <a:graphicData uri="http://schemas.openxmlformats.org/drawingml/2006/table">
            <a:tbl>
              <a:tblPr/>
              <a:tblGrid>
                <a:gridCol w="1295640"/>
                <a:gridCol w="1752480"/>
                <a:gridCol w="1371600"/>
                <a:gridCol w="1371600"/>
                <a:gridCol w="182880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/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n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C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year R&amp;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 re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 Sp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Mean age &amp; scores on cognitive task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1828800"/>
          <a:ext cx="7924680" cy="2819520"/>
        </p:xfrm>
        <a:graphic>
          <a:graphicData uri="http://schemas.openxmlformats.org/drawingml/2006/table">
            <a:tbl>
              <a:tblPr/>
              <a:tblGrid>
                <a:gridCol w="685800"/>
                <a:gridCol w="1523880"/>
                <a:gridCol w="1295280"/>
                <a:gridCol w="1524240"/>
                <a:gridCol w="914400"/>
                <a:gridCol w="182520"/>
                <a:gridCol w="17985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62120" y="51814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PM = Nonverbal intelligence; Ra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VOC = Vocabulary; ≈ Peabo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LTM = Long-term memory; 12-words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TM = Short-term memory; digit recall and backward digit re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Test calen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280" y="1219320"/>
          <a:ext cx="8991720" cy="5329080"/>
        </p:xfrm>
        <a:graphic>
          <a:graphicData uri="http://schemas.openxmlformats.org/drawingml/2006/table">
            <a:tbl>
              <a:tblPr/>
              <a:tblGrid>
                <a:gridCol w="4267440"/>
                <a:gridCol w="1523880"/>
                <a:gridCol w="1417680"/>
                <a:gridCol w="933480"/>
                <a:gridCol w="849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eme blen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 let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 tex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eme segmen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ing let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words dic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te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2514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Differences between school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08:12:18Z</dcterms:created>
  <dc:creator>Office 2004 Test Drive Anna Bosman</dc:creator>
  <dc:description/>
  <dc:language>en-US</dc:language>
  <cp:lastModifiedBy>Anna Bosman</cp:lastModifiedBy>
  <dcterms:modified xsi:type="dcterms:W3CDTF">2008-07-09T23:58:30Z</dcterms:modified>
  <cp:revision>95</cp:revision>
  <dc:subject/>
  <dc:title>Zo leer je kinderen  lezen en spellen</dc:title>
</cp:coreProperties>
</file>