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8B8-FBE1-4B50-8E0B-334EB07B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98D-5E26-4263-A6ED-AA5256C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B4D-1493-42A8-BAA6-E305F910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223-1147-4057-A154-5D919E8F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CBE-30B6-42D9-884D-B6AE98A0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A4C-35DC-4D34-B406-47B6C608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C23F-22D4-493B-A2AE-77DFF233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7031-4464-44F3-A35D-D5751BD3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CD7D-DA59-4D1E-AAA8-3B2B95DE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724-5C8B-4D10-8F6D-DAF14F7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636-5C0E-4C57-85CD-E65B2C8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0A0-1E88-42F4-B84C-25D211C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D34E-E4B9-4D74-9E9E-67C5886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5679-9871-46B8-8591-5B6387B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58AD-2124-4E9A-9E0B-64B3D4A5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7D5B-5D0B-42FC-9E30-D98CEC93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9FB-0AB9-4CFE-A901-15AF9D5E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3F8-6C6B-4AAD-B8BE-21E56D0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AA3-168C-4EC9-9E56-1AD7575B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F49-9204-4ADC-BAE2-964E58F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C20-B893-4805-A8E5-538A653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F20-0D75-4E29-95CC-6B3E07B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34F-CD91-4180-9377-AFCC6C1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6C4-A5B6-4A97-8165-B36F71A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74F-CA45-42CE-9EF5-5B03A0BB07C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A9C5-DB62-412B-BB5A-136D9FEC81E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How to teach children reading and spell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cial Education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multi-syllable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Writ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rds dic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March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Jun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regular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intelligence nor background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Qualit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School level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Dutch national norms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(Cit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C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17080" y="5362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Reading multi-syllable words in Ju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1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2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3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Mar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go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of reading and spelling problems in special (and regular)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and spelling is substantially and signficantly better in School X than Y and 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performance of School X is at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elling performance of School X is above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cy levels of English and Du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057400"/>
            <a:ext cx="1676520" cy="1295280"/>
          </a:xfrm>
          <a:prstGeom prst="octagon">
            <a:avLst>
              <a:gd name="adj" fmla="val 2928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ff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0"/>
            <a:endCxn id="162" idx="1"/>
          </p:cNvCxnSpPr>
          <p:nvPr/>
        </p:nvCxnSpPr>
        <p:spPr>
          <a:xfrm flipV="1" rot="16200000">
            <a:off x="2952360" y="3180600"/>
            <a:ext cx="2248560" cy="1296000"/>
          </a:xfrm>
          <a:prstGeom prst="curvedConnector5">
            <a:avLst>
              <a:gd name="adj1" fmla="val 35580"/>
              <a:gd name="adj2" fmla="val 58821"/>
              <a:gd name="adj3" fmla="val 3558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3352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di:r] deer/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par] pair/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  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2096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31200" y="3733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2590920"/>
            <a:ext cx="220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e a d i n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HTCRS effectiv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Wh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rthography using a well-defined framework (meta-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xercises based on ta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exercises prior to reading (phoneme blen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exercises prior to spelling (phoneme seg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How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facing the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on during group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 basis (Russian 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 each of the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in exis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auditory, and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peti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same order of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a spell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uaranteed succes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wha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teach children reading and spell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CRS; Schraven, 1994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 M.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is the effect of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level can be reached with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ertaining to students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articipating schoo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/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C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 R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r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S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Mean age &amp; scores on cognitive tas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295280"/>
                <a:gridCol w="1524240"/>
                <a:gridCol w="914400"/>
                <a:gridCol w="182520"/>
                <a:gridCol w="1798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verbal intelligenc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C = Vocabulary; ≈ Pea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ong-term memory; 12-word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M = Short-term memory; digit recall and backward digit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st c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219320"/>
          <a:ext cx="8991720" cy="5329080"/>
        </p:xfrm>
        <a:graphic>
          <a:graphicData uri="http://schemas.openxmlformats.org/drawingml/2006/table">
            <a:tbl>
              <a:tblPr/>
              <a:tblGrid>
                <a:gridCol w="4267440"/>
                <a:gridCol w="1523880"/>
                <a:gridCol w="1417680"/>
                <a:gridCol w="933480"/>
                <a:gridCol w="84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bl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seg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rds dic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Differences between scho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Anna Bosman</cp:lastModifiedBy>
  <dcterms:modified xsi:type="dcterms:W3CDTF">2008-07-09T23:58:30Z</dcterms:modified>
  <cp:revision>95</cp:revision>
  <dc:subject/>
  <dc:title>Zo leer je kinderen  lezen en spellen</dc:title>
</cp:coreProperties>
</file>