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205-1106-4138-BF79-893F2EF5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5C9-0A1C-4E22-8C9A-DAB3F5B9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136-5462-4AFF-8111-C643234B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D4F-C11E-4E02-8B75-2484B33A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E695-E6EE-4B84-A79A-466D0C79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759F-3C38-4BA8-AA7F-C9B67B5A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82BF-B946-4942-8551-FDFD1E3D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3EDD-64A0-4906-BF83-C1DBF909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A48F-3B9D-4623-8B46-EA022457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10C6-4E58-4906-B313-E1D1BA6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B966-8851-4A67-AB3A-2D2D439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F6D-F5E6-423A-AD95-EC306FAB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5C9-D39B-48B2-9F2A-DA6E68E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4E64-78A4-4629-A797-3AAE2C08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F1DF-8C18-4922-9EDA-F3AE6B7B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D85A-C256-4DD0-9089-E3E95982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698A-665B-4BF5-9536-4EA5A4E6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856-BFF0-4657-BF4D-305690CC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09D-3BD4-4023-B234-F749021B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032-D6BC-41F8-AF25-3CA9445B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CC2-C7A1-4BF9-B60D-FC846338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A50-81D2-4239-8A75-FAB4A7E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F21-CFEB-4377-89C1-C5C53DDE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5EF-935F-4FDD-8DB1-42DBD81E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FC1E-5AE1-490F-91EC-62692A62D84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468F-6301-405D-BD1E-1FD0BF5998E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98072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Zo leer je kinderen </a:t>
            </a:r>
            <a:br>
              <a:rPr sz="5400"/>
            </a:br>
            <a:r>
              <a:rPr b="1" sz="5400" spc="-1" strike="noStrike">
                <a:solidFill>
                  <a:srgbClr val="000000"/>
                </a:solidFill>
                <a:latin typeface="Arial"/>
              </a:rPr>
              <a:t>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1-3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maar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4-5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jun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t proble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het Bao (Struiksma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het Sbao (van Bon e.a.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geg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r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telligentie of afkomst, m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1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2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3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M23 niveaus in maar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E3b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e school met ZLKLS heeft op zowel lezen als spellen substantieel betere prestaties dan de scholen zo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lees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vergelijkbaa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et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spelling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bete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dan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 maakt ZLKLS Effectief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de orthografie door een denkkader (meta-cognit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oefeningen op basis van de taak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 (auditieve synth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 (auditieve analy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e tijdens groeps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nterings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et 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fenen van ond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e met bestaande 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ele, auditieve en motorische 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cces verzeker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Onderzoeks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at is het effect van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ot welk niveau leidt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eelnemende schol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i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K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Gemiddelde leeftijd + scores op cognitieve tes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066680"/>
                <a:gridCol w="1067040"/>
                <a:gridCol w="1143000"/>
                <a:gridCol w="182520"/>
                <a:gridCol w="22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fers vw/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-verbale intelligenti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ST = Woordenschat; RA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ange termijn geheugen; 12-woorde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ijfers vw/aw = korte termijn geheugen; cijferreeksen voor- en achte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295280"/>
          <a:ext cx="8076960" cy="5253120"/>
        </p:xfrm>
        <a:graphic>
          <a:graphicData uri="http://schemas.openxmlformats.org/drawingml/2006/table">
            <a:tbl>
              <a:tblPr/>
              <a:tblGrid>
                <a:gridCol w="3581280"/>
                <a:gridCol w="1523880"/>
                <a:gridCol w="1371600"/>
                <a:gridCol w="838440"/>
                <a:gridCol w="761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synth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Anna Bosman</cp:lastModifiedBy>
  <dcterms:modified xsi:type="dcterms:W3CDTF">2007-09-16T17:58:25Z</dcterms:modified>
  <cp:revision>72</cp:revision>
  <dc:subject/>
  <dc:title>Zo leer je kinderen  lezen en spellen</dc:title>
</cp:coreProperties>
</file>