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8A7-1BAF-40AF-89E9-2C29FEB0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250-6C98-4BA4-AA44-8F12219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651-D030-4820-A978-C2055E25C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0A3-1631-41C9-9BEA-CB9018DC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F64-4E14-4E47-8297-B8D1F83B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7F59-931A-4CB1-BEBB-9D0E98C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7139-6732-426D-9459-C84AA84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2A39-B127-48D4-9D1B-7252BBEB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ADEE-CB5D-4D2F-ACC0-6A7EBFD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444B-B485-48ED-8AAE-3B8B3AD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9B41-B1DF-406D-ABE1-D12CC7D7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887-A089-479D-8C7A-CC5BA9CD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764E-A4CA-427C-A70D-1174C234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952A-5F5F-40C3-A588-21644DD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E6C5-8BB2-4565-A7CD-0C3B3948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29BA-646C-47DA-B7A2-8164058E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729-593F-4925-BD37-79C1840D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9BF-1E8D-4D1D-A86C-B3C1807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4F4-9D5A-46D8-910A-9C523E62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8F8-6CF3-4207-B2B7-7191C06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BF2-018A-4A64-855D-82BB3D0E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BB4-4B88-4223-AAE9-9834EB5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F8F-0C28-4BEB-BE1F-6EE6D90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7E0-BD62-43F1-8413-EDF6A9E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70BC-C3E9-472A-9B61-10D922F39B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40CD-05B7-4FC5-8FA0-3A0B08ADBAA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Zo leer je kinderen </a:t>
            </a:r>
            <a:br>
              <a:rPr sz="5400"/>
            </a:br>
            <a:r>
              <a:rPr b="1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de orthografie door een denkkader (meta-cognit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efeningen op basis van de taak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 (auditieve synth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 (auditieve 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e tijdens groeps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nterings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et 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fenen van ond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e met bestaand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ele, auditieve en motorische 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8076960" cy="5253120"/>
        </p:xfrm>
        <a:graphic>
          <a:graphicData uri="http://schemas.openxmlformats.org/drawingml/2006/table">
            <a:tbl>
              <a:tblPr/>
              <a:tblGrid>
                <a:gridCol w="3581280"/>
                <a:gridCol w="1523880"/>
                <a:gridCol w="1371600"/>
                <a:gridCol w="8384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Anna Bosman</cp:lastModifiedBy>
  <dcterms:modified xsi:type="dcterms:W3CDTF">2007-09-16T17:58:25Z</dcterms:modified>
  <cp:revision>72</cp:revision>
  <dc:subject/>
  <dc:title>Zo leer je kinderen  lezen en spellen</dc:title>
</cp:coreProperties>
</file>