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079280" y="1870560"/>
            <a:ext cx="1084572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96800" y="6827040"/>
            <a:ext cx="1021068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29040" y="576540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9680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629040" y="6827040"/>
            <a:ext cx="498276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4920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01240" y="576540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968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84920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8301240" y="6827040"/>
            <a:ext cx="3287520" cy="96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1000"/>
          </a:bodyPr>
          <a:p>
            <a:pPr marL="433080" indent="-290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06960" indent="-27036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80480" indent="-2491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987480" indent="-2491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181880" indent="-2491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181880" indent="-2491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181880" indent="-2491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8000"/>
          </a:bodyPr>
          <a:p>
            <a:pPr marL="702000" indent="-4442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68040" indent="-41328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33000" indent="-3812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550160" indent="-3812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847160" indent="-3812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847160" indent="-3812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847160" indent="-3812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45120" indent="-433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04680" indent="-4028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162800" indent="-371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471680" indent="-371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761120" indent="-371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761120" indent="-371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761120" indent="-371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3000"/>
          </a:bodyPr>
          <a:p>
            <a:pPr marL="365040" indent="-2448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11920" indent="-2278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657720" indent="-2098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32680" indent="-2098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996480" indent="-2098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996480" indent="-2098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996480" indent="-2098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1000"/>
          </a:bodyPr>
          <a:p>
            <a:pPr marL="433080" indent="-290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06960" indent="-27036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80480" indent="-2491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987480" indent="-2491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181880" indent="-2491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181880" indent="-2491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181880" indent="-2491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645120" indent="-433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04680" indent="-4028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162800" indent="-371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471680" indent="-371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761120" indent="-371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761120" indent="-371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761120" indent="-3715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79280" y="1244160"/>
            <a:ext cx="1084572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Dynamiek in Kleuters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Prof. dr. Anna M. T. Bosman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Radboud Universiteit Nijmegen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www.annabosman.eu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7" name=""/>
          <p:cNvSpPr/>
          <p:nvPr/>
        </p:nvSpPr>
        <p:spPr>
          <a:xfrm>
            <a:off x="9286200" y="7696080"/>
            <a:ext cx="360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Savoye LET"/>
                <a:ea typeface="Savoye LET"/>
              </a:rPr>
              <a:t>6-12-2007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12880" y="1294920"/>
            <a:ext cx="11709360" cy="133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Ontluikende geletterdheid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599840" y="3352320"/>
            <a:ext cx="9969480" cy="459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74000" indent="-48996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avoye LET"/>
              </a:rPr>
              <a:t>Groep 2: </a:t>
            </a:r>
            <a:endParaRPr b="0" lang="en-US" sz="4400" spc="-1" strike="noStrike">
              <a:solidFill>
                <a:srgbClr val="000000"/>
              </a:solidFill>
              <a:latin typeface="Savoye LET"/>
            </a:endParaRPr>
          </a:p>
          <a:p>
            <a:pPr lvl="1" marL="1067400" indent="-45540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avoye LET"/>
              </a:rPr>
              <a:t>Systematisch oefenen met letters en klanken</a:t>
            </a:r>
            <a:endParaRPr b="0" lang="en-US" sz="3800" spc="-1" strike="noStrike">
              <a:solidFill>
                <a:srgbClr val="000000"/>
              </a:solidFill>
              <a:latin typeface="Savoye LET"/>
            </a:endParaRPr>
          </a:p>
          <a:p>
            <a:pPr lvl="1" marL="1067400" indent="-45540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avoye LET"/>
              </a:rPr>
              <a:t>Auditieve synthese met klankzuivere MKM-woorden door verlengde klankwaarde</a:t>
            </a:r>
            <a:endParaRPr b="0" lang="en-US" sz="3800" spc="-1" strike="noStrike">
              <a:solidFill>
                <a:srgbClr val="000000"/>
              </a:solidFill>
              <a:latin typeface="Savoye LET"/>
            </a:endParaRPr>
          </a:p>
          <a:p>
            <a:pPr lvl="1" marL="1067400" indent="-45540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avoye LET"/>
              </a:rPr>
              <a:t>Auditieve analyse met klankzuivere MKM-woorden en visuele ondersteuning</a:t>
            </a:r>
            <a:endParaRPr b="0" lang="en-US" sz="3800" spc="-1" strike="noStrike">
              <a:solidFill>
                <a:srgbClr val="000000"/>
              </a:solidFill>
              <a:latin typeface="Savoye LET"/>
            </a:endParaRPr>
          </a:p>
          <a:p>
            <a:pPr lvl="1" marL="10674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Beginnende geletterdheid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801000" indent="-5068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Groep 3: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104480" indent="-47160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ystematische en preventieve methodiek toepassen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marL="1104480" indent="-47160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Elke dag oefenen en herhalen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marL="1104480" indent="-47160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Leerkracht is mod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marL="1104480" indent="-47160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Klassikale oefeningen doen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05120" y="17524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Gevorderde geletterdheid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Groep 4 en verder: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Gerichte en systematische instructie blijven geven dan zal er geen dip in de lees- en spellingprestaties ontstaan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05120" y="121932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oetsen ???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956880" cy="546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648000" indent="-41004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in de Groepen 1 en 2: Wat willen we ermee?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648000" indent="-41004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in Groep 3: Onontbeerlijk voor het monitoren van lezen en spellen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648000" indent="-41004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vanaf Groep 4: zeer belangrijk voor het continu volgen van de basisvaardigheden lezen (TL en BL), spellen (Lexicaal en Grammaticaal), rekenen en taal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4" name=""/>
          <p:cNvSpPr/>
          <p:nvPr/>
        </p:nvSpPr>
        <p:spPr>
          <a:xfrm>
            <a:off x="2133720" y="1447920"/>
            <a:ext cx="911844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  <a:ea typeface="Savoye LET"/>
              </a:rPr>
              <a:t>RT-er: Mevrouw Bosman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  <a:ea typeface="Savoye LET"/>
              </a:rPr>
              <a:t>AB: Ja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  <a:ea typeface="Savoye LET"/>
              </a:rPr>
              <a:t>RT-er: Hoe komt het dat wij sinds de invoering van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  <a:ea typeface="Savoye LET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Savoye LET"/>
                <a:ea typeface="Savoye LET"/>
              </a:rPr>
              <a:t>Zo leer je kinderen lezen en spellen” geen dyslectische leerlingen meer hebben?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  <a:ea typeface="Savoye LET"/>
              </a:rPr>
              <a:t>AB: Wat een effectieve instructie al niet kan doen?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9280" y="1244160"/>
            <a:ext cx="10845720" cy="586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Dank</a:t>
            </a:r>
            <a:br>
              <a:rPr sz="12000"/>
            </a:b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voor uw</a:t>
            </a:r>
            <a:br>
              <a:rPr sz="12000"/>
            </a:b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Dynamische Aandach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Moraal van mijn Verhaal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9" name=""/>
          <p:cNvSpPr/>
          <p:nvPr/>
        </p:nvSpPr>
        <p:spPr>
          <a:xfrm>
            <a:off x="-5183640" y="3633480"/>
            <a:ext cx="230436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avoye LET"/>
                <a:ea typeface="Savoye LET"/>
              </a:rPr>
              <a:t>Stel bij elke uitspraak over het onderwijs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avoye LET"/>
                <a:ea typeface="Savoye LET"/>
              </a:rPr>
              <a:t>de vraag naar het bewijs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Gefingeerde gegeven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3251160" y="2590920"/>
          <a:ext cx="7010280" cy="5321160"/>
        </p:xfrm>
        <a:graphic>
          <a:graphicData uri="http://schemas.openxmlformats.org/drawingml/2006/table">
            <a:tbl>
              <a:tblPr/>
              <a:tblGrid>
                <a:gridCol w="2260440"/>
                <a:gridCol w="2210040"/>
                <a:gridCol w="2539800"/>
              </a:tblGrid>
              <a:tr h="18090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Leeftijd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Meisjes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Jongens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12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95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55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15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215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145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18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295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260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21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410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600" spc="-1" strike="noStrike">
                          <a:solidFill>
                            <a:srgbClr val="000000"/>
                          </a:solidFill>
                          <a:latin typeface="Savoye LET"/>
                          <a:ea typeface="ヒラギノ角ゴ Pro W3"/>
                        </a:rPr>
                        <a:t>340</a:t>
                      </a:r>
                      <a:endParaRPr b="0" lang="en-US" sz="56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5418"/>
                      </a:solidFill>
                    </a:lnL>
                    <a:lnR w="12240">
                      <a:solidFill>
                        <a:srgbClr val="cc5418"/>
                      </a:solidFill>
                    </a:lnR>
                    <a:lnT w="12240">
                      <a:solidFill>
                        <a:srgbClr val="cc5418"/>
                      </a:solidFill>
                    </a:lnT>
                    <a:lnB w="12240">
                      <a:solidFill>
                        <a:srgbClr val="cc541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79560" y="1143000"/>
            <a:ext cx="9245520" cy="116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Grafiek gefingeerde gegeven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2616120" y="2817720"/>
            <a:ext cx="9448920" cy="50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Echte gegeven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343240" y="2665440"/>
            <a:ext cx="854856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52120" y="1066680"/>
            <a:ext cx="924588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aaltoetsen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536480" y="2628720"/>
            <a:ext cx="10388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83000" indent="-4957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baseline="4000">
                <a:solidFill>
                  <a:srgbClr val="000000"/>
                </a:solidFill>
                <a:latin typeface="Savoye LET"/>
              </a:rPr>
              <a:t>Lerende houding, Piaget, Concreet-operationele stadium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  <a:p>
            <a:pPr marL="783000" indent="-49572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baseline="4000">
                <a:solidFill>
                  <a:srgbClr val="000000"/>
                </a:solidFill>
                <a:latin typeface="Savoye LET"/>
              </a:rPr>
              <a:t>Kleuters en planmatig werken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  <a:p>
            <a:pPr marL="783000" indent="-49572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baseline="4000">
                <a:solidFill>
                  <a:srgbClr val="000000"/>
                </a:solidFill>
                <a:latin typeface="Savoye LET"/>
              </a:rPr>
              <a:t>Voor- en nadelen van kleutertoetsen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  <a:p>
            <a:pPr marL="783000" indent="-49572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baseline="4000">
                <a:solidFill>
                  <a:srgbClr val="000000"/>
                </a:solidFill>
                <a:latin typeface="Savoye LET"/>
              </a:rPr>
              <a:t>Over- en onderschatten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  <a:p>
            <a:pPr marL="783000" indent="-49572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baseline="4000">
                <a:solidFill>
                  <a:srgbClr val="000000"/>
                </a:solidFill>
                <a:latin typeface="Savoye LET"/>
              </a:rPr>
              <a:t>Taaltoetsen, Ordenen en Leesvoorwaarden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79560" y="1752120"/>
            <a:ext cx="924552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Nederlands als tweede taal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09320" y="2590920"/>
            <a:ext cx="9245880" cy="558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46000" indent="-5356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multaan en successieve tweetaligheid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846000" indent="-5356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timuleren van de ontwikkeling van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166760" indent="-4978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weede taal: onderdompeling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marL="1166760" indent="-4978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eerste taal: veel praten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1027440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Dyslexie: Hoed u voor de diagnose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828800" y="3352320"/>
            <a:ext cx="10261440" cy="529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666000" indent="-42156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Definitie: ‘probleem met het flexibel omzetten van letters in klanken en klanken in letters’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666000" indent="-42156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Prevalentie? 0.5% tot 1% is mijn gok (= max 1 op 100)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666000" indent="-42156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Lijkt in families voor te komen (erfelijk??)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666000" indent="-42156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De mythe van kleurnamen, benoemsnelheid en actieve screening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666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Letters en Klanken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2488680"/>
            <a:ext cx="1045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648000" indent="-41004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Gemiddeld kennen leerlingen 16 letters bij de overgang naar groep 3 (is echter geen eis)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648000" indent="-41004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Belangstelling voor letters aanwakkeren (Vygotskyaans)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648000" indent="-41004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Geen letters, maar grafemen aanleren (houd lettertype gelijk)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648000" indent="-41004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Auditieve beperking niet noodzakelijk een beperking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Office 2004 Test Drive Anna Bosman</cp:lastModifiedBy>
  <dcterms:modified xsi:type="dcterms:W3CDTF">2007-12-03T21:16:01Z</dcterms:modified>
  <cp:revision>5</cp:revision>
  <dc:subject/>
  <dc:title>Dynamiek in Kleuters</dc:title>
</cp:coreProperties>
</file>