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3573-7531-418A-8892-9F1FD3FE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9A2-28B2-4052-A223-44A9F078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B5D-3C40-45AB-ABCC-94037D66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DC4-4567-429B-AFDB-97DA56CE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AD08-7C81-4162-9E73-7562B406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B253-A9D8-4AF4-B4E3-B81D438B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10F7-3D94-4353-89AA-4B0330B8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B5C-EFE1-4C8B-912E-4734F3C6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F4F-58EC-4DB1-8A2A-53237454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380A-9105-482C-BD91-5AEC1385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53A-C949-46EC-B284-78350B11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B141-99F8-4DCC-A801-700BB111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FD6C-4F35-4D92-9058-CFA060DA2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600200"/>
            <a:ext cx="8218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0099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1/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anging attractive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 1/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mit cycle 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/f enables for flexibly, adaptively changing attractive patterns, which is an act of self-organis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5160" y="1387440"/>
            <a:ext cx="588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/f noise                                         human 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98100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56000" y="162864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9640" y="1123920"/>
            <a:ext cx="49672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1280" y="1123920"/>
            <a:ext cx="43164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780000" y="1123560"/>
            <a:ext cx="5047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61360" y="739800"/>
            <a:ext cx="45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                                         1/f 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219680" y="346140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or same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92428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472428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9000" y="182520"/>
            <a:ext cx="82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cc0099"/>
                </a:solidFill>
                <a:latin typeface="Arial"/>
              </a:rPr>
              <a:t>1/f noise in human cognition is no evidence for Self-Organised Critic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6922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162864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an be observ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95600">
            <a:off x="4427280" y="112500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oes not im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26496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44496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692280"/>
            <a:ext cx="792180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2565360"/>
            <a:ext cx="849636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3:06:18Z</dcterms:created>
  <dc:creator>gebruiker</dc:creator>
  <dc:description/>
  <dc:language>en-US</dc:language>
  <cp:lastModifiedBy>gebruiker</cp:lastModifiedBy>
  <dcterms:modified xsi:type="dcterms:W3CDTF">2007-03-07T13:13:56Z</dcterms:modified>
  <cp:revision>2</cp:revision>
  <dc:subject/>
  <dc:title>Dia 1</dc:title>
</cp:coreProperties>
</file>