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EA0-51E7-47D4-8A9C-F56E36F4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3D4-6357-4059-A93F-4415B436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8EFF-796B-4A1B-9562-28869164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29C5-E82D-4163-B0B3-D1BFB35C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C06-1DCD-45D9-AAE7-3C2CF98C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CB4D-CCB8-49DF-8606-3B9DBCC7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752-FC8C-4FB5-AA0D-D0CCF119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653-F649-4E88-BBB0-E8491C8B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D7A-B0ED-4DA7-9252-244DF02E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D42-93C4-46C0-B3FF-3CBB8B52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C9F-9929-4DCA-AEFB-2DE70ECD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CD0-2822-45E8-9BC4-4AACBFB5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A556-9DC9-4EC1-83A5-1304B2F38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600200"/>
            <a:ext cx="8218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99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1/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anging attractive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 1/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mit cycle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/f enables for flexibly, adaptively changing attractive patterns, which is an act of self-organis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5160" y="138744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/f noise                                         human 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98100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56000" y="1628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1123920"/>
            <a:ext cx="49672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1280" y="112392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780000" y="1123560"/>
            <a:ext cx="504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61360" y="739800"/>
            <a:ext cx="45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                                         1/f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219680" y="34614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or same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92428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472428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9000" y="182520"/>
            <a:ext cx="82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0099"/>
                </a:solidFill>
                <a:latin typeface="Arial"/>
              </a:rPr>
              <a:t>1/f noise in human cognition is no evidence for Self-Organised Critic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692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16286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an be observ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95600">
            <a:off x="4427280" y="112500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26496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44496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692280"/>
            <a:ext cx="792180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2565360"/>
            <a:ext cx="849636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3:06:18Z</dcterms:created>
  <dc:creator>gebruiker</dc:creator>
  <dc:description/>
  <dc:language>en-US</dc:language>
  <cp:lastModifiedBy>gebruiker</cp:lastModifiedBy>
  <dcterms:modified xsi:type="dcterms:W3CDTF">2007-03-07T13:13:56Z</dcterms:modified>
  <cp:revision>2</cp:revision>
  <dc:subject/>
  <dc:title>Dia 1</dc:title>
</cp:coreProperties>
</file>