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2.png" ContentType="image/png"/>
  <Override PartName="/ppt/media/image16.pct" ContentType="image/x-pict"/>
  <Override PartName="/ppt/media/image15.pct" ContentType="image/x-pict"/>
  <Override PartName="/ppt/media/image14.pct" ContentType="image/x-pict"/>
  <Override PartName="/ppt/media/image3.png" ContentType="image/pn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.png" ContentType="image/png"/>
  <Override PartName="/ppt/media/image12.pct" ContentType="image/x-pict"/>
  <Override PartName="/ppt/media/image8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A61-EE1E-4DF2-A2CA-5961E9A5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731-093B-4250-86D8-892FC370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997-B0E8-46BC-867F-1CA91D1F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881-DAFF-4259-9476-0653E0FB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5BA0-716A-4495-9AFF-1BAB07F1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839E-02A4-4001-8EDB-B48ACC60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3F8C-2EA0-4729-8E92-8929FBEE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133B-5360-4691-80CC-1B8CB9F7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14C0-826E-4B65-B5F4-4419A340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C66B-5BB5-4EF0-A10F-AB7FD8C1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863B-1C6C-4CAE-ADE8-C66251BF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9A7-B320-4D79-9EA5-05E46464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C9E6-2D6B-420C-9C4E-6ECC52C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1C46-17BB-48D6-B30F-5B2BC8F1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88F8-77C8-4E63-9445-3DE65CB4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7A70-54B1-40E0-9C1E-BFE648CD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2876-87B3-41E6-9BC6-F07AC01C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945-C9C5-4F8E-8A39-6291E1AF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AE8-4FAF-43C5-B0A6-E555E56B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582-6A6D-4F9E-B930-D29915EB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99D-3B51-40D8-A49F-89C0233D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73A-49AC-4ED0-B15C-0885A3C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51E-F3DD-4803-A8FB-D55357B8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95B-FC39-4E68-B825-CDFD413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2B61-B255-48BB-8687-A4BBDA133192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F361-6A86-490C-B7CC-3DEF5E5A3775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.bosman@pwo.ru.nl" TargetMode="External"/><Relationship Id="rId2" Type="http://schemas.openxmlformats.org/officeDocument/2006/relationships/hyperlink" Target="mailto:a.bosman@pwo.ru.nl" TargetMode="External"/><Relationship Id="rId3" Type="http://schemas.openxmlformats.org/officeDocument/2006/relationships/hyperlink" Target="mailto:a.bosman@pwo.ru.nl" TargetMode="External"/><Relationship Id="rId4" Type="http://schemas.openxmlformats.org/officeDocument/2006/relationships/hyperlink" Target="mailto:a.bosman@pwo.ru.nl" TargetMode="External"/><Relationship Id="rId5" Type="http://schemas.openxmlformats.org/officeDocument/2006/relationships/hyperlink" Target="mailto:a.bosman@pwo.ru.nl" TargetMode="External"/><Relationship Id="rId6" Type="http://schemas.openxmlformats.org/officeDocument/2006/relationships/hyperlink" Target="mailto:a.bosman@pwo.ru.nl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a.bosman@pwo.ru.nl" TargetMode="External"/><Relationship Id="rId2" Type="http://schemas.openxmlformats.org/officeDocument/2006/relationships/hyperlink" Target="mailto:a.bosman@pwo.ru.nl" TargetMode="External"/><Relationship Id="rId3" Type="http://schemas.openxmlformats.org/officeDocument/2006/relationships/hyperlink" Target="mailto:a.bosman@pwo.ru.nl" TargetMode="External"/><Relationship Id="rId4" Type="http://schemas.openxmlformats.org/officeDocument/2006/relationships/hyperlink" Target="mailto:a.bosman@pwo.ru.nl" TargetMode="External"/><Relationship Id="rId5" Type="http://schemas.openxmlformats.org/officeDocument/2006/relationships/hyperlink" Target="mailto:a.bosman@pwo.ru.nl" TargetMode="External"/><Relationship Id="rId6" Type="http://schemas.openxmlformats.org/officeDocument/2006/relationships/hyperlink" Target="mailto:a.bosman@pwo.ru.nl" TargetMode="External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Being smart about </a:t>
            </a:r>
            <a:br>
              <a:rPr sz="4400"/>
            </a:b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eaching spell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00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Anna M. T. Bosma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Radboud Universiteit Nijmegen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sman@pwo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l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00"/>
                </a:solidFill>
                <a:latin typeface="Arial"/>
              </a:rPr>
              <a:t>www.annabosman.eu</a:t>
            </a:r>
            <a:endParaRPr b="0" lang="en-US" sz="1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5943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Times New Roman"/>
              </a:rPr>
              <a:t>Kingston Ontario, September 20,  2007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Gain from pretest to retention test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6240" y="2133720"/>
          <a:ext cx="686268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6240" y="2133720"/>
                    <a:ext cx="68626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isual dictation is effective for all types of student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Visual dictation is particularly effective for words with inconsistent spelling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0000"/>
                </a:solidFill>
                <a:latin typeface="Arial"/>
              </a:rPr>
              <a:t>Regularized vs. Standard reading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6324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Bosman, A. M. T., van Hell, J. G., &amp; Verhoeven, L. (2006). Learning the spelling of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strange words in Dutch benefits from regularized reading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.  Journal of Educational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Psychology, 98,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879-890.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or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54120" y="2141640"/>
          <a:ext cx="519768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2141640"/>
                    <a:ext cx="51976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rticipant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87560" y="2286000"/>
          <a:ext cx="696744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7560" y="2286000"/>
                    <a:ext cx="696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Regular educa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1981080"/>
          <a:ext cx="746784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467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pecial educa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1981080"/>
          <a:ext cx="746784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467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gularized reading is more effective than standard reading for all spell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pelling is well retained in regular-education student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 spelling is </a:t>
            </a:r>
            <a:r>
              <a:rPr b="0" i="1" lang="en-US" sz="2800" spc="-1" strike="noStrike">
                <a:solidFill>
                  <a:srgbClr val="33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so well retained in special-education student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Regularized reading vs. Enhanced regularized reading</a:t>
            </a: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4190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Bosman, A. M. T., van Hell, J. G., &amp; Verhoeven, L. (2006). Learning the spelling of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strange words in Dutch benefits from regularized reading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.  Journal of Educational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    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Psychology, 98,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879-890.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or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54120" y="2141640"/>
          <a:ext cx="5197680" cy="38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2141640"/>
                    <a:ext cx="51976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Dutch education system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Kindergarten at 4 years (K1 and K2)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imary school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rade 1 starts at 6 year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Grade 6 ends at 12 year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pecial Education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chools for a-specific problems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Schools for specific disorders (Blind, deaf, behavioral problems,physically handicapped etc.)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rticipants (special education)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4240" y="2819520"/>
          <a:ext cx="6426000" cy="26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2819520"/>
                    <a:ext cx="642600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Good’ speller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905120"/>
          <a:ext cx="78487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848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oor’ speller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1752480"/>
          <a:ext cx="76201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6201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Conclusions 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391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gularized reading in special-education students is relatively well retained when the training is extende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oor’ spellers benefit to the same extent as ‘good’ speller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racticing the ‘funny’ pronunciation contributes to learning the spelling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Improving spelling while writing essay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752120" y="4191120"/>
            <a:ext cx="5867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Willemen, M., Bosman, A. M. T., &amp; van Hell, J. G. (2000). Beter leren spellen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tijdens het stellen [Improving spelling while writing essays]. 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Pedagogische   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     </a:t>
            </a:r>
            <a:r>
              <a:rPr b="0" i="1" lang="en-US" sz="1400" spc="-1" strike="noStrike">
                <a:solidFill>
                  <a:srgbClr val="330000"/>
                </a:solidFill>
                <a:latin typeface="Times New Roman"/>
              </a:rPr>
              <a:t>Studiën, 77</a:t>
            </a: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, 173-182.</a:t>
            </a: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articipant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2514600"/>
          <a:ext cx="7772400" cy="28195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158840"/>
                <a:gridCol w="1951200"/>
                <a:gridCol w="155412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Age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G/B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Training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Regular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8;8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8/16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Special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11;8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3/11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pelling errors in essays (%)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92120" y="1981080"/>
          <a:ext cx="65325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1981080"/>
                    <a:ext cx="65325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gular-education as well as special-education students can succesfully spell check their essays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very short training helps to reduce the number of spelling errors in essays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Arial"/>
              </a:rPr>
              <a:t>The lesson of this stor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pelling needs to be taught and practice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oor spellers gain as much as good spellers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pelling exercises are best geared to the spelling problem at hand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0000"/>
                </a:solidFill>
                <a:latin typeface="Arial"/>
              </a:rPr>
              <a:t>Thank you </a:t>
            </a:r>
            <a:br>
              <a:rPr sz="4800"/>
            </a:br>
            <a:r>
              <a:rPr b="1" lang="en-US" sz="4800" spc="-1" strike="noStrike">
                <a:solidFill>
                  <a:srgbClr val="320000"/>
                </a:solidFill>
                <a:latin typeface="Arial"/>
              </a:rPr>
              <a:t>for your attention</a:t>
            </a:r>
            <a:endParaRPr b="0" lang="en-US" sz="48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6002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Anna M. T. Bosman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Radboud Universiteit Nijmegen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sman@pwo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u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l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0000"/>
                </a:solidFill>
                <a:latin typeface="Arial"/>
              </a:rPr>
              <a:t>www.annabosman.eu</a:t>
            </a:r>
            <a:endParaRPr b="0" lang="en-US" sz="16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00200" y="5943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00"/>
                </a:solidFill>
                <a:latin typeface="Times New Roman"/>
              </a:rPr>
              <a:t>Kingston Ontario, September 20,  2007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Consistency levels between letters &amp; soun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057400"/>
            <a:ext cx="1676520" cy="1295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0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952880"/>
            <a:ext cx="1981080" cy="1143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0000"/>
                </a:solidFill>
                <a:latin typeface="Times New Roman"/>
              </a:rPr>
              <a:t>Sounds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1" idx="0"/>
            <a:endCxn id="90" idx="1"/>
          </p:cNvCxnSpPr>
          <p:nvPr/>
        </p:nvCxnSpPr>
        <p:spPr>
          <a:xfrm flipV="1" rot="16200000">
            <a:off x="2952360" y="3180600"/>
            <a:ext cx="2248560" cy="1296000"/>
          </a:xfrm>
          <a:prstGeom prst="curvedConnector5">
            <a:avLst>
              <a:gd name="adj1" fmla="val 35580"/>
              <a:gd name="adj2" fmla="val 58821"/>
              <a:gd name="adj3" fmla="val 35580"/>
            </a:avLst>
          </a:prstGeom>
          <a:ln w="76320">
            <a:solidFill>
              <a:srgbClr val="3300ff"/>
            </a:solidFill>
            <a:miter/>
            <a:tailEnd len="med" type="triangle" w="med"/>
          </a:ln>
        </p:spPr>
      </p:cxnSp>
      <p:cxnSp>
        <p:nvCxnSpPr>
          <p:cNvPr id="93" name=""/>
          <p:cNvCxnSpPr/>
          <p:nvPr/>
        </p:nvCxnSpPr>
        <p:spPr>
          <a:xfrm flipH="1">
            <a:off x="3885480" y="2362320"/>
            <a:ext cx="1143720" cy="2782080"/>
          </a:xfrm>
          <a:prstGeom prst="curvedConnector5">
            <a:avLst>
              <a:gd name="adj1" fmla="val -19993"/>
              <a:gd name="adj2" fmla="val 30814"/>
              <a:gd name="adj3" fmla="val -19993"/>
            </a:avLst>
          </a:prstGeom>
          <a:ln w="76320">
            <a:solidFill>
              <a:srgbClr val="ff00cc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533520" y="2438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[di:r] deer/dear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[par] pair/pear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962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Tear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487692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English 28%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Dutch   37%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2096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English 69%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Dutch </a:t>
            </a: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330000"/>
                </a:solidFill>
                <a:latin typeface="Times New Roman"/>
              </a:rPr>
              <a:t> 86% </a:t>
            </a: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31200" y="3733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0000"/>
                </a:solidFill>
                <a:latin typeface="Arial"/>
              </a:rPr>
              <a:t>The effect of visual dictation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03840"/>
            <a:ext cx="670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van Hell, J. G., Bosman, A. M. T., &amp; Bartelings, M. G. C. (2003). Visual dictation</a:t>
            </a:r>
            <a:endParaRPr b="0" lang="en-US" sz="1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      </a:t>
            </a: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improves spelling performance in three groups of Dutch students with spelling</a:t>
            </a:r>
            <a:endParaRPr b="0" lang="en-US" sz="1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      </a:t>
            </a: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disabilities. </a:t>
            </a:r>
            <a:r>
              <a:rPr b="0" i="1" sz="1400" spc="-1" strike="noStrike">
                <a:solidFill>
                  <a:srgbClr val="330000"/>
                </a:solidFill>
                <a:latin typeface="Times New Roman"/>
              </a:rPr>
              <a:t>Learning Disability Quarterly, 26</a:t>
            </a:r>
            <a:r>
              <a:rPr b="0" sz="1400" spc="-1" strike="noStrike">
                <a:solidFill>
                  <a:srgbClr val="330000"/>
                </a:solidFill>
                <a:latin typeface="Times New Roman"/>
              </a:rPr>
              <a:t>, 239-255.</a:t>
            </a:r>
            <a:endParaRPr b="0" lang="en-US" sz="1400" spc="-1" strike="noStrike">
              <a:solidFill>
                <a:srgbClr val="33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Word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2286000"/>
          <a:ext cx="7772400" cy="3276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Consistent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Inconsistent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mat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pair (pear)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99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storm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foam (fome)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not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00"/>
                          </a:solidFill>
                          <a:latin typeface="Arial"/>
                          <a:ea typeface="ＭＳ Ｐゴシック"/>
                        </a:rPr>
                        <a:t>cheap (cheep/chiep)</a:t>
                      </a:r>
                      <a:endParaRPr b="0" lang="en-US" sz="2800" spc="-1" strike="noStrike">
                        <a:solidFill>
                          <a:srgbClr val="33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Participant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71600" y="2438280"/>
          <a:ext cx="6400800" cy="372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400800" cy="37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tudents with specific learning problem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981080"/>
          <a:ext cx="76201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6201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tudents with general learning problem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1981080"/>
          <a:ext cx="76201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6201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Students with severe behavioral problems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981080"/>
          <a:ext cx="76201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6201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20:39:28Z</dcterms:created>
  <dc:creator>FSW</dc:creator>
  <dc:description/>
  <dc:language>en-US</dc:language>
  <cp:lastModifiedBy>Anna Bosman</cp:lastModifiedBy>
  <cp:lastPrinted>2006-04-20T08:19:37Z</cp:lastPrinted>
  <dcterms:modified xsi:type="dcterms:W3CDTF">2007-09-17T20:19:50Z</dcterms:modified>
  <cp:revision>49</cp:revision>
  <dc:subject/>
  <dc:title>Leren spellen Slimme oefeningen en het bevorderen van het spellingbewustzijn</dc:title>
</cp:coreProperties>
</file>