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16.pct" ContentType="image/x-pict"/>
  <Override PartName="/ppt/media/image15.pct" ContentType="image/x-pict"/>
  <Override PartName="/ppt/media/image14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.png" ContentType="image/png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803-58A4-4277-A6F7-DAB3274A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D3A-5475-4B02-B815-B13EC05A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7D0-E6A6-4557-A6D2-5F5B3B60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331-1734-4231-AA52-338AA45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1B26-9D04-4F2B-B56E-6477803D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3C5-BE96-455C-887C-5BA953C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EFD7-EFBC-47BF-946A-083E6BF6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9F7-C24F-4691-AF9A-785712C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A9EF-B917-458C-A4EA-172083E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08F7-C5DE-4C44-9769-946EA33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760-EA49-4EE8-AFD9-FE243A8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64F-5752-4F29-9300-CD03200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6E31-F7CE-448E-AF16-00A3FF0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109-D33F-4DE3-AF43-5E8DD46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5BD3-0717-4E67-AA6E-35C1441D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192-41AF-4816-8811-1F59D7DA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87E-3321-49B0-89C3-8DB597C5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C51-7AE5-41B1-9946-3B1931F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169-7462-4657-9BE2-D5FA8903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B1A-1A3E-4FA2-9DCB-3F7C4C1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54E-4352-4343-A691-F101F5F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DFD-B08D-4EC5-9F94-E4F6577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407-0E64-455B-A29E-53E1536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162-D3EF-4FA1-8051-6701D9FD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19E-CB57-42A7-B0DC-EC0A2324FE2B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1A5-035B-496F-9E94-4DBF1946F159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bosman@pwo.ru.nl" TargetMode="External"/><Relationship Id="rId2" Type="http://schemas.openxmlformats.org/officeDocument/2006/relationships/hyperlink" Target="mailto:a.bosman@pwo.ru.nl" TargetMode="External"/><Relationship Id="rId3" Type="http://schemas.openxmlformats.org/officeDocument/2006/relationships/hyperlink" Target="mailto:a.bosman@pwo.ru.nl" TargetMode="External"/><Relationship Id="rId4" Type="http://schemas.openxmlformats.org/officeDocument/2006/relationships/hyperlink" Target="mailto:a.bosman@pwo.ru.nl" TargetMode="External"/><Relationship Id="rId5" Type="http://schemas.openxmlformats.org/officeDocument/2006/relationships/hyperlink" Target="mailto:a.bosman@pwo.ru.nl" TargetMode="External"/><Relationship Id="rId6" Type="http://schemas.openxmlformats.org/officeDocument/2006/relationships/hyperlink" Target="mailto:a.bosman@pwo.ru.nl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a.bosman@pwo.ru.nl" TargetMode="External"/><Relationship Id="rId2" Type="http://schemas.openxmlformats.org/officeDocument/2006/relationships/hyperlink" Target="mailto:a.bosman@pwo.ru.nl" TargetMode="External"/><Relationship Id="rId3" Type="http://schemas.openxmlformats.org/officeDocument/2006/relationships/hyperlink" Target="mailto:a.bosman@pwo.ru.nl" TargetMode="External"/><Relationship Id="rId4" Type="http://schemas.openxmlformats.org/officeDocument/2006/relationships/hyperlink" Target="mailto:a.bosman@pwo.ru.nl" TargetMode="External"/><Relationship Id="rId5" Type="http://schemas.openxmlformats.org/officeDocument/2006/relationships/hyperlink" Target="mailto:a.bosman@pwo.ru.nl" TargetMode="External"/><Relationship Id="rId6" Type="http://schemas.openxmlformats.org/officeDocument/2006/relationships/hyperlink" Target="mailto:a.bosman@pwo.ru.nl" TargetMode="Externa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ing smart about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ing spell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nna M. T. Bosma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Radboud Universiteit Nijmege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sman@pwo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ww.annabosman.eu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943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Times New Roman"/>
              </a:rPr>
              <a:t>Kingston Ontario, September 20,  2007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Gain from pretest to retention test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6240" y="2133720"/>
          <a:ext cx="68626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133720"/>
                    <a:ext cx="6862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isual dictation is effective for all types of stude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isual dictation is particularly effective for words with inconsistent spelling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Regularized vs. Standard reading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Bosman, A. M. T., van Hell, J. G., &amp; Verhoeven, L. (2006). Learning the spelling of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strange words in Dutch benefits from regularized reading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.  Journal of Educational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sychology, 98,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879-890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54120" y="2141640"/>
          <a:ext cx="51976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141640"/>
                    <a:ext cx="51976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7560" y="2286000"/>
          <a:ext cx="6967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2286000"/>
                    <a:ext cx="696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Regular educ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981080"/>
          <a:ext cx="746784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467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pecial educ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981080"/>
          <a:ext cx="746784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467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ized reading is more effective than standard reading for all spell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elling is well retained in regular-education studen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elling i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well retained in special-education stud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gularized reading vs. Enhanced regularized read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0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Bosman, A. M. T., van Hell, J. G., &amp; Verhoeven, L. (2006). Learning the spelling of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strange words in Dutch benefits from regularized reading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.  Journal of Educational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sychology, 98,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879-890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54120" y="2141640"/>
          <a:ext cx="51976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141640"/>
                    <a:ext cx="51976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utch education system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ndergarten at 4 years (K1 and K2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imary schoo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ade 1 starts at 6 year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ade 6 ends at 12 year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chools for a-specific problem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chools for specific disorders (Blind, deaf, behavioral problems,physically handicapped etc.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 (special education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4240" y="2819520"/>
          <a:ext cx="6426000" cy="26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2819520"/>
                    <a:ext cx="642600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Good’ spelle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905120"/>
          <a:ext cx="78487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848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oor’ spelle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1752480"/>
          <a:ext cx="76201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20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ized reading in special-education students is relatively well retained when the training is extend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or’ spellers benefit to the same extent as ‘good’ spell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ing the ‘funny’ pronunciation contributes to learning the spel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mproving spelling while writing essay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752120" y="41911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Willemen, M., Bosman, A. M. T., &amp; van Hell, J. G. (2000). Beter leren spellen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tijdens het stellen [Improving spelling while writing essays].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edagogische  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Studiën, 77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, 173-182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2514600"/>
          <a:ext cx="7772400" cy="2819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158840"/>
                <a:gridCol w="1951200"/>
                <a:gridCol w="155412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Age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G/B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Training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Regular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8;8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8/16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Special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1;8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3/11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pelling errors in essays (%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92120" y="1981080"/>
          <a:ext cx="65325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981080"/>
                    <a:ext cx="65325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-education as well as special-education students can succesfully spell check their essay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very short training helps to reduce the number of spelling errors in essay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lesson of this sto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pelling needs to be taught and practice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or spellers gain as much as good spell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pelling exercises are best geared to the spelling problem at ha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00"/>
                </a:solidFill>
                <a:latin typeface="Arial"/>
              </a:rPr>
              <a:t>Thank you </a:t>
            </a:r>
            <a:br>
              <a:rPr sz="4800"/>
            </a:br>
            <a:r>
              <a:rPr b="1" lang="en-US" sz="4800" spc="-1" strike="noStrike">
                <a:solidFill>
                  <a:srgbClr val="320000"/>
                </a:solidFill>
                <a:latin typeface="Arial"/>
              </a:rPr>
              <a:t>for your attention</a:t>
            </a:r>
            <a:endParaRPr b="0" lang="en-US" sz="4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00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Anna M. T. Bosman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sman@pwo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l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www.annabosman.eu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5943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Times New Roman"/>
              </a:rPr>
              <a:t>Kingston Ontario, September 20,  2007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nsistency levels between letters &amp; soun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90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he effect of visual dict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03840"/>
            <a:ext cx="670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van Hell, J. G., Bosman, A. M. T., &amp; Bartelings, M. G. C. (2003). Visual dictation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improves spelling performance in three groups of Dutch students with spelling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disabilities. </a:t>
            </a:r>
            <a:r>
              <a:rPr b="0" i="1" sz="1400" spc="-1" strike="noStrike">
                <a:solidFill>
                  <a:srgbClr val="330000"/>
                </a:solidFill>
                <a:latin typeface="Times New Roman"/>
              </a:rPr>
              <a:t>Learning Disability Quarterly, 26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, 239-255.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286000"/>
          <a:ext cx="7772400" cy="3276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Consisten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Inconsisten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ma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pair (pear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foam (fome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no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cheap (cheep/chiep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2438280"/>
          <a:ext cx="6400800" cy="372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40080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specific learning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general learning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severe behavioral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Anna Bosman</cp:lastModifiedBy>
  <cp:lastPrinted>2006-04-20T08:19:37Z</cp:lastPrinted>
  <dcterms:modified xsi:type="dcterms:W3CDTF">2007-09-17T20:19:50Z</dcterms:modified>
  <cp:revision>49</cp:revision>
  <dc:subject/>
  <dc:title>Leren spellen Slimme oefeningen en het bevorderen van het spellingbewustzijn</dc:title>
</cp:coreProperties>
</file>