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323-06A6-4AFB-A340-3FC2215D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90F-0B43-4235-9623-E97BEF3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FCB-3FE0-45F0-8781-24D72D9B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432-2816-4EFA-A070-46F1AE57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F2E-655D-4464-B29D-CEBCD2E9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6C82-C723-4FD9-8091-9830DF4C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3403-CBC0-470C-BA36-D4D781D1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ACAE-7DE7-48EA-9041-CA3BB91E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7E9F-8882-44B2-AB16-4ADC7AB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871B-26B7-4DFA-9040-DB730C34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BB5C-C0D3-4C07-949F-6A08B72F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F65-38C9-4451-996C-5B05EAA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097-38F7-4D8D-8A1F-CAB651D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4DD8-74D7-4208-952B-DC2799D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24B-665F-4FEA-A0EC-9C9845D9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C4C6-BC77-4DFB-89A9-578D795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68A-F277-4F1B-B401-76679B0D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6B3-CEF7-46AF-88C6-961B74AD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ADE-3DEE-4E92-8629-2C00B59B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D05-7D4B-4EDB-A4D5-74CBB300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4DA3-0510-45EF-86B6-5885198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F1F-519A-4522-BB10-31877EDC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94E-27C6-4413-A0D7-27DA4156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12D-A7E7-4FF4-83CD-BA02CA8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8845-A6A2-4116-85D4-3F70C399CE0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A620-A811-466F-9B92-9B5D7DEB47C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How to teach children reading and spell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cial Education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multi-syllable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Writ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rds dic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March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Jun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regula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intelligence nor background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Qualit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School level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Dutch national norms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(Cit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C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17080" y="5362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Reading multi-syllable words in Ju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1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2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3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Mar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go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of reading and spelling problems in special (and regular)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and spelling is substantially and signficantly better in School X than Y and 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performance of School X is at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elling performance of School X is above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cy levels of English and Du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0"/>
            <a:endCxn id="162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590920"/>
            <a:ext cx="220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e a d i 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HTCRS effectiv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Wh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rthography using a well-defined framework (meta-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xercises based on ta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exercises prior to reading (phoneme ble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exercises prior to spelling (phoneme seg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How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facing th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during group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 basis (Russian 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 each of the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in exis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auditory, an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peti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same order of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a spell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uaranteed succes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wha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teach children reading and spell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CRS; Schraven, 1994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M.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is the effect of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level can be reached with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ertaining to students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articipating sch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/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C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 R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r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S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Mean age &amp; scores on cognitive tas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295280"/>
                <a:gridCol w="1524240"/>
                <a:gridCol w="914400"/>
                <a:gridCol w="182520"/>
                <a:gridCol w="1798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verbal intelligenc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C = Vocabulary; ≈ Pea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ong-term memory; 12-word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M = Short-term memory; digit recall and backward digit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st c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219320"/>
          <a:ext cx="8991720" cy="5329080"/>
        </p:xfrm>
        <a:graphic>
          <a:graphicData uri="http://schemas.openxmlformats.org/drawingml/2006/table">
            <a:tbl>
              <a:tblPr/>
              <a:tblGrid>
                <a:gridCol w="4267440"/>
                <a:gridCol w="1523880"/>
                <a:gridCol w="1417680"/>
                <a:gridCol w="933480"/>
                <a:gridCol w="84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bl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seg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rds dic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Differences between sch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7-10-08T18:41:34Z</dcterms:modified>
  <cp:revision>93</cp:revision>
  <dc:subject/>
  <dc:title>Zo leer je kinderen  lezen en spellen</dc:title>
</cp:coreProperties>
</file>