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jpeg" ContentType="image/jpe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7FC-91F5-4664-93F1-D9A1F1E3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43CD-BD4B-4916-BC08-6492E7D5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57FA-6170-4E16-AD8E-D1D66C72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15CE-2403-4A3D-AE99-3980E27C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CA59-A6D6-4104-B239-C2B190A3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4FFA-C8F9-4E36-85BA-E6D70064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1ABC-6AE4-4486-BF57-14292772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3044-BBC7-4538-98D0-8ED97136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58E0-D8E4-410E-9293-DADA23E8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3854-705A-49C5-B091-2C55E7A2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EB18-322C-489C-AB12-B6915266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6017-D1D0-4E5C-B683-AE2F45E9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7153-C364-4BAD-9F4D-A91BF0B0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B538-5E16-41E0-B25C-B9D8AF68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B5DF-ED81-4D85-A0CC-A3CD9123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0A6E-08EC-4F51-A924-78626B3F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DBD7-7C91-42B0-8797-1193C421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E8A1-D863-4E08-95BB-3F502823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807-CAB0-438D-BA6F-82441DBB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6250-2641-4199-B1AE-BF2A506C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8F2-CAA0-474E-98DD-B9096550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89B-1ED7-4C32-B6EC-CA6E4C00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DE88-7049-4B04-8FEC-B5914E81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5F9-262F-4E12-A3A4-F5D7EAC8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D5E2-4E76-4482-8FF4-20D94413C0B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3367-4328-473B-9DB3-849BC3D5B87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oleerjekinderenlezenenspellen.nl/" TargetMode="External"/><Relationship Id="rId3" Type="http://schemas.openxmlformats.org/officeDocument/2006/relationships/hyperlink" Target="http://www.zoleerjekinderenlezenenspellen.nl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9807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Arial"/>
              </a:rPr>
              <a:t>How to teach children reading and spelling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4114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Arial"/>
              </a:rPr>
              <a:t>Dr. Anna M. T. Bosm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cial Education, Radboud Universiteit Nijm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.bosman@pwo.ru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ww.annabosma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Phoneme blending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(max. = 4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1600200"/>
          <a:ext cx="7772400" cy="458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600200"/>
                    <a:ext cx="77724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letters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CVC words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n/min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CCVC words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n/min.)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multi-syllable words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n/min.)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Phoneme segmentatio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4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600200"/>
          <a:ext cx="7772400" cy="458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600200"/>
                    <a:ext cx="77724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Writing letters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8-words dictatio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8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tests March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% correc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tests June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% correc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d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5% in regular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% in speci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 d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ther intelligence nor background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1820"/>
                </a:solidFill>
                <a:latin typeface="Arial"/>
              </a:rPr>
              <a:t>Quality of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School levels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Arial"/>
              </a:rPr>
              <a:t>Dutch national norms 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(Cito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190512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CVC-words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CCVCCC-words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217080" y="5362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Reading multi-syllable words in Ju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ext-level 1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ext-level 2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ext-level 3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62120" y="190512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level in March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level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 goa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 of reading and spelling problems in special (and regular)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fective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Reading and spelling is substantially and signficantly better in School X than Y and 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Reading performance of School X is at the level of regular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pelling performance of School X is above the level of regular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stency levels of English and Dutch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057400"/>
            <a:ext cx="1676520" cy="1295280"/>
          </a:xfrm>
          <a:prstGeom prst="octagon">
            <a:avLst>
              <a:gd name="adj" fmla="val 2928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4952880"/>
            <a:ext cx="1981080" cy="1143000"/>
          </a:xfrm>
          <a:prstGeom prst="octagon">
            <a:avLst>
              <a:gd name="adj" fmla="val 29287"/>
            </a:avLst>
          </a:prstGeom>
          <a:solidFill>
            <a:srgbClr val="ff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3" idx="0"/>
            <a:endCxn id="162" idx="1"/>
          </p:cNvCxnSpPr>
          <p:nvPr/>
        </p:nvCxnSpPr>
        <p:spPr>
          <a:xfrm flipV="1" rot="16200000">
            <a:off x="2952360" y="3180600"/>
            <a:ext cx="2248560" cy="1296000"/>
          </a:xfrm>
          <a:prstGeom prst="curvedConnector5">
            <a:avLst>
              <a:gd name="adj1" fmla="val 35580"/>
              <a:gd name="adj2" fmla="val 58821"/>
              <a:gd name="adj3" fmla="val 35580"/>
            </a:avLst>
          </a:prstGeom>
          <a:ln w="76320">
            <a:solidFill>
              <a:srgbClr val="3300ff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H="1">
            <a:off x="3885480" y="2362320"/>
            <a:ext cx="1143720" cy="2782080"/>
          </a:xfrm>
          <a:prstGeom prst="curvedConnector5">
            <a:avLst>
              <a:gd name="adj1" fmla="val -19993"/>
              <a:gd name="adj2" fmla="val 30814"/>
              <a:gd name="adj3" fmla="val -19993"/>
            </a:avLst>
          </a:prstGeom>
          <a:ln w="76320">
            <a:solidFill>
              <a:srgbClr val="ff00cc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533520" y="243828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[di:r] deer/d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[par] pair/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39625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876920"/>
            <a:ext cx="17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glish 2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utch   3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220968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glish 6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utch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86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31200" y="37339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14600" y="1752480"/>
            <a:ext cx="3962520" cy="4496040"/>
          </a:xfrm>
          <a:prstGeom prst="verticalScroll">
            <a:avLst>
              <a:gd name="adj" fmla="val 12500"/>
            </a:avLst>
          </a:prstGeom>
          <a:solidFill>
            <a:srgbClr val="75a44b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2590920"/>
            <a:ext cx="220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e a d i n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2362320"/>
            <a:ext cx="1752480" cy="1447560"/>
          </a:xfrm>
          <a:prstGeom prst="cloudCallout">
            <a:avLst>
              <a:gd name="adj1" fmla="val -20652"/>
              <a:gd name="adj2" fmla="val 10054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4038480"/>
            <a:ext cx="1752480" cy="1447920"/>
          </a:xfrm>
          <a:prstGeom prst="cloudCallout">
            <a:avLst>
              <a:gd name="adj1" fmla="val -29347"/>
              <a:gd name="adj2" fmla="val 126865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makes HTCRS effectiv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‘What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orthography using a well-defined framework (meta-cogn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s of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exercises based on task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g exercises prior to reading (phoneme blen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lling exercises prior to spelling (phoneme seg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‘How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s facing the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ion during group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entation basis (Russian psycholo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rete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actice each of the 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ion in exist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sensory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, auditory, and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repetition &amp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ay same order of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ay a spell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uaranteed succes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2"/>
              </a:rPr>
              <a:t>www.zoleerjekinderenlezenenspellen.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3"/>
              </a:rPr>
              <a:t>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th wha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teach children reading and spell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TCRS; Schraven, 1994/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J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Schraven M.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What is the effect of HTC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What level can be reached with HTC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pertaining to students in speci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Participating schoo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1981080"/>
          <a:ext cx="7620120" cy="4554720"/>
        </p:xfrm>
        <a:graphic>
          <a:graphicData uri="http://schemas.openxmlformats.org/drawingml/2006/table">
            <a:tbl>
              <a:tblPr/>
              <a:tblGrid>
                <a:gridCol w="1295640"/>
                <a:gridCol w="1752480"/>
                <a:gridCol w="1371600"/>
                <a:gridCol w="1371600"/>
                <a:gridCol w="182880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/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n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C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year R&amp;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 re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 Sp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Mean age &amp; scores on cognitive task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1828800"/>
          <a:ext cx="7924680" cy="2819520"/>
        </p:xfrm>
        <a:graphic>
          <a:graphicData uri="http://schemas.openxmlformats.org/drawingml/2006/table">
            <a:tbl>
              <a:tblPr/>
              <a:tblGrid>
                <a:gridCol w="685800"/>
                <a:gridCol w="1523880"/>
                <a:gridCol w="1295280"/>
                <a:gridCol w="1524240"/>
                <a:gridCol w="914400"/>
                <a:gridCol w="182520"/>
                <a:gridCol w="17985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62120" y="51814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PM = Nonverbal intelligence; Ra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VOC = Vocabulary; ≈ Peabo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LTM = Long-term memory; 12-words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TM = Short-term memory; digit recall and backward digit 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est calen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1219320"/>
          <a:ext cx="8991720" cy="5329080"/>
        </p:xfrm>
        <a:graphic>
          <a:graphicData uri="http://schemas.openxmlformats.org/drawingml/2006/table">
            <a:tbl>
              <a:tblPr/>
              <a:tblGrid>
                <a:gridCol w="4267440"/>
                <a:gridCol w="1523880"/>
                <a:gridCol w="1417680"/>
                <a:gridCol w="933480"/>
                <a:gridCol w="849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me blen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let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tex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me segmen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 let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words dic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t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Differences between school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8:12:18Z</dcterms:created>
  <dc:creator>Office 2004 Test Drive Anna Bosman</dc:creator>
  <dc:description/>
  <dc:language>en-US</dc:language>
  <cp:lastModifiedBy>Office 2004 Test Drive Anna Bosman</cp:lastModifiedBy>
  <dcterms:modified xsi:type="dcterms:W3CDTF">2007-10-08T18:41:34Z</dcterms:modified>
  <cp:revision>93</cp:revision>
  <dc:subject/>
  <dc:title>Zo leer je kinderen  lezen en spellen</dc:title>
</cp:coreProperties>
</file>