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269720" y="1168560"/>
            <a:ext cx="1046484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47720" indent="-513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390320" indent="-513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044800" indent="-514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698920" indent="-513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364920" indent="-513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364920" indent="-513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364920" indent="-513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313704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63920" indent="-5248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420560" indent="-5248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089080" indent="-52524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757600" indent="-5248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438000" indent="-5248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438000" indent="-5248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438000" indent="-5248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43560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9992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19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48428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848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848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848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2244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114300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60020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212076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43560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9992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19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48428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848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848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848960" indent="-2754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53000" y="2819160"/>
            <a:ext cx="438156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2300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7724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08792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44180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79604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79604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796040" indent="-267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nnabosman.e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9280" y="1359000"/>
            <a:ext cx="10845720" cy="284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Hoogsensitiviteit bij kinderen in het Basisonderwijs </a:t>
            </a:r>
            <a:br>
              <a:rPr sz="6400"/>
            </a:b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 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15920" y="5714640"/>
            <a:ext cx="10972800" cy="307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8a4"/>
                </a:solidFill>
                <a:latin typeface="Papyrus"/>
              </a:rPr>
              <a:t>Drs. Sietske A.E. Walda</a:t>
            </a: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, </a:t>
            </a:r>
            <a:r>
              <a:rPr b="0" lang="en-US" sz="3600" spc="-1" strike="noStrike">
                <a:solidFill>
                  <a:srgbClr val="7f007f"/>
                </a:solidFill>
                <a:latin typeface="Papyrus"/>
              </a:rPr>
              <a:t>dr. Joep T.A. Bakker en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7f"/>
                </a:solidFill>
                <a:latin typeface="Papyrus"/>
              </a:rPr>
              <a:t> </a:t>
            </a:r>
            <a:r>
              <a:rPr b="0" lang="en-US" sz="3600" spc="-1" strike="noStrike">
                <a:solidFill>
                  <a:srgbClr val="7f007f"/>
                </a:solidFill>
                <a:latin typeface="Papyrus"/>
              </a:rPr>
              <a:t>Prof. dr. Anna M.T. Bosman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8a4"/>
                </a:solidFill>
                <a:latin typeface="Papyrus"/>
              </a:rPr>
              <a:t>Braams &amp; Partners, Deventer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7f"/>
                </a:solidFill>
                <a:latin typeface="Papyrus"/>
              </a:rPr>
              <a:t>Radboud Universiteit Nijmegen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Meisjes &amp; Jongens: HSP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219320" y="3187800"/>
          <a:ext cx="10566360" cy="335268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6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6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8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4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4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4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812880" y="7505640"/>
            <a:ext cx="11341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Conclusie: Meisjes scoren hoger dan jongens op HSP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Meisjes &amp; Jongens: SPI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219320" y="3187800"/>
          <a:ext cx="10566360" cy="382248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272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5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5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5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3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4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0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"/>
          <p:cNvSpPr/>
          <p:nvPr/>
        </p:nvSpPr>
        <p:spPr>
          <a:xfrm>
            <a:off x="812880" y="7505640"/>
            <a:ext cx="11341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Conclusie: Meisjes scoren hoger dan jongens op SPI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Meisjes &amp; Jongens: SSI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219320" y="3187800"/>
          <a:ext cx="10566360" cy="323856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8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8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1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5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7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8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812880" y="7505640"/>
            <a:ext cx="11341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Conclusie: Meisjes scoren hoger dan jongens op SSI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70080" y="635040"/>
            <a:ext cx="1085832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Internaliserende pro</a:t>
            </a: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blem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422360" y="2311560"/>
          <a:ext cx="10553760" cy="459720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  <a:gridCol w="33051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HS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5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49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5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P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1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S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5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6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6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990720" y="7772400"/>
            <a:ext cx="1087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HSP en SSI  hangen samen met Internaliserende gedragsproblemen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51040" y="635040"/>
            <a:ext cx="1127736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Externaliserende pro</a:t>
            </a: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blem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422360" y="2311560"/>
          <a:ext cx="10553760" cy="459720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  <a:gridCol w="33051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HS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9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-0,4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P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-0,0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-0,4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S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1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-0,5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990720" y="7620120"/>
            <a:ext cx="1087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leerkrachten zien hoog HSP, SPI en SSI als teken van weinig externaliserende gedragsproblemen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51040" y="635040"/>
            <a:ext cx="1127736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Algemene schoolprestaties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22360" y="2311560"/>
          <a:ext cx="10553760" cy="459720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  <a:gridCol w="33051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HS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-0,0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-0,0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P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19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S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-0,1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-0,1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914400" y="7543800"/>
            <a:ext cx="10871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Ouders zien hoog HSP, SPI en SSI als teken van slechte algemene schoolprestaties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12800" y="647640"/>
            <a:ext cx="1017288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Ziekte zonder oorzaak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422360" y="2311560"/>
          <a:ext cx="10553760" cy="459720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  <a:gridCol w="33051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HS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2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2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P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0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1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S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2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2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990720" y="7696080"/>
            <a:ext cx="10870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Hoog op HSP en SSI gaat samen met het hebben van een ziekte zonder oorzaak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a14"/>
                </a:solidFill>
                <a:latin typeface="Papyrus"/>
              </a:rPr>
              <a:t>Is HSP meetbaar bij jonge kinderen?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651760"/>
            <a:ext cx="967716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Papyrus"/>
                <a:ea typeface="Papyrus"/>
              </a:rPr>
              <a:t>JA!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ff"/>
                </a:solidFill>
                <a:latin typeface="Papyrus"/>
                <a:ea typeface="ヒラギノ角ゴ Pro W3"/>
              </a:rPr>
              <a:t>  </a:t>
            </a:r>
            <a:r>
              <a:rPr b="0" lang="en-US" sz="3200" spc="-1" strike="noStrike">
                <a:solidFill>
                  <a:srgbClr val="ff00ff"/>
                </a:solidFill>
                <a:latin typeface="Papyrus"/>
                <a:ea typeface="ヒラギノ角ゴ Pro W3"/>
              </a:rPr>
              <a:t>De betrouwbaarheid van de test is hoog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pyrus"/>
                <a:ea typeface="ヒラギノ角ゴ Pro W3"/>
              </a:rPr>
              <a:t>  </a:t>
            </a:r>
            <a:r>
              <a:rPr b="0" lang="en-US" sz="3200" spc="-1" strike="noStrike">
                <a:solidFill>
                  <a:srgbClr val="ff00ff"/>
                </a:solidFill>
                <a:latin typeface="Papyrus"/>
                <a:ea typeface="ヒラギノ角ゴ Pro W3"/>
              </a:rPr>
              <a:t>Er is overeenstemming tussen kinderen, ouders en 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pyrus"/>
                <a:ea typeface="ヒラギノ角ゴ Pro W3"/>
              </a:rPr>
              <a:t>    </a:t>
            </a:r>
            <a:r>
              <a:rPr b="0" lang="en-US" sz="3200" spc="-1" strike="noStrike">
                <a:solidFill>
                  <a:srgbClr val="ff00ff"/>
                </a:solidFill>
                <a:latin typeface="Papyrus"/>
                <a:ea typeface="ヒラギノ角ゴ Pro W3"/>
              </a:rPr>
              <a:t>leerkrachten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Wat is de overeenkomst tussen de oordelen van kinderen, ouders en leerkrachten over HSP ?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2590920"/>
            <a:ext cx="111888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Er is een significante mate van overeenstemming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tussen kinderen, ouders en leerkrachten over HSP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echter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e overeenstemming is niet zodanig dat we de beoordeling van HSP bij kinderen zomaar aan ouders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of leerkrachten kunnen overlaten.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	</a:t>
            </a: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Is er een verband tussen HSP en gender, gedragsproblemen,leerprestaties en ziekte?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3048120"/>
            <a:ext cx="104648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29080" indent="-536040">
              <a:lnSpc>
                <a:spcPct val="14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ff"/>
                </a:solidFill>
                <a:latin typeface="Papyrus"/>
              </a:rPr>
              <a:t>Meisjes scoren hoger dan jongens</a:t>
            </a:r>
            <a:endParaRPr b="0" lang="en-US" sz="2900" spc="-1" strike="noStrike">
              <a:solidFill>
                <a:srgbClr val="2f1a14"/>
              </a:solidFill>
              <a:latin typeface="Papyrus"/>
            </a:endParaRPr>
          </a:p>
          <a:p>
            <a:pPr marL="829080" indent="-536040">
              <a:lnSpc>
                <a:spcPct val="14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ff"/>
                </a:solidFill>
                <a:latin typeface="Papyrus"/>
              </a:rPr>
              <a:t>Er zijn aanwijzingen dat HSP de kans op internaliserende problemen verhoogt en op externaliserende verlaagt</a:t>
            </a:r>
            <a:endParaRPr b="0" lang="en-US" sz="2900" spc="-1" strike="noStrike">
              <a:solidFill>
                <a:srgbClr val="2f1a14"/>
              </a:solidFill>
              <a:latin typeface="Papyrus"/>
            </a:endParaRPr>
          </a:p>
          <a:p>
            <a:pPr marL="829080" indent="-536040">
              <a:lnSpc>
                <a:spcPct val="14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ff"/>
                </a:solidFill>
                <a:latin typeface="Papyrus"/>
              </a:rPr>
              <a:t>Alleen de ouders denken dat HSP samengaat met slechte schoolprestaties</a:t>
            </a:r>
            <a:endParaRPr b="0" lang="en-US" sz="2900" spc="-1" strike="noStrike">
              <a:solidFill>
                <a:srgbClr val="2f1a14"/>
              </a:solidFill>
              <a:latin typeface="Papyrus"/>
            </a:endParaRPr>
          </a:p>
          <a:p>
            <a:pPr marL="829080" indent="-536040">
              <a:lnSpc>
                <a:spcPct val="14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ff"/>
                </a:solidFill>
                <a:latin typeface="Papyrus"/>
              </a:rPr>
              <a:t>HSP lijkt samen te gaan met het voorkomen van ziektes zonder duidelijk aanwijsbare oorzaak.</a:t>
            </a:r>
            <a:endParaRPr b="0" lang="en-US" sz="29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Onderzoeksvrag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362320"/>
            <a:ext cx="10464840" cy="642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3160" indent="-5194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s HSP meetbaar bij kinderen vanaf ca. 10 jaar?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03160" indent="-5194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at is de overeenkomst tussen de oordelen van kinderen, ouders en leerkrachten over HSP bij kinderen?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03160" indent="-5194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s er een verband tussen HSP enerzijds en gender, gedragsproblemen, leerprestaties en ziekte anderzijds?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apyrus"/>
              </a:rPr>
              <a:t>Dank voor uw aandach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9" name=""/>
          <p:cNvSpPr/>
          <p:nvPr/>
        </p:nvSpPr>
        <p:spPr>
          <a:xfrm>
            <a:off x="390600" y="5418720"/>
            <a:ext cx="1243656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Papyrus"/>
                <a:ea typeface="Papyrus"/>
              </a:rPr>
              <a:t>De scriptie van Sietske vindt u op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2"/>
              </a:rPr>
              <a:t>www.annabosman.eu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Deelnemer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38360" y="275544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506 Kinder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382 Ouder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123 Leerkracht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Leerling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031840" y="2629080"/>
          <a:ext cx="8623440" cy="5257800"/>
        </p:xfrm>
        <a:graphic>
          <a:graphicData uri="http://schemas.openxmlformats.org/drawingml/2006/table">
            <a:tbl>
              <a:tblPr/>
              <a:tblGrid>
                <a:gridCol w="2873520"/>
                <a:gridCol w="2874960"/>
                <a:gridCol w="2874960"/>
              </a:tblGrid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Groe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aantal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ftijd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6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9;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16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10;4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16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11;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13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12;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Vragenlijs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1021068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37720" indent="-541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HSP-vragen gebaseerd op Aron &amp; Aron (1997)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837720" indent="-541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BCL-items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2205000" indent="-541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Internaliserende problemen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2205000" indent="-541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Externaliserende problemen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837720" indent="-5418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Vragen over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2205000" indent="-5418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Astma, allergieën, ziekte, vermoeidheid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837720" indent="-5418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Vragen over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2205000" indent="-5418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choolresultaten, leerproblemen en bijzondere capaciteiten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85720" y="799920"/>
            <a:ext cx="10426680" cy="232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a14"/>
                </a:solidFill>
                <a:latin typeface="Papyrus"/>
              </a:rPr>
              <a:t>Betrouwbaarheid van de Vragenlijst 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819520"/>
            <a:ext cx="10464840" cy="42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Alfa-waarde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73400" indent="-558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Kinderen  = .78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73400" indent="-5587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Ouders = .81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73400" indent="-55872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Leerkrachten = .92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2" name=""/>
          <p:cNvSpPr/>
          <p:nvPr/>
        </p:nvSpPr>
        <p:spPr>
          <a:xfrm>
            <a:off x="876240" y="7696080"/>
            <a:ext cx="11252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De vragenlijst is zeer betrouwbaar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Structuur vragenlijst 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362320"/>
            <a:ext cx="1046484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77240" indent="-502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HSP-componen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360080" indent="-502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PI = Sensitiviteit voor Positieve Invloede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360080" indent="-502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SI =  Sensitiviteit voor Storende Invloeden 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77240" indent="-502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Externaliserende gedragscomponen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77240" indent="-502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ternaliserende gedragscomponen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7924680"/>
            <a:ext cx="1082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Er is een positieve en negatieve componen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Overeenstemming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130400" y="2413080"/>
          <a:ext cx="10223280" cy="4914720"/>
        </p:xfrm>
        <a:graphic>
          <a:graphicData uri="http://schemas.openxmlformats.org/drawingml/2006/table">
            <a:tbl>
              <a:tblPr/>
              <a:tblGrid>
                <a:gridCol w="3406320"/>
                <a:gridCol w="3408480"/>
                <a:gridCol w="34084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HS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19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P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0,12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SI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30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27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Papyrus"/>
                          <a:ea typeface="ヒラギノ角ゴ Pro W3"/>
                        </a:rPr>
                        <a:t>0,2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"/>
          <p:cNvSpPr/>
          <p:nvPr/>
        </p:nvSpPr>
        <p:spPr>
          <a:xfrm>
            <a:off x="914400" y="8128080"/>
            <a:ext cx="10871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Papyrus"/>
                <a:ea typeface="Papyrus"/>
              </a:rPr>
              <a:t>DUS: Er is overeenstemming over HSP, SPI en SSI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Gemiddelden waarden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359000" y="2806560"/>
          <a:ext cx="10287000" cy="5410080"/>
        </p:xfrm>
        <a:graphic>
          <a:graphicData uri="http://schemas.openxmlformats.org/drawingml/2006/table">
            <a:tbl>
              <a:tblPr/>
              <a:tblGrid>
                <a:gridCol w="1765440"/>
                <a:gridCol w="2628720"/>
                <a:gridCol w="2629080"/>
                <a:gridCol w="32637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HS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5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5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6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PI*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4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49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3,2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SSI*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86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78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99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Intern.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4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2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53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Extern.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3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21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 W3"/>
                        </a:rPr>
                        <a:t>2,25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Office 2004 Test Drive Anna Bosman</cp:lastModifiedBy>
  <dcterms:modified xsi:type="dcterms:W3CDTF">2007-10-31T20:08:17Z</dcterms:modified>
  <cp:revision>3</cp:revision>
  <dc:subject/>
  <dc:title>Hoogsensitiviteit bij kinderen in het Basisonderwijs   </dc:title>
</cp:coreProperties>
</file>