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.jpeg" ContentType="image/jpeg"/>
  <Override PartName="/ppt/media/image4.pct" ContentType="image/x-pict"/>
  <Override PartName="/ppt/media/image27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454-7E47-47E7-B9CC-A3801A71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110-F2ED-48DD-BA6C-22B1122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20F-1E90-4534-988E-47753DE2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B41-93CA-4CD3-9BA6-95655315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C228-F5D8-4281-990F-4329AD0F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308E-7E96-49F4-B3AF-254BC81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EC5-7F43-4572-B2F4-07357690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14C-6870-426B-82A1-E0B4F353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B898-63CB-4740-BBC0-CC786E41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6CC1-7E6B-41CD-8F32-75CF71B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2B75-2BB7-4C47-8585-898BB8F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15A-B524-4AE7-AC76-1908A577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71C1-8F68-4C4B-AE5C-25ABB07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3C9B-0338-4591-948E-E039E6C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32A-3154-413B-A39F-B68B528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29F4-BF2D-45A3-A1B9-D66F348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C98E-5E78-4F99-A048-490D9577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DE3-DC9E-4739-9666-822C4E7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680-7510-4331-B1D4-6EBD509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5C9-A043-4206-931B-CE9D5C4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6A8-F69B-4CFF-965E-C3B00FC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BC4-FBD4-403F-A4C0-836E535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3F4-8125-451E-9BF8-2FB0649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122-1F9D-4481-8D1D-9B62A1D0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59CF-6BAF-4856-A681-C6F6A67CAAC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2EF-F6F8-497B-BAC4-5C96E141C3D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996633"/>
                </a:solidFill>
                <a:latin typeface="Times New Roman"/>
              </a:rPr>
              <a:t>Waarom bestaat er geen systematische spellinginstructiemethode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Radboud Universiteit Nijmeg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08366"/>
                </a:solidFill>
                <a:latin typeface="Times New Roman"/>
              </a:rPr>
              <a:t>a.bosman@pwo.ru.nl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2485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Siméa: Samen werken of samenwer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Lunteren, 20 &amp; 21 april 200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isueel dictee op het regulier en speciaal onderwij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1752480"/>
          <a:ext cx="762012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6201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2590920"/>
          <a:ext cx="73152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7315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9810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icte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LOM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MLK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ZMOK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Alle deelnem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41480" y="1943280"/>
          <a:ext cx="76690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943280"/>
                    <a:ext cx="76690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is effectief voor alle type 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is vooral effectief voor woorden zoals ‘blauwbaard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type leerling bepaalt mede de effectiviteit van een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zoals-het-hoort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ergeleken met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wat-er-sta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39680" y="1943280"/>
          <a:ext cx="76726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43280"/>
                    <a:ext cx="7672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ba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3505320" cy="1447920"/>
          </a:xfrm>
          <a:prstGeom prst="roundRect">
            <a:avLst>
              <a:gd name="adj" fmla="val 16667"/>
            </a:avLst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Lezen en spelle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828800"/>
            <a:ext cx="1676160" cy="129528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029200"/>
            <a:ext cx="1600200" cy="129528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teken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495680"/>
            <a:ext cx="1523880" cy="121932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lan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2"/>
            <a:endCxn id="96" idx="1"/>
          </p:cNvCxnSpPr>
          <p:nvPr/>
        </p:nvCxnSpPr>
        <p:spPr>
          <a:xfrm rot="5400000">
            <a:off x="761040" y="3581280"/>
            <a:ext cx="1982160" cy="1067400"/>
          </a:xfrm>
          <a:prstGeom prst="curvedConnector5">
            <a:avLst>
              <a:gd name="adj1" fmla="val 34604"/>
              <a:gd name="adj2" fmla="val 60695"/>
              <a:gd name="adj3" fmla="val 34604"/>
            </a:avLst>
          </a:prstGeom>
          <a:ln w="7632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3123720" y="2362320"/>
            <a:ext cx="686520" cy="137232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400" y="4266360"/>
            <a:ext cx="1829520" cy="22932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0"/>
            <a:endCxn id="93" idx="2"/>
          </p:cNvCxnSpPr>
          <p:nvPr/>
        </p:nvCxnSpPr>
        <p:spPr>
          <a:xfrm flipV="1">
            <a:off x="4457880" y="4419000"/>
            <a:ext cx="1181520" cy="61020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 rot="10800000">
            <a:off x="1828080" y="5714640"/>
            <a:ext cx="1677240" cy="38880"/>
          </a:xfrm>
          <a:prstGeom prst="curvedConnector5">
            <a:avLst>
              <a:gd name="adj1" fmla="val 27264"/>
              <a:gd name="adj2" fmla="val 349532"/>
              <a:gd name="adj3" fmla="val 27264"/>
            </a:avLst>
          </a:prstGeom>
          <a:ln w="3816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5" idx="1"/>
            <a:endCxn id="94" idx="3"/>
          </p:cNvCxnSpPr>
          <p:nvPr/>
        </p:nvCxnSpPr>
        <p:spPr>
          <a:xfrm rot="10800000">
            <a:off x="3123360" y="2475720"/>
            <a:ext cx="534240" cy="3201120"/>
          </a:xfrm>
          <a:prstGeom prst="curvedConnector5">
            <a:avLst>
              <a:gd name="adj1" fmla="val 49966"/>
              <a:gd name="adj2" fmla="val 49994"/>
              <a:gd name="adj3" fmla="val 49966"/>
            </a:avLst>
          </a:prstGeom>
          <a:ln w="936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1905120"/>
          <a:ext cx="7010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’Regulier onderwij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1828800"/>
          <a:ext cx="746748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67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Speciaal onderwij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43000" y="1828800"/>
          <a:ext cx="746748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67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402000"/>
                </a:solidFill>
                <a:latin typeface="Times New Roman"/>
              </a:rPr>
              <a:t>Lezen-wat-er-staat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is voor alle leerlingen effectiever dan </a:t>
            </a:r>
            <a:r>
              <a:rPr b="0" i="1" lang="nl-NL" sz="3200" spc="-1" strike="noStrike">
                <a:solidFill>
                  <a:srgbClr val="402000"/>
                </a:solidFill>
                <a:latin typeface="Times New Roman"/>
              </a:rPr>
              <a:t>lezen-zoals-het-hoo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spelling beklijft goed bij leerlingen uit het regulier onderwij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spelling beklijft minder goed bij leerlingen uit het speciaal onderwij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4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wat-er-sta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ergeleken me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de PLUS-varian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39680" y="1943280"/>
          <a:ext cx="76726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43280"/>
                    <a:ext cx="7672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95280" y="5867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* </a:t>
            </a: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Kieviet na 199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066680" y="2895480"/>
          <a:ext cx="7162920" cy="30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716292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429000" y="1905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OM-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Goede spell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676520"/>
          <a:ext cx="78487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848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Zwakke spell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90720" y="1676520"/>
          <a:ext cx="7619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619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Transfertest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828800"/>
          <a:ext cx="71629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1629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ymmetrische regelmatighei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752480"/>
            <a:ext cx="1676520" cy="129564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Klan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104" idx="1"/>
          </p:cNvCxnSpPr>
          <p:nvPr/>
        </p:nvCxnSpPr>
        <p:spPr>
          <a:xfrm flipV="1" rot="16200000">
            <a:off x="2761920" y="2990160"/>
            <a:ext cx="2553120" cy="1372320"/>
          </a:xfrm>
          <a:prstGeom prst="curvedConnector5">
            <a:avLst>
              <a:gd name="adj1" fmla="val 37300"/>
              <a:gd name="adj2" fmla="val 58331"/>
              <a:gd name="adj3" fmla="val 3730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95280" y="380988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Pau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Pe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Fe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905120"/>
            <a:ext cx="1676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Reg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Kantel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Ram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3400" y="2971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37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86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 experiment 4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zen-wat-er-staat beklijft met een verlengde training ook bij leerlingen uit het speciaal onderwij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De zwakke leerlingen leren evenveel als de goe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Het oefenen van de ‘rare’ uitspraak draagt bij aan de effectiviteit van de meth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is makkelijker voor de goede spellers en als de ‘rare’ uitspraak is geoefe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Een vergelijking van spelfouten in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opstellen en dictee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elnem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1951200"/>
          <a:ext cx="563868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1200"/>
                    <a:ext cx="563868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ke leerling schreef eerst een opst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an elk kind werd een goed-gespeld en een fout-gespeld woord geselecteer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Tenslotte werd een dictee afgenomen bij alle leerlingen. Dit dictee bestond uit de geselecteerde goed- en fout-gespelde woorden van elke leerling uit de groep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op opstel en dicte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371600" y="1828800"/>
          <a:ext cx="777240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77724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752480" y="1905120"/>
          <a:ext cx="60976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6097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Vergelijking van dictee en opste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kwart (26%) van de spellingen van alle leerlingen is instabiel (‘Goed-Fout’ of ‘Fout-Goed’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schrijven woorden in een dictee beter dan in een opstel, omdat zij mogelij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worden geholpen door een formele voorleesstij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lle leerlingen maken meer fouten in hun dictee dan in hun opstel, omdat zij zich mogelij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bewust zijn van wat ze wel en wat ze niet kunn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6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Bevorderen van het spellingbewustzij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orden van de voor- en natoets waren 200 woorden geselecteerd uit de SVS-2 en het PI-dictee voor de groepen 4-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materiaal voor de 5 trainingsbijeen-komsten bestond uit de woorden van de taal- en spellingmethode ‘Taaltijd’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66680" y="1981080"/>
          <a:ext cx="716292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143000" y="487692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30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s spellingbewustzijnscore: “Weet de spelling en het is goed” 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“Weet de spelling niet en het is fout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Een vergelijking van instructiemethod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ename spellingbewustzij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pellingbewustzij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reeds bevorderd worden in Groep 5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in even sterk mate bevorderd worden in goede als zwakke spell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zelfs enigszins bevorderd worden door het aanbieden van slechts één test (de voortoets), zoals aangetoond door de prestaties van de controle groep op de nato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moraal van dit verh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590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228600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402000"/>
                </a:solidFill>
                <a:latin typeface="Times New Roman"/>
              </a:rPr>
              <a:t>U kunt het be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de instructie afstemmen op het type spellingproble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zo snel mogelijk beginnen met het bevorderen van h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bewustzijn van uw leerling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402000"/>
                </a:solidFill>
                <a:latin typeface="Times New Roman"/>
              </a:rPr>
              <a:t>Bedenk dat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leerlingen beter spellen in een opstel dan op een dicte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de goede en zwakke spellers evenveel kunnen profitere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an een effectieve instruct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90720" y="2057400"/>
          <a:ext cx="758196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58196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1981080"/>
          <a:ext cx="69343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934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sfoute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95280" y="16002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Groep 3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95280" y="1600200"/>
          <a:ext cx="7620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62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ezen is de minst effectieve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(uit het hoofd opschrijven) is het meest effectief voor alle 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spellingniveau bepaalt mede de effectiviteit van een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Anna Bosman</cp:lastModifiedBy>
  <cp:lastPrinted>2006-04-20T08:19:37Z</cp:lastPrinted>
  <dcterms:modified xsi:type="dcterms:W3CDTF">2006-04-20T09:13:07Z</dcterms:modified>
  <cp:revision>12</cp:revision>
  <dc:subject/>
  <dc:title>Leren spellen Slimme oefeningen en het bevorderen van het spellingbewustzijn</dc:title>
</cp:coreProperties>
</file>