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2.jpeg" ContentType="image/jpeg"/>
  <Override PartName="/ppt/media/image4.pct" ContentType="image/x-pict"/>
  <Override PartName="/ppt/media/image27.pct" ContentType="image/x-pict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7D4-414C-4A18-9F74-69B1B38B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CF9-DD01-4639-B27E-0B23B2F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B49-F7D6-429F-A0D3-BE38C159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92E-05CE-4636-967A-823BA619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8068-319E-454E-B310-F1CDB963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2489-DA5B-425C-8EBC-0BC66BB3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B245-9D60-4546-BBE1-B2A919F9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08B2-85A6-45EA-8ED8-F0A15022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8F7F-A845-499F-A02C-4FFCC3A3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5450-816A-4D06-BCA0-15775ED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03DC-54AD-46D0-9D77-C20B897F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254-B2B2-4D4C-AA9B-F1C18705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DA23-8E47-48E6-911A-6E8F140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D097-BC9A-49F0-8CCE-1E49251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C801-782A-4149-ADF1-E8C896D3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C525-2668-4970-9E31-4E369320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9E90-2AC2-4825-B673-2AE45FCF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1D3-8A8F-4AE7-A7BE-8EEEE5F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B59-736E-4906-B12A-4F093290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B5E-C231-4952-990E-53AC09CC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DA5-FB4D-49BC-A9C2-DCA6A106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0CE-BBE2-4224-9124-B6E97AC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441-CAB5-49CC-A4F5-6EE7760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310-5497-4B36-AEE2-0BA53DB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FA76-AC86-4AB2-B3AC-A58505088BB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8E79-9304-484A-98FC-8E08119D024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ct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996633"/>
                </a:solidFill>
                <a:latin typeface="Times New Roman"/>
              </a:rPr>
              <a:t>Waarom bestaat er geen systematische spellinginstructiemethode?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Anna M. T. Bosma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Radboud Universiteit Nijmege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08366"/>
                </a:solidFill>
                <a:latin typeface="Times New Roman"/>
              </a:rPr>
              <a:t>a.bosman@pwo.ru.nl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5257800"/>
            <a:ext cx="62485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2000"/>
                </a:solidFill>
                <a:latin typeface="Times New Roman"/>
              </a:rPr>
              <a:t>Siméa: Samen werken of samenwerk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Lunteren, 20 &amp; 21 april 2006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Visueel dictee op het regulier en speciaal onderwij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1752480"/>
          <a:ext cx="7620120" cy="45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76201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2590920"/>
          <a:ext cx="73152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73152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9810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</a:t>
            </a:r>
            <a:r>
              <a:rPr b="1" lang="nl-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icte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LOM-leerlingen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90720" y="1828800"/>
          <a:ext cx="7619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19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MLK-leerlingen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90720" y="1828800"/>
          <a:ext cx="7619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19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ZMOK-leerlingen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828800"/>
          <a:ext cx="76197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6197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Alle deelnemer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41480" y="1943280"/>
          <a:ext cx="766908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943280"/>
                    <a:ext cx="76690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is effectief voor alle type leer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is vooral effectief voor woorden zoals ‘blauwbaard’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t type leerling bepaalt mede de effectiviteit van een instruct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6765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Lezen-zoals-het-hoort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vergeleken met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Lezen-wat-er-sta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39680" y="1943280"/>
          <a:ext cx="767268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43280"/>
                    <a:ext cx="76726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 basi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2971800"/>
            <a:ext cx="3505320" cy="1447920"/>
          </a:xfrm>
          <a:prstGeom prst="roundRect">
            <a:avLst>
              <a:gd name="adj" fmla="val 16667"/>
            </a:avLst>
          </a:prstGeom>
          <a:solidFill>
            <a:srgbClr val="eca07a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Lezen en spellen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828800"/>
            <a:ext cx="1676160" cy="129528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029200"/>
            <a:ext cx="1600200" cy="129528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eteken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495680"/>
            <a:ext cx="1523880" cy="121932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Klank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4" idx="2"/>
            <a:endCxn id="96" idx="1"/>
          </p:cNvCxnSpPr>
          <p:nvPr/>
        </p:nvCxnSpPr>
        <p:spPr>
          <a:xfrm rot="5400000">
            <a:off x="761040" y="3581280"/>
            <a:ext cx="1982160" cy="1067400"/>
          </a:xfrm>
          <a:prstGeom prst="curvedConnector5">
            <a:avLst>
              <a:gd name="adj1" fmla="val 34604"/>
              <a:gd name="adj2" fmla="val 60695"/>
              <a:gd name="adj3" fmla="val 34604"/>
            </a:avLst>
          </a:prstGeom>
          <a:ln w="76320">
            <a:solidFill>
              <a:srgbClr val="47791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3123720" y="2362320"/>
            <a:ext cx="686520" cy="1372320"/>
          </a:xfrm>
          <a:prstGeom prst="straightConnector1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400" y="4266360"/>
            <a:ext cx="1829520" cy="229320"/>
          </a:xfrm>
          <a:prstGeom prst="straightConnector1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0"/>
            <a:endCxn id="93" idx="2"/>
          </p:cNvCxnSpPr>
          <p:nvPr/>
        </p:nvCxnSpPr>
        <p:spPr>
          <a:xfrm flipV="1">
            <a:off x="4457880" y="4419000"/>
            <a:ext cx="1181520" cy="610200"/>
          </a:xfrm>
          <a:prstGeom prst="straightConnector1">
            <a:avLst/>
          </a:prstGeom>
          <a:ln w="9360">
            <a:solidFill>
              <a:srgbClr val="cd3333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 rot="10800000">
            <a:off x="1828080" y="5714640"/>
            <a:ext cx="1677240" cy="38880"/>
          </a:xfrm>
          <a:prstGeom prst="curvedConnector5">
            <a:avLst>
              <a:gd name="adj1" fmla="val 27264"/>
              <a:gd name="adj2" fmla="val 349532"/>
              <a:gd name="adj3" fmla="val 27264"/>
            </a:avLst>
          </a:prstGeom>
          <a:ln w="38160">
            <a:solidFill>
              <a:srgbClr val="47791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95" idx="1"/>
            <a:endCxn id="94" idx="3"/>
          </p:cNvCxnSpPr>
          <p:nvPr/>
        </p:nvCxnSpPr>
        <p:spPr>
          <a:xfrm rot="10800000">
            <a:off x="3123360" y="2475720"/>
            <a:ext cx="534240" cy="3201120"/>
          </a:xfrm>
          <a:prstGeom prst="curvedConnector5">
            <a:avLst>
              <a:gd name="adj1" fmla="val 49966"/>
              <a:gd name="adj2" fmla="val 49994"/>
              <a:gd name="adj3" fmla="val 49966"/>
            </a:avLst>
          </a:prstGeom>
          <a:ln w="9360">
            <a:solidFill>
              <a:srgbClr val="47791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s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1905120"/>
          <a:ext cx="7010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’Regulier onderwij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143000" y="1828800"/>
          <a:ext cx="746748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4674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Speciaal onderwij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43000" y="1828800"/>
          <a:ext cx="746748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46748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402000"/>
                </a:solidFill>
                <a:latin typeface="Times New Roman"/>
              </a:rPr>
              <a:t>Lezen-wat-er-staat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 is voor alle leerlingen effectiever dan </a:t>
            </a:r>
            <a:r>
              <a:rPr b="0" i="1" lang="nl-NL" sz="3200" spc="-1" strike="noStrike">
                <a:solidFill>
                  <a:srgbClr val="402000"/>
                </a:solidFill>
                <a:latin typeface="Times New Roman"/>
              </a:rPr>
              <a:t>lezen-zoals-het-hoor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spelling beklijft goed bij leerlingen uit het regulier onderwij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spelling beklijft minder goed bij leerlingen uit het speciaal onderwij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4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Lezen-wat-er-sta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vergeleken me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08366"/>
                </a:solidFill>
                <a:latin typeface="Times New Roman"/>
              </a:rPr>
              <a:t>de PLUS-varian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39680" y="1943280"/>
          <a:ext cx="7672680" cy="388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943280"/>
                    <a:ext cx="7672680" cy="38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295280" y="58672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* </a:t>
            </a:r>
            <a:r>
              <a:rPr b="0" lang="nl-NL" sz="2000" spc="-1" strike="noStrike">
                <a:solidFill>
                  <a:srgbClr val="402000"/>
                </a:solidFill>
                <a:latin typeface="Times New Roman"/>
              </a:rPr>
              <a:t>Kieviet na 1998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s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066680" y="2895480"/>
          <a:ext cx="7162920" cy="304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7162920" cy="30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3429000" y="1905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OM-leer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Goede speller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8080" y="1676520"/>
          <a:ext cx="78487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848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Zwakke spellers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90720" y="1676520"/>
          <a:ext cx="761976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61976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Transfertest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43000" y="1828800"/>
          <a:ext cx="71629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71629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Asymmetrische regelmatighei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1752480"/>
            <a:ext cx="1676520" cy="129564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402000"/>
                </a:solidFill>
                <a:latin typeface="Times New Roman"/>
              </a:rPr>
              <a:t>Klank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104" idx="1"/>
          </p:cNvCxnSpPr>
          <p:nvPr/>
        </p:nvCxnSpPr>
        <p:spPr>
          <a:xfrm flipV="1" rot="16200000">
            <a:off x="2761920" y="2990160"/>
            <a:ext cx="2553120" cy="1372320"/>
          </a:xfrm>
          <a:prstGeom prst="curvedConnector5">
            <a:avLst>
              <a:gd name="adj1" fmla="val 37300"/>
              <a:gd name="adj2" fmla="val 58331"/>
              <a:gd name="adj3" fmla="val 3730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95280" y="3809880"/>
            <a:ext cx="1676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Pau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Pec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Fei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905120"/>
            <a:ext cx="1676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Rege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Kantel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Ram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63400" y="2971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37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3809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86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 experiment 4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zen-wat-er-staat beklijft met een verlengde training ook bij leerlingen uit het speciaal onderwij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De zwakke leerlingen leren evenveel als de goe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Het oefenen van de ‘rare’ uitspraak draagt bij aan de effectiviteit van de metho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Transfer is makkelijker voor de goede spellers en als de ‘rare’ uitspraak is geoefen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Een vergelijking van spelfouten in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opstellen en dictees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elnem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1951200"/>
          <a:ext cx="563868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1200"/>
                    <a:ext cx="563868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Elke leerling schreef eerst een opst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an elk kind werd een goed-gespeld en een fout-gespeld woord geselecteer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Tenslotte werd een dictee afgenomen bij alle leerlingen. Dit dictee bestond uit de geselecteerde goed- en fout-gespelde woorden van elke leerling uit de groep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op opstel en dicte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371600" y="1828800"/>
          <a:ext cx="777240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77724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752480" y="1905120"/>
          <a:ext cx="60976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05120"/>
                    <a:ext cx="6097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Vergelijking van dictee en opstel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en kwart (26%) van de spellingen van alle leerlingen is instabiel (‘Goed-Fout’ of ‘Fout-Goed’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Leerlingen schrijven woorden in een dictee beter dan in een opstel, omdat zij mogelij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worden geholpen door een formele voorleesstij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Alle leerlingen maken meer fouten in hun dictee dan in hun opstel, omdat zij zich mogelij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bewust zijn van wat ze wel en wat ze niet kunn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6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Bevorderen van het spellingbewustzij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Woorden van de voor- en natoets waren 200 woorden geselecteerd uit de SVS-2 en het PI-dictee voor de groepen 4-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t materiaal voor de 5 trainingsbijeen-komsten bestond uit de woorden van de taal- en spellingmethode ‘Taaltijd’</a:t>
            </a:r>
            <a:r>
              <a:rPr b="1" lang="nl-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66680" y="1981080"/>
          <a:ext cx="716292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1143000" y="4876920"/>
            <a:ext cx="701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30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is spellingbewustzijnscore: “Weet de spelling en het is goed” 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+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“Weet de spelling niet en het is fout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a08366"/>
                </a:solidFill>
                <a:latin typeface="Times New Roman"/>
              </a:rPr>
              <a:t>Een vergelijking van instructiemethode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oename spellingbewustzij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pellingbewustzij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an reeds bevorderd worden in Groep 5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an in even sterk mate bevorderd worden in goede als zwakke spell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an zelfs enigszins bevorderd worden door het aanbieden van slechts één test (de voortoets), zoals aangetoond door de prestaties van de controle groep op de nato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De moraal van dit verha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2590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2286000"/>
            <a:ext cx="769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402000"/>
                </a:solidFill>
                <a:latin typeface="Times New Roman"/>
              </a:rPr>
              <a:t>U kunt het bes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de instructie afstemmen op het type spellingproblee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zo snel mogelijk beginnen met het bevorderen van h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spellingbewustzijn van uw leerling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402000"/>
                </a:solidFill>
                <a:latin typeface="Times New Roman"/>
              </a:rPr>
              <a:t>Bedenk dat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leerlingen beter spellen in een opstel dan op een dicte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de goede en zwakke spellers evenveel kunnen profitere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an een effectieve instructi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Woordj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90720" y="2057400"/>
          <a:ext cx="7581960" cy="40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58196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Instructies &amp; Deelnemer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1981080"/>
          <a:ext cx="693432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69343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iningsfoute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95280" y="16002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Prestaties ‘Groep 3’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95280" y="1600200"/>
          <a:ext cx="7620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7620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Lezen is de minst effectieve instruct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(uit het hoofd opschrijven) is het meest effectief voor alle leerling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Het spellingniveau bepaalt mede de effectiviteit van een instructi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xperiment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20:39:28Z</dcterms:created>
  <dc:creator>FSW</dc:creator>
  <dc:description/>
  <dc:language>en-US</dc:language>
  <cp:lastModifiedBy>Anna Bosman</cp:lastModifiedBy>
  <cp:lastPrinted>2006-04-20T08:19:37Z</cp:lastPrinted>
  <dcterms:modified xsi:type="dcterms:W3CDTF">2006-04-20T09:13:07Z</dcterms:modified>
  <cp:revision>12</cp:revision>
  <dc:subject/>
  <dc:title>Leren spellen Slimme oefeningen en het bevorderen van het spellingbewustzijn</dc:title>
</cp:coreProperties>
</file>