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BFF9-7690-415D-8535-7F7228C56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5D96-AEA5-4651-92FD-0B3C073B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8904-D361-4782-976D-BE38F373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2B69-44BB-490E-B286-E0FFE60D6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6C25-4C37-42A2-B393-3F6BDB571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D330-E029-4146-8109-4221842E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D211-9FAA-4D39-A892-C4E492C6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218F-4151-4FF1-A03A-2107CA81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29AE-313F-4CB6-9139-250C95F7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9233-A8AA-43A6-985D-2CE61884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B2D1-C355-4E8F-A9AF-F49040CC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7E68-92A3-421B-A545-7353449D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FE14-EE73-431C-ABF2-DACBAE67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01BE-0FE1-4CD0-B3D3-61D97665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0B20-BFF5-4402-B14F-31D8D3F6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A2DC-2109-4E8C-B1CC-C919D563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A978-8280-4653-AE7B-F1334FF17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B538-B309-41B7-B9CE-5BD24806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89FF-638F-49B9-AF8D-C36A4181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2343-3088-46E4-8B53-F20A76E8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7CFA-8F62-4B47-AD51-A7F4349C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3E1E-23BC-434F-9484-1FAD81E7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E701-6D36-4279-9D36-3263CAA8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3B02-54B9-4127-A7EA-F9FB6E47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002A-5363-4DDF-A21B-63FB6A5B9BA7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ABCD-F928-43B8-9813-90EA9E903047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9903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Leren spellen, feedback en de compute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18960" y="289548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a08366"/>
                </a:solidFill>
                <a:latin typeface="Times New Roman"/>
              </a:rPr>
              <a:t>Martijn van Huygevoort &amp; Anna M. T. Bosman</a:t>
            </a: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a08366"/>
                </a:solidFill>
                <a:latin typeface="Times New Roman"/>
              </a:rPr>
              <a:t>ORD </a:t>
            </a: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a08366"/>
                </a:solidFill>
                <a:latin typeface="Times New Roman"/>
              </a:rPr>
              <a:t>10-12 Mei 2006</a:t>
            </a: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a08366"/>
                </a:solidFill>
                <a:latin typeface="Times New Roman"/>
              </a:rPr>
              <a:t>Radboud Universiteit Nijmegen, Sectie Orthopedagogiek van leren en ontwikkeling &amp; BSI</a:t>
            </a: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411480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Training efficiëntie &amp; spellingniveau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19320" y="2133720"/>
          <a:ext cx="7086600" cy="365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133720"/>
                    <a:ext cx="7086600" cy="36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Conclusi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Visueel dictee &gt; spellingcheck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Spellingprestaties op natoet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Efficiënter bij verwervin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Voor goede speller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Vooral voor zwakke speller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Visueel dictee = spellingcheck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Transfer naar ongeoefende woorde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Transfer alleen naar analogie en regelwoorde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Experiment 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066680" y="2971440"/>
            <a:ext cx="7467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a08366"/>
                </a:solidFill>
                <a:latin typeface="Times New Roman"/>
              </a:rPr>
              <a:t>Spellingchecker zonder</a:t>
            </a: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a08366"/>
                </a:solidFill>
                <a:latin typeface="Times New Roman"/>
              </a:rPr>
              <a:t>vs.</a:t>
            </a: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a08366"/>
                </a:solidFill>
                <a:latin typeface="Times New Roman"/>
              </a:rPr>
              <a:t>Spellingchecker met suggesties </a:t>
            </a: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Materiaal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391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24 trainingswoorden 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(20% slechts gespelde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12 ambigue F-G woorden (e.g., dweil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12 leenwoorden (clown, shirt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36 controle woorde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18 ambigue F-G woorde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18 leenwoorden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Procedur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Drie trainingconditi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Geen feedback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Spellingchecker zonder suggesti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Spellingchecker met suggesti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Proefpersone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68 leerlingen uit Groep 4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Prestaties voortoe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Geen feedback (</a:t>
            </a:r>
            <a:r>
              <a:rPr b="0" i="1" lang="nl-NL" sz="2800" spc="-1" strike="noStrike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 = 23): Gem. = 36.6%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SC zonder suggesties (</a:t>
            </a:r>
            <a:r>
              <a:rPr b="0" i="1" lang="nl-NL" sz="2800" spc="-1" strike="noStrike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 = 23): Gem. = 40.8%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SC met suggesties(</a:t>
            </a:r>
            <a:r>
              <a:rPr b="0" i="1" lang="nl-NL" sz="2800" spc="-1" strike="noStrike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 = 22): Gem. = 36.8%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Zonder FB: Impliciet leren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66680" y="2209680"/>
          <a:ext cx="7315200" cy="377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09680"/>
                    <a:ext cx="731520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Impliciet vs. expliciet  lere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066680" y="1676520"/>
          <a:ext cx="7467840" cy="429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76520"/>
                    <a:ext cx="746784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Rol van soort feedback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90720" y="1905120"/>
          <a:ext cx="7696080" cy="419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05120"/>
                    <a:ext cx="769608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Conclusi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Oefenen zonder FB =&gt; positief effect op de spellingprestaties: Dus impliciet lere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Oefenen met FB is effectiever dan zonder: Dus expliciet leren is effectiever dan implicie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Effect </a:t>
            </a:r>
            <a:r>
              <a:rPr b="0" lang="nl-NL" sz="2800" spc="-1" strike="noStrike" baseline="-25000">
                <a:solidFill>
                  <a:srgbClr val="402000"/>
                </a:solidFill>
                <a:latin typeface="Times New Roman"/>
              </a:rPr>
              <a:t>FB met suggesties</a:t>
            </a: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 = Effect </a:t>
            </a:r>
            <a:r>
              <a:rPr b="0" lang="nl-NL" sz="2800" spc="-1" strike="noStrike" baseline="-25000">
                <a:solidFill>
                  <a:srgbClr val="402000"/>
                </a:solidFill>
                <a:latin typeface="Times New Roman"/>
              </a:rPr>
              <a:t>FB zonder suggesti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02000"/>
                </a:solidFill>
                <a:latin typeface="Times New Roman"/>
              </a:rPr>
              <a:t>zonder suggesties: F-G ambigu woorden = leenwoorden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02000"/>
                </a:solidFill>
                <a:latin typeface="Times New Roman"/>
              </a:rPr>
              <a:t>met suggesties : F-G ambigue woorden  &gt; leenwoorden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Centrale vraag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Wat is het effect van het soort feedback op de spellingprestaties van leerlingen in Groep 4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Kennis van het resultaa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Informationele feedback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Moraal van dit verhaal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De computer is een effectief spelling   hulpmiddel voor leerlingen in Groep 4 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Vooral als de feedback </a:t>
            </a:r>
            <a:r>
              <a:rPr b="1" lang="nl-NL" sz="3200" spc="-1" strike="noStrike">
                <a:solidFill>
                  <a:srgbClr val="402000"/>
                </a:solidFill>
                <a:latin typeface="Times New Roman"/>
              </a:rPr>
              <a:t>informationeel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 i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996633"/>
                </a:solidFill>
                <a:latin typeface="Times New Roman"/>
              </a:rPr>
              <a:t>Veel dank aan</a:t>
            </a:r>
            <a:endParaRPr b="0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295280" y="3047760"/>
            <a:ext cx="6934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a08366"/>
                </a:solidFill>
                <a:latin typeface="Times New Roman"/>
              </a:rPr>
              <a:t>Anke Weekers </a:t>
            </a: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a08366"/>
                </a:solidFill>
                <a:latin typeface="Times New Roman"/>
              </a:rPr>
              <a:t>&amp; </a:t>
            </a: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a08366"/>
                </a:solidFill>
                <a:latin typeface="Times New Roman"/>
              </a:rPr>
              <a:t>Floor Noten</a:t>
            </a: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Experiment 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523880" y="29714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a08366"/>
                </a:solidFill>
                <a:latin typeface="Times New Roman"/>
              </a:rPr>
              <a:t>Spellingchecker</a:t>
            </a: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a08366"/>
                </a:solidFill>
                <a:latin typeface="Times New Roman"/>
              </a:rPr>
              <a:t>vs.</a:t>
            </a: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a08366"/>
                </a:solidFill>
                <a:latin typeface="Times New Roman"/>
              </a:rPr>
              <a:t>Visueel dictee</a:t>
            </a: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Materiaal &amp; Procedur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391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Uit een voorstudie van 200 woorde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selectie van 100 woorden die gemiddelde spellingscores opleverden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Spelling programma’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Spellingchecke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Visueel dicte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Proefpersone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371600" y="2362320"/>
          <a:ext cx="8305920" cy="327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362320"/>
                    <a:ext cx="830592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Prestaties op de voortoe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143000" y="1981080"/>
          <a:ext cx="7620120" cy="392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81080"/>
                    <a:ext cx="762012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Training effect: Prestaties op de natoet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066680" y="1676520"/>
          <a:ext cx="7620120" cy="443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76520"/>
                    <a:ext cx="7620120" cy="44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Transfer: toename correct gespelde ongeoefende woorden 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90720" y="1905120"/>
          <a:ext cx="7543800" cy="388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05120"/>
                    <a:ext cx="7543800" cy="38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Training efficiënti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402000"/>
                </a:solidFill>
                <a:latin typeface="Times New Roman"/>
              </a:rPr>
              <a:t>Aantal geoefende woorde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Spellingchecker: 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37.4%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Visueel dictee: 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49.3%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402000"/>
                </a:solidFill>
                <a:latin typeface="Times New Roman"/>
              </a:rPr>
              <a:t>Gemiddeld aantal pogingen voor een goede spellin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Spellingchecker: 25 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(G = 12; Z =35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Visueel dictee: 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   8 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(G = 4; Z =12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08:50:13Z</dcterms:created>
  <dc:creator>FSW</dc:creator>
  <dc:description/>
  <dc:language>en-US</dc:language>
  <cp:lastModifiedBy>Anna Bosman</cp:lastModifiedBy>
  <cp:lastPrinted>2005-08-30T08:13:20Z</cp:lastPrinted>
  <dcterms:modified xsi:type="dcterms:W3CDTF">2006-05-06T04:09:37Z</dcterms:modified>
  <cp:revision>104</cp:revision>
  <dc:subject/>
  <dc:title>Complexe systementheorie: een schitterend alternatief  voor de sociale wetenschappen</dc:title>
</cp:coreProperties>
</file>