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5E6-1198-49F8-85C6-4CCD9290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6C5-08AC-49C6-BEC1-BCD18B4E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811-E1E7-42A5-9220-E5724663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DBB-8386-4E7C-98D8-1C351711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2D78-7569-4AEB-93F4-22A23CEE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B154-B764-4D7E-8161-083E0B6B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CFF1-04E2-4A43-8967-1B0C3C3C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FA6E-5822-4676-BF95-368AF9E0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7CFD-323D-4AAA-9A4F-906C82EA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3D24-6462-466F-AE69-18F53AA0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FCFF-0406-46E1-B4FD-5CFAE7A8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42D-9391-4AD0-9F4B-C3D0AB96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78D2-9A8E-4ADC-A4A6-8AE38F7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283D-5290-4281-A0BA-2C85E5D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3744-1836-4306-9EA9-4897E08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2125-69C7-42CA-9056-3C2597B7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EB05-706A-4FF2-BE17-73D463E5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BE0B-4C2B-4A9C-BEFE-97C21994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B7B-56A4-40A3-A9EC-B1387C4E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646-6952-468D-B62B-3F843676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1E9F-3DA8-45F3-95A2-1B71A359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52C-C91D-4AFE-A44E-BB4F880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9760-2E73-4935-9A64-69BF1A91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936-23DB-4982-A946-A91E3FFB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DB1-90E3-41D5-86BC-A644B9602D0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C62-F833-43E6-8D81-DF2B36C7ED6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990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Leren spellen, feedback en de comput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18960" y="28954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a08366"/>
                </a:solidFill>
                <a:latin typeface="Times New Roman"/>
              </a:rPr>
              <a:t>Martijn van Huygevoort &amp; Anna M. T. Bosman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a08366"/>
                </a:solidFill>
                <a:latin typeface="Times New Roman"/>
              </a:rPr>
              <a:t>ORD 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a08366"/>
                </a:solidFill>
                <a:latin typeface="Times New Roman"/>
              </a:rPr>
              <a:t>10-12 Mei 2006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a08366"/>
                </a:solidFill>
                <a:latin typeface="Times New Roman"/>
              </a:rPr>
              <a:t>Radboud Universiteit Nijmegen, Sectie Orthopedagogiek van leren en ontwikkeling &amp; BSI</a:t>
            </a:r>
            <a:endParaRPr b="0" lang="en-US" sz="20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41148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ining efficiëntie &amp; spellingniveau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2133720"/>
          <a:ext cx="7086600" cy="365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133720"/>
                    <a:ext cx="7086600" cy="36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&gt; spellingcheck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prestaties op natoe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iciënter bij verwerv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oor goede spell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ooral voor zwakke speller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isueel dictee = spellingcheck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Transfer naar ongeoefende 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Transfer alleen naar analogie en regel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066680" y="2971440"/>
            <a:ext cx="74678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Spellingchecker zonder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vs.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Spellingchecker met suggesties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Materia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24 trainingswoorden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(20% slechts gespeld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2 ambigue F-G woorden (e.g., dweil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2 leenwoorden (clown, shirt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36 controle wo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8 ambigue F-G 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18 leenwoorden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rie trainingconditi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en feed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checker zonder sugges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checker met sugges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oefperso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68 leerlingen uit Groep 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Prestaties voortoe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Geen feedback (</a:t>
            </a: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23): Gem. = 36.6%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C zonder suggesties (</a:t>
            </a: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23): Gem. = 40.8%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C met suggesties(</a:t>
            </a: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n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22): Gem. = 36.8%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Zonder FB: Impliciet lere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66680" y="2209680"/>
          <a:ext cx="7315200" cy="37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31520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Impliciet vs. expliciet  ler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676520"/>
          <a:ext cx="746784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46784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Rol van soort feedb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1905120"/>
          <a:ext cx="769608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6960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Conclus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Oefenen zonder FB =&gt; positief effect op de spellingprestaties: Dus impliciet ler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Oefenen met FB is effectiever dan zonder: Dus expliciet leren is effectiever dan implicie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Effect </a:t>
            </a:r>
            <a:r>
              <a:rPr b="0" lang="nl-NL" sz="2800" spc="-1" strike="noStrike" baseline="-25000">
                <a:solidFill>
                  <a:srgbClr val="402000"/>
                </a:solidFill>
                <a:latin typeface="Times New Roman"/>
              </a:rPr>
              <a:t>FB met suggesties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 = Effect </a:t>
            </a:r>
            <a:r>
              <a:rPr b="0" lang="nl-NL" sz="2800" spc="-1" strike="noStrike" baseline="-25000">
                <a:solidFill>
                  <a:srgbClr val="402000"/>
                </a:solidFill>
                <a:latin typeface="Times New Roman"/>
              </a:rPr>
              <a:t>FB zonder suggest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2000"/>
                </a:solidFill>
                <a:latin typeface="Times New Roman"/>
              </a:rPr>
              <a:t>zonder suggesties: F-G ambigu woorden = leenwoorde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02000"/>
                </a:solidFill>
                <a:latin typeface="Times New Roman"/>
              </a:rPr>
              <a:t>met suggesties : F-G ambigue woorden  &gt; leenwoorden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Centrale vraa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Wat is het effect van het soort feedback op de spellingprestaties van leerlingen in Groep 4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Kennis van het resultaa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Informationele feedbac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Moraal van dit verhaa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De computer is een effectief spelling   hulpmiddel voor leerlingen in Groep 4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Vooral als de feedback </a:t>
            </a:r>
            <a:r>
              <a:rPr b="1" lang="nl-NL" sz="3200" spc="-1" strike="noStrike">
                <a:solidFill>
                  <a:srgbClr val="402000"/>
                </a:solidFill>
                <a:latin typeface="Times New Roman"/>
              </a:rPr>
              <a:t>informationeel</a:t>
            </a: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996633"/>
                </a:solidFill>
                <a:latin typeface="Times New Roman"/>
              </a:rPr>
              <a:t>Veel dank aan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934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Anke Weekers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&amp; 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Floor Noten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Experiment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29714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Spellingchecker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vs.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a08366"/>
                </a:solidFill>
                <a:latin typeface="Times New Roman"/>
              </a:rPr>
              <a:t>Visueel dictee</a:t>
            </a: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Materiaal &amp; Procedur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Uit een voorstudie van 200 woorde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electie van 100 woorden die gemiddelde spellingscores opleverden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02000"/>
                </a:solidFill>
                <a:latin typeface="Times New Roman"/>
              </a:rPr>
              <a:t>Spelling programma’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Spellingcheck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02000"/>
                </a:solidFill>
                <a:latin typeface="Times New Roman"/>
              </a:rPr>
              <a:t>Visueel dicte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oefpersone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371600" y="2362320"/>
          <a:ext cx="8305920" cy="32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83059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Prestaties op de voortoe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1981080"/>
          <a:ext cx="7620120" cy="39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762012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ining effect: Prestaties op de natoet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676520"/>
          <a:ext cx="7620120" cy="44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62012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6633"/>
                </a:solidFill>
                <a:latin typeface="Times New Roman"/>
              </a:rPr>
              <a:t>Transfer: toename correct gespelde ongeoefende woorden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1905120"/>
          <a:ext cx="7543800" cy="388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754380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6633"/>
                </a:solidFill>
                <a:latin typeface="Times New Roman"/>
              </a:rPr>
              <a:t>Training efficiënti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Aantal geoefende woorde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Spellingchecker: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37.4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isueel dictee: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49.3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402000"/>
                </a:solidFill>
                <a:latin typeface="Times New Roman"/>
              </a:rPr>
              <a:t>Gemiddeld aantal pogingen voor een goede spell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Spellingchecker: 25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(G = 12; Z =35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Visueel dictee: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   8 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402000"/>
                </a:solidFill>
                <a:latin typeface="Times New Roman"/>
              </a:rPr>
              <a:t>(G = 4; Z =12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8:50:13Z</dcterms:created>
  <dc:creator>FSW</dc:creator>
  <dc:description/>
  <dc:language>en-US</dc:language>
  <cp:lastModifiedBy>Anna Bosman</cp:lastModifiedBy>
  <cp:lastPrinted>2005-08-30T08:13:20Z</cp:lastPrinted>
  <dcterms:modified xsi:type="dcterms:W3CDTF">2006-05-06T04:09:37Z</dcterms:modified>
  <cp:revision>104</cp:revision>
  <dc:subject/>
  <dc:title>Complexe systementheorie: een schitterend alternatief  voor de sociale wetenschappen</dc:title>
</cp:coreProperties>
</file>