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403280" y="436032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0380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1104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1844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40328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1104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1844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1484280"/>
            <a:ext cx="741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0380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403280" y="436032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0380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1104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1844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40328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91104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1844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03280" y="1484280"/>
            <a:ext cx="741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0380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1987200"/>
            <a:ext cx="633384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514600"/>
            <a:ext cx="8763120" cy="33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king memory, long-term memory, and reading: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case of catastrophe theory versus regression analysis</a:t>
            </a:r>
            <a:br>
              <a:rPr sz="2400"/>
            </a:br>
            <a:br>
              <a:rPr sz="2200"/>
            </a:br>
            <a:br>
              <a:rPr sz="2200"/>
            </a:br>
            <a:r>
              <a:rPr b="1" lang="en-GB" sz="2200" spc="-1" strike="noStrike">
                <a:solidFill>
                  <a:srgbClr val="be311a"/>
                </a:solidFill>
                <a:latin typeface="Arial"/>
              </a:rPr>
              <a:t>Anna M. T. Bosman</a:t>
            </a:r>
            <a:br>
              <a:rPr sz="2200"/>
            </a:br>
            <a:r>
              <a:rPr b="1" lang="en-GB" sz="2200" spc="-1" strike="noStrike">
                <a:solidFill>
                  <a:srgbClr val="be311a"/>
                </a:solidFill>
                <a:latin typeface="Arial"/>
              </a:rPr>
              <a:t>Fred Hasselman</a:t>
            </a:r>
            <a:br>
              <a:rPr sz="2200"/>
            </a:br>
            <a:r>
              <a:rPr b="1" lang="en-GB" sz="2200" spc="-1" strike="noStrike">
                <a:solidFill>
                  <a:srgbClr val="be311a"/>
                </a:solidFill>
                <a:latin typeface="Arial"/>
              </a:rPr>
              <a:t>Ralf Cox  </a:t>
            </a:r>
            <a:endParaRPr b="1" lang="en-US" sz="22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413080" y="1700280"/>
            <a:ext cx="640080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havioural Science Institu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ijmegen, the Netherla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484280"/>
            <a:ext cx="775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55800" y="2205000"/>
            <a:ext cx="80089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15238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Change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424960"/>
            <a:ext cx="84582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t the heart of psychology (everything!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 want to achieve in 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why not study it in terms of a dynam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72284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1482840"/>
            <a:ext cx="741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8440" indent="-56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dynam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syst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s in terms of mathema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able us to understand discontinuities in behaviour (i.e., change over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the help of so-called control para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47772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294920" y="1447920"/>
            <a:ext cx="741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e311a"/>
                </a:solidFill>
                <a:latin typeface="Arial"/>
              </a:rPr>
              <a:t>Catastrophe models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72284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47772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28680" y="2360520"/>
                <a:ext cx="199080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916520" y="2360520"/>
                <a:ext cx="3008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403280" y="3886200"/>
            <a:ext cx="7416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6360" indent="-5763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psychological variable of interest (i.e., reading suc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nl-NL" sz="2800" spc="-1" strike="noStrike">
                <a:solidFill>
                  <a:srgbClr val="be311a"/>
                </a:solidFill>
                <a:latin typeface="Times New Roman"/>
              </a:rPr>
              <a:t>potential</a:t>
            </a:r>
            <a:r>
              <a:rPr b="1" i="1" lang="en-US" sz="2800" spc="-1" strike="noStrike">
                <a:solidFill>
                  <a:srgbClr val="be311a"/>
                </a:solidFill>
                <a:latin typeface="Times New Roman"/>
              </a:rPr>
              <a:t> </a:t>
            </a:r>
            <a:r>
              <a:rPr b="1" i="1" lang="nl-NL" sz="2800" spc="-1" strike="noStrike">
                <a:solidFill>
                  <a:srgbClr val="be311a"/>
                </a:solidFill>
                <a:latin typeface="Times New Roman"/>
              </a:rPr>
              <a:t>functi</a:t>
            </a:r>
            <a:r>
              <a:rPr b="1" i="1" lang="en-US" sz="2800" spc="-1" strike="noStrike">
                <a:solidFill>
                  <a:srgbClr val="be311a"/>
                </a:solidFill>
                <a:latin typeface="Times New Roman"/>
              </a:rPr>
              <a:t>on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ing the possible states in which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h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ventually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be311a"/>
                </a:solidFill>
                <a:latin typeface="Arial"/>
              </a:rPr>
              <a:t>Un po’ di matematica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72284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47772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905120" y="2743200"/>
                <a:ext cx="53146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β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α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09480" y="3962520"/>
            <a:ext cx="8077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6360" indent="-576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aramet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ng the exact shape of the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1" i="1" lang="en-US" sz="2800" spc="-1" strike="noStrike">
                <a:solidFill>
                  <a:srgbClr val="be311a"/>
                </a:solidFill>
                <a:latin typeface="Times New Roman"/>
                <a:ea typeface="Times New Roman"/>
              </a:rPr>
              <a:t>order</a:t>
            </a:r>
            <a:r>
              <a:rPr b="1" i="1" lang="nl-NL" sz="2800" spc="-1" strike="noStrike">
                <a:solidFill>
                  <a:srgbClr val="be311a"/>
                </a:solidFill>
                <a:latin typeface="Times New Roman"/>
              </a:rPr>
              <a:t> parameter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1" i="1" lang="en-US" sz="2800" spc="-1" strike="noStrike">
                <a:solidFill>
                  <a:srgbClr val="be311a"/>
                </a:solidFill>
                <a:latin typeface="Times New Roman"/>
                <a:ea typeface="Times New Roman"/>
              </a:rPr>
              <a:t>asymmetry</a:t>
            </a:r>
            <a:r>
              <a:rPr b="1" i="1" lang="nl-NL" sz="2800" spc="-1" strike="noStrike">
                <a:solidFill>
                  <a:srgbClr val="be311a"/>
                </a:solidFill>
                <a:latin typeface="Times New Roman"/>
              </a:rPr>
              <a:t> parameter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1" i="1" lang="en-US" sz="2800" spc="-1" strike="noStrike">
                <a:solidFill>
                  <a:srgbClr val="be311a"/>
                </a:solidFill>
                <a:latin typeface="Times New Roman"/>
              </a:rPr>
              <a:t>bifurcation</a:t>
            </a:r>
            <a:r>
              <a:rPr b="1" i="1" lang="nl-NL" sz="2800" spc="-1" strike="noStrike">
                <a:solidFill>
                  <a:srgbClr val="be311a"/>
                </a:solidFill>
                <a:latin typeface="Times New Roman"/>
              </a:rPr>
              <a:t> parameter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484280"/>
            <a:ext cx="85914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e311a"/>
                </a:solidFill>
                <a:latin typeface="Arial"/>
              </a:rPr>
              <a:t>Potential function of the Cusp-catastrophe model</a:t>
            </a:r>
            <a:endParaRPr b="1" lang="en-US" sz="28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447560"/>
            <a:ext cx="74170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Non-linear or Cusp-catastrophe model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903400" y="2476440"/>
            <a:ext cx="6240600" cy="4381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770960" y="15228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80880" y="2286000"/>
                <a:ext cx="53150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β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α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72284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47772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914400" y="5181480"/>
                <a:ext cx="14493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533520" y="2362320"/>
            <a:ext cx="7924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systems tend to seek particular end states, called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be311a"/>
                </a:solidFill>
                <a:latin typeface="Times New Roman"/>
              </a:rPr>
              <a:t>attract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he variable 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 not change anym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erms of mathematics, we need to establish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495680" y="5181480"/>
                <a:ext cx="37702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340080" y="529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447560"/>
            <a:ext cx="7416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be311a"/>
                </a:solidFill>
                <a:latin typeface="Arial"/>
              </a:rPr>
              <a:t>Ancora un po’ di matematica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1447560"/>
            <a:ext cx="74170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Canonical cusp-surface equation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903400" y="1981080"/>
            <a:ext cx="6240600" cy="43815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770960" y="15228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85800" y="2362320"/>
                <a:ext cx="28465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βx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952880" y="624852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y parameter: W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5640" y="525780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furcation parameter: L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Experiment 1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03280" y="2437920"/>
            <a:ext cx="7416720" cy="40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47 Dutch, Grade-1 students with reading proble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5 b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2 gir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Mean age = 80 months (SD = 5); at memory assess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mory: October/November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ing level 1: January/February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ing level 2: June/July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141120"/>
            <a:ext cx="116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1371600"/>
            <a:ext cx="71312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Results: Linear difference model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72400" y="141120"/>
            <a:ext cx="116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19320" y="2895480"/>
          <a:ext cx="6858000" cy="3657600"/>
        </p:xfrm>
        <a:graphic>
          <a:graphicData uri="http://schemas.openxmlformats.org/drawingml/2006/table">
            <a:tbl>
              <a:tblPr/>
              <a:tblGrid>
                <a:gridCol w="3352680"/>
                <a:gridCol w="1828800"/>
                <a:gridCol w="16765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: Digit re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: Backward re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: Block re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3886200" y="2133720"/>
            <a:ext cx="41148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x = b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LTM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WM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1371600"/>
            <a:ext cx="71312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Results: Linear interaction model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141120"/>
            <a:ext cx="116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2971800"/>
          <a:ext cx="7315200" cy="3429000"/>
        </p:xfrm>
        <a:graphic>
          <a:graphicData uri="http://schemas.openxmlformats.org/drawingml/2006/table">
            <a:tbl>
              <a:tblPr/>
              <a:tblGrid>
                <a:gridCol w="3576600"/>
                <a:gridCol w="1951200"/>
                <a:gridCol w="17874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: Digit re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: Backward re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: Block re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1879560" y="2057400"/>
            <a:ext cx="60166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x = b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LTM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WM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LTM*WM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484280"/>
            <a:ext cx="775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514600"/>
            <a:ext cx="7391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be311a"/>
                </a:solidFill>
                <a:latin typeface="Arial"/>
              </a:rPr>
              <a:t>Who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&amp; Practiti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be311a"/>
                </a:solidFill>
                <a:latin typeface="Arial"/>
              </a:rPr>
              <a:t>Wha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 and reading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be311a"/>
                </a:solidFill>
                <a:latin typeface="Arial"/>
              </a:rPr>
              <a:t>Wh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?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be311a"/>
                </a:solidFill>
                <a:latin typeface="Arial"/>
              </a:rPr>
              <a:t>Wher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we now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1523880"/>
            <a:ext cx="74170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W</a:t>
            </a:r>
            <a:r>
              <a:rPr b="1" lang="en-GB" sz="3200" spc="-1" strike="noStrike" baseline="30000">
                <a:solidFill>
                  <a:srgbClr val="be311a"/>
                </a:solidFill>
                <a:latin typeface="Arial"/>
              </a:rPr>
              <a:t>4 </a:t>
            </a: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= (Who*What*Why*Where)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1447560"/>
            <a:ext cx="7416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Results: Linear pre-post model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72400" y="141120"/>
            <a:ext cx="116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43000" y="2971800"/>
          <a:ext cx="6858000" cy="3657600"/>
        </p:xfrm>
        <a:graphic>
          <a:graphicData uri="http://schemas.openxmlformats.org/drawingml/2006/table">
            <a:tbl>
              <a:tblPr/>
              <a:tblGrid>
                <a:gridCol w="3352680"/>
                <a:gridCol w="914400"/>
                <a:gridCol w="2590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US" sz="1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LTM + Digit re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*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.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LTM + Backward recal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*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.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LTM +Block re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*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.0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.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2630520" y="2057400"/>
            <a:ext cx="511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LT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W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763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Results: Non-linear Cusp-catastrophe model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231840"/>
            <a:ext cx="1162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WOMS-20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0880" y="2819520"/>
          <a:ext cx="8534520" cy="3413160"/>
        </p:xfrm>
        <a:graphic>
          <a:graphicData uri="http://schemas.openxmlformats.org/drawingml/2006/table">
            <a:tbl>
              <a:tblPr/>
              <a:tblGrid>
                <a:gridCol w="1551240"/>
                <a:gridCol w="690480"/>
                <a:gridCol w="1465200"/>
                <a:gridCol w="1465200"/>
                <a:gridCol w="1724040"/>
                <a:gridCol w="16383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model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.000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r>
                        <a:rPr b="0" lang="en-US" sz="4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 recal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.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.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.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-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80000"/>
                      </a:srgbClr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ward recal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.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-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80000"/>
                      </a:srgbClr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 recal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6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.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.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-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.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8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685800" y="20574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x = b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LTM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e311a"/>
                </a:solidFill>
                <a:latin typeface="Arial"/>
              </a:rPr>
              <a:t>What did we learn?</a:t>
            </a:r>
            <a:endParaRPr b="1" lang="en-US" sz="3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tific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M, WM, and Reading are dynamically related. Thus, the search for independent components as causal mechanisms seem fu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actic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ssible to predict reading-remediation success based on LTM and WM levels.Thu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ACH CHILD DESERVES THE EXTRA HEL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05880" y="22860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WOMS-200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2057400"/>
            <a:ext cx="7753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421000"/>
            <a:ext cx="784872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Braams, 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r keeping us in touch with daily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rion IJntema-de K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808080"/>
                </a:solidFill>
                <a:latin typeface="Arial"/>
              </a:rPr>
              <a:t>for running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the</a:t>
            </a:r>
            <a:r>
              <a:rPr b="0" lang="nl-NL" sz="2000" spc="-1" strike="noStrike">
                <a:solidFill>
                  <a:srgbClr val="808080"/>
                </a:solidFill>
                <a:latin typeface="Arial"/>
              </a:rPr>
              <a:t>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ams &amp; Partners, Instituut voor Dyslex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nter, 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1828440"/>
            <a:ext cx="75438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e311a"/>
                </a:solidFill>
                <a:latin typeface="Arial"/>
              </a:rPr>
              <a:t>Many thanks to</a:t>
            </a:r>
            <a:endParaRPr b="1" lang="en-US" sz="36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484280"/>
            <a:ext cx="775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51460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400"/>
                </a:solidFill>
                <a:latin typeface="Lucida Sans Unicode"/>
                <a:ea typeface="Lucida Sans Unicode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400"/>
                </a:solidFill>
                <a:latin typeface="Lucida Sans Unicode"/>
                <a:ea typeface="Lucida Sans Unicod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6400"/>
                </a:solidFill>
                <a:latin typeface="Lucida Sans Unicode"/>
                <a:ea typeface="Lucida Sans Unicode"/>
              </a:rPr>
              <a:t>ɪ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400"/>
                </a:solidFill>
                <a:latin typeface="Lucida Sans Unicode"/>
                <a:ea typeface="Lucida Sans Unicode"/>
              </a:rPr>
              <a:t>e</a:t>
            </a:r>
            <a:r>
              <a:rPr b="1" lang="nl-NL" sz="2400" spc="-1" strike="noStrike">
                <a:solidFill>
                  <a:srgbClr val="006400"/>
                </a:solidFill>
                <a:latin typeface="Lucida Sans Unicode"/>
                <a:ea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400"/>
                </a:solidFill>
                <a:latin typeface="Lucida Sans Unicode"/>
                <a:ea typeface="Lucida Sans Unicod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400"/>
                </a:solidFill>
                <a:latin typeface="Lucida Sans Unicode"/>
                <a:ea typeface="Lucida Sans Unicode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reading errors: /stand/, /sand/, /trend/, /spend/, /ran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nl-NL" sz="2400" spc="-1" strike="noStrike">
                <a:solidFill>
                  <a:srgbClr val="006400"/>
                </a:solidFill>
                <a:latin typeface="Lucida Sans Unicode"/>
                <a:ea typeface="Lucida Sans Unicode"/>
              </a:rPr>
              <a:t>ɪə</a:t>
            </a:r>
            <a:r>
              <a:rPr b="1" lang="en-US" sz="2400" spc="-1" strike="noStrike">
                <a:solidFill>
                  <a:srgbClr val="0064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999999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6400"/>
                </a:solidFill>
                <a:latin typeface="Lucida Sans Unicode"/>
                <a:ea typeface="Lucida Sans Unicode"/>
              </a:rPr>
              <a:t>eə</a:t>
            </a:r>
            <a:r>
              <a:rPr b="1" lang="en-US" sz="2400" spc="-1" strike="noStrike">
                <a:solidFill>
                  <a:srgbClr val="0064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2400" spc="-1" strike="noStrike">
                <a:solidFill>
                  <a:srgbClr val="006400"/>
                </a:solidFill>
                <a:latin typeface="Lucida Sans Unicode"/>
                <a:ea typeface="Lucida Sans Unicode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999999"/>
                </a:solidFill>
                <a:latin typeface="Verdana"/>
              </a:rPr>
              <a:t> </a:t>
            </a:r>
            <a:r>
              <a:rPr b="1" lang="nl-NL" sz="2400" spc="-1" strike="noStrike">
                <a:solidFill>
                  <a:srgbClr val="006400"/>
                </a:solidFill>
                <a:latin typeface="Lucida Sans Unicode"/>
                <a:ea typeface="Lucida Sans Unicode"/>
              </a:rPr>
              <a:t>eɪ</a:t>
            </a:r>
            <a:r>
              <a:rPr b="1" lang="en-US" sz="2400" spc="-1" strike="noStrike">
                <a:solidFill>
                  <a:srgbClr val="006400"/>
                </a:solidFill>
                <a:latin typeface="Lucida Sans Unicode"/>
                <a:ea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1523880"/>
            <a:ext cx="74170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Memory &amp; Reading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419720"/>
            <a:ext cx="861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1484280"/>
            <a:ext cx="775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514600"/>
            <a:ext cx="79250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ware of heard, a dreadful word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hat looks like beard and sounds like bird,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nd dead: it's said like bed, not bead -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or goodness sake don't call it deed!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828440"/>
            <a:ext cx="74170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Memory &amp; Reading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133720"/>
            <a:ext cx="850752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orking memory :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git Re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ckward Digit Re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lock Re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ng Term Memory: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2-Word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eading level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Arial"/>
              </a:rPr>
              <a:t>decoding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MT: Score = N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correct wor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/ minu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0" r="0" b="29528"/>
          <a:stretch/>
        </p:blipFill>
        <p:spPr>
          <a:xfrm>
            <a:off x="5943600" y="2895480"/>
            <a:ext cx="2971800" cy="1524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743200" y="38088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286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295280"/>
            <a:ext cx="775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Tests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Experiment 0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9 Dutch, Grade-1 students (mean age 80 mont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6 without  and 53 with reading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72400" y="141120"/>
            <a:ext cx="116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2120" y="3048120"/>
          <a:ext cx="7543800" cy="3460680"/>
        </p:xfrm>
        <a:graphic>
          <a:graphicData uri="http://schemas.openxmlformats.org/drawingml/2006/table">
            <a:tbl>
              <a:tblPr/>
              <a:tblGrid>
                <a:gridCol w="2732040"/>
                <a:gridCol w="1585800"/>
                <a:gridCol w="1452600"/>
                <a:gridCol w="1773360"/>
              </a:tblGrid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 R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R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: Digit recal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: Block recal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.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: Backward recal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.005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: capac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.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6934320" y="2057400"/>
            <a:ext cx="18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484280"/>
            <a:ext cx="775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514600"/>
            <a:ext cx="79250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828440"/>
            <a:ext cx="74170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Working Memory and remediation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048120"/>
            <a:ext cx="830592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git recall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diatio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Successful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diatio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Unsuccessfu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&lt; 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ward recall: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diatio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Successful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diatio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Unsuccess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lock recall: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diatio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Successfu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diatio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467840" cy="3541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1341360"/>
            <a:ext cx="775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5486400"/>
            <a:ext cx="861048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-u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linear and quadratic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pac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diatio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Successful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ediatio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Unsuccessfu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&lt; 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Long-term memory and remediation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WOMS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1484280"/>
            <a:ext cx="7753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55800" y="2205000"/>
            <a:ext cx="80089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33920" y="3124080"/>
            <a:ext cx="4381560" cy="2857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23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e311a"/>
                </a:solidFill>
                <a:latin typeface="Arial"/>
              </a:rPr>
              <a:t>Multiple linear regression model</a:t>
            </a:r>
            <a:endParaRPr b="1" lang="en-US" sz="32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6160" y="2100240"/>
            <a:ext cx="3483360" cy="16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1:19:36Z</dcterms:created>
  <dc:creator>J.Buijs</dc:creator>
  <dc:description/>
  <dc:language>en-US</dc:language>
  <cp:lastModifiedBy> ton</cp:lastModifiedBy>
  <dcterms:modified xsi:type="dcterms:W3CDTF">2006-06-08T11:25:13Z</dcterms:modified>
  <cp:revision>82</cp:revision>
  <dc:subject/>
  <dc:title>Titel van de presentatie</dc:title>
</cp:coreProperties>
</file>