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110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84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0328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110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184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741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110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84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0328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110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184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741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1987200"/>
            <a:ext cx="633384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1987560"/>
            <a:ext cx="633384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Reading disabilities, remediation, and</a:t>
            </a:r>
            <a:br>
              <a:rPr sz="2600"/>
            </a:b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the role of memory skills</a:t>
            </a:r>
            <a:br>
              <a:rPr sz="2600"/>
            </a:br>
            <a:br>
              <a:rPr sz="26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be311a"/>
                </a:solidFill>
                <a:latin typeface="Arial"/>
              </a:rPr>
              <a:t>Anna M. T. Bosman</a:t>
            </a:r>
            <a:br>
              <a:rPr sz="2200"/>
            </a:br>
            <a:r>
              <a:rPr b="1" lang="en-US" sz="2200" spc="-1" strike="noStrike">
                <a:solidFill>
                  <a:srgbClr val="be311a"/>
                </a:solidFill>
                <a:latin typeface="Arial"/>
              </a:rPr>
              <a:t>Marion IJntema-de Kok</a:t>
            </a:r>
            <a:br>
              <a:rPr sz="2200"/>
            </a:br>
            <a:r>
              <a:rPr b="1" lang="en-US" sz="2200" spc="-1" strike="noStrike">
                <a:solidFill>
                  <a:srgbClr val="be311a"/>
                </a:solidFill>
                <a:latin typeface="Arial"/>
              </a:rPr>
              <a:t>Tom Braams</a:t>
            </a:r>
            <a:br>
              <a:rPr sz="2200"/>
            </a:br>
            <a:r>
              <a:rPr b="1" lang="en-US" sz="2200" spc="-1" strike="noStrike">
                <a:solidFill>
                  <a:srgbClr val="be311a"/>
                </a:solidFill>
                <a:latin typeface="Arial"/>
              </a:rPr>
              <a:t>Fred Hasselman</a:t>
            </a:r>
            <a:r>
              <a:rPr b="1" lang="nl-NL" sz="2200" spc="-1" strike="noStrike">
                <a:solidFill>
                  <a:srgbClr val="be311a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413080" y="1700280"/>
            <a:ext cx="64008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Behavioural Science Institu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920" y="2205000"/>
            <a:ext cx="910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or correlations between pre and post-test measurements (6 month interval) of memory ski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git recall,  r = .68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&amp;P: r = .81  (2 week interval)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ckward digit recall, r = .47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&amp;P: r = .53  (2 week interval)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lock recall, r = .20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&amp;P: r = .63  (2 week interv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pite the poor correlations between repeated measures, the effects on remediation are similar for both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a follow-up study of 342 children, we conducted a factor analysis on the measures of memory skills. Two factors were extracted: The subcomponents of working memory all collapsed onto one factor we dubbed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hort term memory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the other factor wa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ong term memory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 Evidence for the General Capacity Model (i.e. Cantor &amp; Engle, 1993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Role of working memory in dyslex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5800" y="2205000"/>
            <a:ext cx="80089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ny studies have shown deficits in various subsystems of working memory to be a defining feature of dyslexia 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(see for instance: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Gathercole &amp; Pickering, 2001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;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McLoughlin, Fitzgibbon &amp; Young, 1994; Smith-Spark, Fisk, Fawcett, &amp; Nicolson, 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940360" y="3425760"/>
            <a:ext cx="122400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480" rIns="4248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Phonological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Role of working memory in dyslex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08440" y="3024360"/>
            <a:ext cx="2382840" cy="1349280"/>
          </a:xfrm>
          <a:prstGeom prst="ellipse">
            <a:avLst/>
          </a:prstGeom>
          <a:solidFill>
            <a:srgbClr val="ff6600">
              <a:alpha val="6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73600" y="4267080"/>
            <a:ext cx="103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3080" y="4267080"/>
            <a:ext cx="150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2840" y="3127320"/>
            <a:ext cx="243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56440" y="312732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652720" y="3127320"/>
            <a:ext cx="31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147680" y="3127320"/>
            <a:ext cx="233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147680" y="4267080"/>
            <a:ext cx="233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7680" y="3127320"/>
            <a:ext cx="0" cy="11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27160" y="3127320"/>
            <a:ext cx="2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35240" y="312732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27160" y="4267080"/>
            <a:ext cx="2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5240" y="4267080"/>
            <a:ext cx="15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456000"/>
            <a:ext cx="9856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480" rIns="4248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11400" y="5140440"/>
            <a:ext cx="5878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ong 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35320" y="2602080"/>
            <a:ext cx="3605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orking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897360" y="4300200"/>
            <a:ext cx="0" cy="83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233960" y="4300200"/>
            <a:ext cx="0" cy="83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562200" y="4300200"/>
            <a:ext cx="0" cy="83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68760" y="4300200"/>
            <a:ext cx="0" cy="83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2200" y="497196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97360" y="497196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3960" y="497196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68760" y="497196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2400" y="5667480"/>
            <a:ext cx="17668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Baddeley (19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3336840"/>
            <a:ext cx="976320" cy="6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480" rIns="42480" tIns="21240" bIns="21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isuo- spatial sketch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Role of working memory in dyslex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831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y studies have shown deficits in various subsystems of working memory to be a defining feature of dyslexia 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(see for instance: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Gathercole &amp; Pickering, 2000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;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McLoughlin, Fitzgibbon &amp; Young, 1994; Smith-Spark, Fisk, Fawcett, &amp; Nicolson, 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agreement on which subprocesses are impaired, but agreement on a Central executive / Attentional defic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at are the implications of such deficits for remedi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at about Long term Mem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1197000"/>
            <a:ext cx="7753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The Present Stu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320" y="1700280"/>
            <a:ext cx="8636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42 children from grade one participated in the stu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76 children were lagging behind in reading development (standard screen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Wentink &amp; Verhoeven, 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66 children without reading problems particip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Children with reading problems and entered a remediation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Gijsel &amp; Bosman,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ost-test 6 months after pre-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ter the post-test the children were divided into 3 grou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o remediatio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no problems with read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(n=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mediation successfu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problems with reading no longer pres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n=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Remediation unsuccessfu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problems with reading pesis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n=32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2122560"/>
            <a:ext cx="89643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nological loo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igit Recall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(Pickering &amp; Gathercole, 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3925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Answer: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8392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ntral executiv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Backward Digit Recall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(Pickering &amp; Gathercole, 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3925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Answer: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1529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uo-spatial sketchpa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Block Recall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(Pickering &amp; Gathercole, 2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call sequences of blocks t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ng Term Memor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12 Words Test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(Kalverboer &amp; Deelman, 19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wordpairs are read 5 times, after each time a child is asked to rec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s. 30 minutes later, the child is again asked to recall th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29528"/>
          <a:stretch/>
        </p:blipFill>
        <p:spPr>
          <a:xfrm>
            <a:off x="3995640" y="4748040"/>
            <a:ext cx="1584360" cy="912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The Present Stu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71880" y="1515960"/>
            <a:ext cx="5878440" cy="4000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66680" y="134136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Results: Working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02680" y="5300640"/>
            <a:ext cx="9668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Phonological loop: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o remediation vs. Remediation unsuccessful, sig. diff. (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&lt; .0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emediation successful vs. Remediation unsuccessful, sig. diff. (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&lt; .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Central Executive: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o remediation vs. Remediation unsuccessful, sig. diff. (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&lt; .0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o remediation vs. Remediation successful, sig. diff. (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&lt; .0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isuo spatial sketchpad: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o significant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5639040" cy="3971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34136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Results: Long term Mem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519880"/>
            <a:ext cx="9144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ong term Memory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uild-up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ignificant Linear and Quadratic tr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When comparing M5 to Capacity measurement (30 minutes later) the amount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f ‘forgetting’ is the same for all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Long term Memory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o remediation vs. Unsuccessful, sig. diff. (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&lt; .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emediation successful vs. Remediation unsuccessful, sig. diff. (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&lt; .0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Reading disabilities, remediation,</a:t>
            </a:r>
            <a:br>
              <a:rPr sz="2000"/>
            </a:b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nd the role of memory skil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SS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920" y="2421000"/>
            <a:ext cx="9109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ing memory plays a role in the ability to benefit from remedi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mpaired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honological loop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s related to unsuccessful re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entral executiv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is impaired, remediation can still be 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suo- spatial sketchp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plays no role in this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ng term memory also plays a role in the ability to benefit from remedi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fferences 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d-u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larger build-up and larger capacity means better chance on successful re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1:19:36Z</dcterms:created>
  <dc:creator>J.Buijs</dc:creator>
  <dc:description/>
  <dc:language>en-US</dc:language>
  <cp:lastModifiedBy>Fred Hasselman</cp:lastModifiedBy>
  <dcterms:modified xsi:type="dcterms:W3CDTF">2005-07-14T11:24:00Z</dcterms:modified>
  <cp:revision>49</cp:revision>
  <dc:subject/>
  <dc:title>Titel van de presentatie</dc:title>
</cp:coreProperties>
</file>