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F6A-E840-4798-9FE6-0834DC2B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2F5-AA00-49B1-A20C-73A119AF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D74-59B4-4155-8817-BCBF06D4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4F1-B9A0-45D1-A694-1E3C0836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ADD2-C0AB-443B-8C65-981610C6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3885-A864-48A8-84E4-E762BF51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6A3D-986C-4D5B-BD94-639AC1BC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A6CE-E787-4EF4-A757-DFFE76C9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DA4E-E2DD-445F-9228-393303C3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A910-1FB5-4D42-BF88-4D9F1480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D8E-DDE2-4CE1-8EA4-F81E9156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251-756F-48E3-A6E4-8BFC50A8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652B-639E-4030-AE00-69B053BA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D71B-F0EE-407B-96A5-7DACE4B7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11F2-7E04-4256-A2D9-8F10A038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2EB3-C1BE-4ACE-8C4A-B776DA1C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34F7-9149-4980-A1BF-00C368CE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491-DB3A-4564-B1F0-8F74F8D3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B11-5E62-434A-8448-7F1818A5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E06-7DA0-4EA1-B621-A6F36C31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4B7-5FD4-45C8-9596-5E82095F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375-FEAD-4FD0-98C7-7F0237E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CB6-C8C1-4F07-8EB0-21ABAF74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93B-BC74-4103-8946-B59224C9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FC0B-2162-4583-BF94-CE7DD873E68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9831-FF81-48AD-A3FF-9B8ACA23647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560" y="1142640"/>
            <a:ext cx="7572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913"/>
                </a:solidFill>
                <a:latin typeface="Times New Roman"/>
                <a:ea typeface="Times New Roman"/>
              </a:rPr>
              <a:t>Spelling awareness affects spelling performance positively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30477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Anna M. T. Bosma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University of Nijmege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SSSR, Amsterdam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June 27-30,  2004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Metho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re-test and post-test materials consisted of 200 words selected from standardised Dutch spelling tests for Grades 2-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raining materials consisted of words from the language curriculum “Taaltijd” used in the classroom</a:t>
            </a:r>
            <a:r>
              <a:rPr b="1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Increased spelling awarene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Spelling perform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pelling awarene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an be enhanced in 8-year-olds (Grade 3)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ncreases with the same amount in both good and poor spell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lready improves slightly when just presenting a pre-test and a post-test (indicated by the results of the control group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Enhanced spelling awareness improves spelling perform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Study 3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Thanks to Marieke Willemen and Janet van Hell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Participa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78120" y="2057400"/>
          <a:ext cx="584352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8120" y="2057400"/>
                    <a:ext cx="5843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Metho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ach student wrote an ess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ssays served as the starting point for the experimenter to discuss difficult aspects of the spelling of each of the students individual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individualised check list was made to aid the spelling-check task in subsequent training session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Results of regular-education student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19320" y="1828800"/>
          <a:ext cx="792468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792468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Results of special-education student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1676520"/>
          <a:ext cx="7086600" cy="43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70866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pelling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mproves as a result of increasing awarenes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mproves in students from regular education as well as in students from special edu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mproves in regular-education students and not in special-education students, who are only asked to re-read their essays after comple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Spelling tasks reveal spelling awarene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Study 1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Thanks to Manuela Donderwinkel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Thus, spelling awarene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590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8001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s an implicit skill in regular and special-education students (Study 1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an be enhanced in students as young as 8 years (Study 3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mproves in both good and poor spellers (Study 2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mproves in both spellers from regular and special education (Study 3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s positively related to spelling performance (Studies 2 and 3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105520"/>
            <a:ext cx="7162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913"/>
                </a:solidFill>
                <a:latin typeface="Times New Roman"/>
              </a:rPr>
              <a:t>Thank you for your atten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a.bosman@ped.kun.n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Participa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05120" y="1951200"/>
          <a:ext cx="5638680" cy="39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1200"/>
                    <a:ext cx="563868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Metho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ach student wrote an ess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rom each essay one correctly spelled and one wrongly spelled word was selec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 set of correctly and wrongly spelled words in each grade were then presented to them in a writing-to-dictation tas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Performance comparison on dictation and essay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Spelling performanc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772400" cy="40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77724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752480" y="1905120"/>
          <a:ext cx="609768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05120"/>
                    <a:ext cx="6097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913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quarter (26%) of all spellings  is unstable (‘Correct-Wrong’ of ‘Wrong-Correct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tudents spell better in a dictation task than in their essays, probably becau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 formal reading style aids the proce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tudents make more errors in a dictation task than in their essays, probably becau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y are aware of what they know and what they do not kn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Enhancing spelling awarene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00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Study 2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Thanks to Raquel Paff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Participant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1981080"/>
          <a:ext cx="716292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430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SpAw is level of spelling awareness: “Knows the spelling and the word is spelled correctly” + “Does not know the spelling and the word is spelled incorrectly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20:39:28Z</dcterms:created>
  <dc:creator>FSW</dc:creator>
  <dc:description/>
  <dc:language>en-US</dc:language>
  <cp:lastModifiedBy>FSW</cp:lastModifiedBy>
  <cp:lastPrinted>2004-03-01T12:25:59Z</cp:lastPrinted>
  <dcterms:modified xsi:type="dcterms:W3CDTF">2004-06-27T12:13:00Z</dcterms:modified>
  <cp:revision>28</cp:revision>
  <dc:subject/>
  <dc:title>Leren spellen Slimme oefeningen en het bevorderen van het spellingbewustzijn</dc:title>
</cp:coreProperties>
</file>