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7910-E52A-43C7-BB03-9E747426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7CF1-2FCF-4EF1-8410-DAB0AE39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9E8-98CF-4D32-B2F3-A304AA66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12A-E315-492A-99F4-986F9A00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3CC6-C1B2-4207-8DB5-0ABE2ADE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88A2-0D51-4568-BDFA-481129D8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60F5-25B2-4ACA-877D-79D5C16A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D123-7D08-4DFB-80BE-7144768F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4A05-D286-4ABB-9E6F-68FC5DF1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AA4A-271D-4ECB-994A-0736CE78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03F5-5DFC-4C9C-8A94-E96859F1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3BB-966B-482E-93CD-4FFF1179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B922-22AE-47A6-923D-EF0BC703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9105-97F3-4CCF-8CEB-C127635D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378E-224C-4AAD-BD9C-F8DCDE31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1EAB-06FE-47D4-968D-D41E4044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7D95-58D6-4945-99E7-7C9777E4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99EA-03D0-4DA1-95F2-E436DF82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D913-469A-4F10-9AA0-08E49907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1D3-1046-4EC3-8143-35754341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B190-AEFD-46E1-B674-A096DC11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BC2-BBDE-48D1-99E0-7D25BA18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3707-CA1B-424D-A2F8-776507F0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59E-D8C9-448E-B0BF-35123A00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562B-42D8-4338-86AF-85B3AC43DFF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4F5B-7758-46A3-9396-5C84EEB09BB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560" y="1142640"/>
            <a:ext cx="7572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8913"/>
                </a:solidFill>
                <a:latin typeface="Times New Roman"/>
                <a:ea typeface="Times New Roman"/>
              </a:rPr>
              <a:t>Spelling awareness affects spelling performance positively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30477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Anna M. T. Bosman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University of Nijmegen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08366"/>
                </a:solidFill>
                <a:latin typeface="Times New Roman"/>
              </a:rPr>
              <a:t>SSSR, Amsterdam 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08366"/>
                </a:solidFill>
                <a:latin typeface="Times New Roman"/>
              </a:rPr>
              <a:t>June 27-30,  2004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Metho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Pre-test and post-test materials consisted of 200 words selected from standardised Dutch spelling tests for Grades 2-6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Training materials consisted of words from the language curriculum “Taaltijd” used in the classroom</a:t>
            </a:r>
            <a:r>
              <a:rPr b="1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Increased spelling awarenes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90720" y="1828800"/>
          <a:ext cx="754380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54380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Spelling performanc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90720" y="1828800"/>
          <a:ext cx="754380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54380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8913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Spelling awarenes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can be enhanced in 8-year-olds (Grade 3)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ncreases with the same amount in both good and poor speller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lready improves slightly when just presenting a pre-test and a post-test (indicated by the results of the control group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8913"/>
                </a:solidFill>
                <a:latin typeface="Times New Roman"/>
              </a:rPr>
              <a:t>Enhanced spelling awareness improves spelling performanc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67652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Study 3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08366"/>
                </a:solidFill>
                <a:latin typeface="Times New Roman"/>
              </a:rPr>
              <a:t>Thanks to Marieke Willemen and Janet van Hell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Participan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78120" y="2057400"/>
          <a:ext cx="584352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8120" y="2057400"/>
                    <a:ext cx="58435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Metho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Each student wrote an essa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Essays served as the starting point for the experimenter to discuss difficult aspects of the spelling of each of the students individual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An individualised check list was made to aid the spelling-check task in subsequent training session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Results of regular-education student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219320" y="1828800"/>
          <a:ext cx="7924680" cy="43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28800"/>
                    <a:ext cx="7924680" cy="43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Results of special-education student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371600" y="1676520"/>
          <a:ext cx="7086600" cy="43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7086600" cy="43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8913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Spelling performa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mproves as a result of increasing awarenes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mproves in students from regular education as well as in students from special educ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mproves in regular-education students and not in special-education students, who are only asked to re-read their essays after comple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8913"/>
                </a:solidFill>
                <a:latin typeface="Times New Roman"/>
              </a:rPr>
              <a:t>Spelling tasks reveal spelling awarenes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38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Study 1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08366"/>
                </a:solidFill>
                <a:latin typeface="Times New Roman"/>
              </a:rPr>
              <a:t>Thanks to Manuela Donderwinkel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8580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8913"/>
                </a:solidFill>
                <a:latin typeface="Times New Roman"/>
              </a:rPr>
              <a:t>Thus, spelling awarenes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25909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1676520"/>
            <a:ext cx="8001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402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is an implicit skill in regular and special-education students (Study 1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402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can be enhanced in students as young as 8 years (Study 3)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402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improves in both good and poor spellers (Study 2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402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improves in both spellers from regular and special education (Study 3)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402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is positively related to spelling performance (Studies 2 and 3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5105520"/>
            <a:ext cx="71629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913"/>
                </a:solidFill>
                <a:latin typeface="Times New Roman"/>
              </a:rPr>
              <a:t>Thank you for your atten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a.bosman@ped.kun.n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Participan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905120" y="1951200"/>
          <a:ext cx="5638680" cy="399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51200"/>
                    <a:ext cx="5638680" cy="39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Metho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Each student wrote an essa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From each essay one correctly spelled and one wrongly spelled word was selec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The set of correctly and wrongly spelled words in each grade were then presented to them in a writing-to-dictation tas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Performance comparison on dictation and essay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90720" y="1828800"/>
          <a:ext cx="754380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54380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Spelling performance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371600" y="1828800"/>
          <a:ext cx="7772400" cy="407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828800"/>
                    <a:ext cx="777240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752480" y="1905120"/>
          <a:ext cx="6097680" cy="40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905120"/>
                    <a:ext cx="60976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8913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A quarter (26%) of all spellings  is unstable (‘Correct-Wrong’ of ‘Wrong-Correct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tudents spell better in a dictation task than in their essays, probably becau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the formal reading style aids the proces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tudents make more errors in a dictation task than in their essays, probably becau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they are aware of what they know and what they do not know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8913"/>
                </a:solidFill>
                <a:latin typeface="Times New Roman"/>
              </a:rPr>
              <a:t>Enhancing spelling awarenes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002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08366"/>
                </a:solidFill>
                <a:latin typeface="Times New Roman"/>
              </a:rPr>
              <a:t>Study 2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08366"/>
                </a:solidFill>
                <a:latin typeface="Times New Roman"/>
              </a:rPr>
              <a:t>Thanks to Raquel Paffe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Participant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66680" y="1981080"/>
          <a:ext cx="7162920" cy="31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16292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143000" y="4876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 SpAw is level of spelling awareness: “Knows the spelling and the word is spelled correctly” + “Does not know the spelling and the word is spelled incorrectly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20:39:28Z</dcterms:created>
  <dc:creator>FSW</dc:creator>
  <dc:description/>
  <dc:language>en-US</dc:language>
  <cp:lastModifiedBy>FSW</cp:lastModifiedBy>
  <cp:lastPrinted>2004-03-01T12:25:59Z</cp:lastPrinted>
  <dcterms:modified xsi:type="dcterms:W3CDTF">2004-06-27T12:13:00Z</dcterms:modified>
  <cp:revision>28</cp:revision>
  <dc:subject/>
  <dc:title>Leren spellen Slimme oefeningen en het bevorderen van het spellingbewustzijn</dc:title>
</cp:coreProperties>
</file>