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EDB-9794-4E2F-BCAA-B38B1EAC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523-6F32-4035-8857-CB234B05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B84-ED08-4744-97D6-24F6124E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F2B-8FE1-44C9-AD8F-E9C7EC86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E1FC-82A6-4307-A348-958A9FDD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9BCA-F1D5-4F08-A31D-A1709A49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3583-D0E4-4158-A2A6-87CF80F7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AAFB-E403-4220-A0DB-A281F882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1EEB-1D9B-48EA-8A4D-58193357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D57C-CEFB-4AB7-BAD0-F49DAE85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CD67-9B7A-40CF-A848-098E1B3E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586-DAB8-4B3C-A6F3-4B75260B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E65E-0A46-4E1E-9E0C-601C3A1A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7A0C-79F2-491E-9A7C-3EE065E1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5742-01A7-45E2-84B0-A6863030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1630-A081-4C89-A583-62F9982B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EE6D-3578-4083-905B-DEFF511B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E40-9145-4390-9280-42BB71E8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F36-C549-4294-8BAE-D31E4328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321-750A-4939-BA31-1DF27C71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C36-B391-4B1F-8342-34656FF2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FEE-D724-4BE6-8BCD-F0C079ED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106-A3CB-4620-9C25-494093C0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92F-81B3-4B20-988A-3E04BB38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2CC7-3464-4ABE-9EC2-BF05BAEC0B0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AE66-24D2-4B5E-B496-9CA21AA912C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Aanpak van lees- en spellingproblemen in de schoo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Anna M. T. Bosma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KU Nijmeg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Congres “Leven met dyslexie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18 juni 200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Onderzoek naar de effectiviteit van een spellingbehandel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zeer scha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bewijst dat lang niet elk type behandeling werk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redelijk goed te interpreteren, omd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gering aantal aspecten geïmplementeerd 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en relevante controlegroep aanwezig 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ffect op langer termijn soms duidelijk 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Woorden met ambigue foneem-grafeem rela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Pal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ei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t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o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uter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Ka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ch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l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Ron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j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V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uilnis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Mo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dd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chil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pa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Mi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auw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Na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g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l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Bloo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Panto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ff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l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“He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ng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l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02000"/>
                </a:solidFill>
                <a:latin typeface="Times New Roman"/>
              </a:rPr>
              <a:t>van Leerdam, Bosman, &amp; Van Orden (1998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Percentage correct na 3x oefen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47920" y="1752480"/>
          <a:ext cx="76960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76960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Woorden met inconsistente foneem-grafeem rela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sperge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ungalow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ampignon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uan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iraff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jean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jungl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ju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angoero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ievit (kieviet, sinds 1998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ilieu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iveau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nmiddellijk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agier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opulair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chiffelers, Bosman &amp; van Hell, 2002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Percentage correct na 3x oefen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0720" y="1828800"/>
          <a:ext cx="77724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7724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en goede spellingmeth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afgestemd op de leerl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leerlingen met aandachtsproblemen vragen een andere aanpak dan leerlingen zond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leerlingen met spellingproblemen hebben meer oefening nodig dan leerlingen zond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afgestemd op het spellingproble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woorden met ambigue foneem-grafeem relaties vragen om een andere instructie dan woorden met inconsistente foneem-grafeem relat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Aspecten die een spellingtraining effectief lijken te mak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taat dicht bij de vaardigheid zelf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wordt uit het hoofd geoefe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heeft een motorische compon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betreft het hele woor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bevat directe feedbac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Lees- en spellingachterstand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zelden het gevolg van speelshei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kan niet vroeg genoeg aangepakt word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de behandeling ervan moet “voor alles gaan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nl-NL" sz="4400" spc="-1" strike="noStrike">
                <a:solidFill>
                  <a:srgbClr val="402000"/>
                </a:solidFill>
                <a:latin typeface="Times New Roman"/>
              </a:rPr>
              <a:t>Een persoonlijk verhaal’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Oproep tot deelname onderzoe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4382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676520"/>
            <a:ext cx="731520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om te bewijzen dat vrijwel alle lees- en spellingproblemen voorkomen kunnen worden als we vanaf de eerste lesdag weigeren te accepteren dat een kind achterloopt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Nodig:  leerkrachten die </a:t>
            </a:r>
            <a:r>
              <a:rPr b="1" lang="nl-NL" sz="2400" spc="-1" strike="noStrike">
                <a:solidFill>
                  <a:srgbClr val="402000"/>
                </a:solidFill>
                <a:latin typeface="Times New Roman"/>
              </a:rPr>
              <a:t>wel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in deze stelling gelov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leerkrachten die </a:t>
            </a:r>
            <a:r>
              <a:rPr b="1" lang="nl-NL" sz="2400" spc="-1" strike="noStrike">
                <a:solidFill>
                  <a:srgbClr val="402000"/>
                </a:solidFill>
                <a:latin typeface="Times New Roman"/>
              </a:rPr>
              <a:t>niet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in deze stelling gelov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Aanmelding: a.bosman@ped.kun.n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0512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402000"/>
                </a:solidFill>
                <a:latin typeface="Times New Roman"/>
              </a:rPr>
              <a:t>Dank voor uw aandacht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In deze lezing zal aan bod kom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Wat belangrijk i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in een leesbehandel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in een spellingbehandel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Onbewezen stelling: lees- en spelling-problemen in Groep 3 dienen zonder uitstel en onmiddellijk te worden aangepak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Onderzoek naar de effectiviteit van een leesbehandel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scha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bewijst dat bijna elk type behandeling werk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vaak lastig te interpreteren, omd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veel aspecten tegelijk geïmplementeerd zij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en relevante controlegroep ontbreek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generalisatie vaak niet mogelijk 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ffect op langer termijn niet duidelijk 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De meeste leesbehandeling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nden eens per week plaa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worden uitgevoerd door profession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worden gegeven als kinderen meer dan een jaar achterlop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lijken systematisc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zijn gebaseerd op de gedachte dat lezen fundamenteel fonologisch gemedieerd i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hebben meer effect op het lezen van tekst dan het lezen van losse woord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lagen er niet in om de achterstand van een leerling volledig weg te werk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zijn effectiever bij leerlingen met een kleinere achterst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zijn effectiever bij kinderen zonder bijkomende problem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Torgesen et al. (2001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60 leerlingen met leesproblem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gemiddeld 10 jaar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woord lezen was 1.5 SD onder het gemiddel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fonologische vaardigheid onder minimu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verbale intelligentie &gt; 75 (Gemiddeld: 93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8 weken, dagelijkse interventie van 2 uu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8 weken follow-up begeleiding in de kl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professionele behandela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Torgesen et al. (2001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twee zeer systematische behandeling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ADD: auditory discrimination in depth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P: embedded phonic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metingen: voor, direct erna, 1 en 2 jaar la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lezen werd beoordeeld op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accuraatheid; kwam en bleef op niveau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begrip; kwam en bleef op niveau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nelheid; kwam niet op niveau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Torgesen et al. (2001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_x0008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7086600" cy="429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Aspecten die een leestraining effectief lijken te mak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ntensief (twee maal 1 uur per dag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lke da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één-op-éé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rvaren behandela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ystematisch en afgestemd op het niveau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eel herhaling (overlearning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(veel positieve feedback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21:32:42Z</dcterms:created>
  <dc:creator>FSW</dc:creator>
  <dc:description/>
  <dc:language>en-US</dc:language>
  <cp:lastModifiedBy>Anny</cp:lastModifiedBy>
  <dcterms:modified xsi:type="dcterms:W3CDTF">2003-06-17T08:30:25Z</dcterms:modified>
  <cp:revision>28</cp:revision>
  <dc:subject/>
  <dc:title>Aanpak van lees- en spellingproblemen in de school</dc:title>
</cp:coreProperties>
</file>