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964C-E757-466F-8ECC-83D2AD02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0B0-4036-4D16-98C2-01728415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398-ED38-4F73-8D07-CF637AAA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FBA-04CF-43D8-AEE8-02831C63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6445-16D0-446E-B03C-1D696F7D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6E24-1E15-4779-B1E3-23CD36D6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3E2E-FFAC-4221-9956-5DD77B5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C157-0B61-48BD-B244-165FCF76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58D3-39EE-4603-AD85-A394B3BC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9127-AE14-423E-BE4E-D495EAC1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A7E4-3B53-47A7-A2AD-BB315946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79D-A1AB-45AB-9570-30093814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2135-224C-465F-B249-8B7A8AA3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8BC4-37DC-4378-B293-B65DEEAE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73BC-8B94-472D-B6BB-F280CC6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C22E-91B5-468A-B357-9A2CF8AF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FA77-5B1B-44C8-8EDB-E7BBB7E1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90B-BEC7-476D-A360-D620C470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EBA-7A0C-4221-9681-6B3C6466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E2E-9EE3-4181-A2E6-5608C70D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DCA-BA7A-4BED-8A22-477F8DED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EACE-55D2-4455-9A97-468D4AC1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503-64F6-4F89-9CA3-296C9362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E5B-072F-4EEA-ABD5-9D7D9A41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7B86-1A80-45AC-8493-254402B8B69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831B-BB42-448C-8126-52CA2F6E782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Aanpak van lees- en spellingproblemen in de schoo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Anna M. T. Bosma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KU Nijme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Congres “Leven met dyslexie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18 juni 200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Onderzoek naar de effectiviteit van een spellingbehandel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zeer scha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bewijst dat lang niet elk type behandeling werk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redelijk goed te interpreteren, omd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ring aantal aspecten geïmplementeerd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en relevante controlegroep aanwezig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ffect op langer termijn soms duidelijk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Woorden met ambigue foneem-grafeem rela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al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ei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t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o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uter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Ka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ch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Ron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j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V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uilnis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Mo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d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chil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a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d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Mi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auw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Na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g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Bloo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anto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ff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“He</a:t>
            </a:r>
            <a:r>
              <a:rPr b="0" lang="nl-NL" sz="3200" spc="-1" strike="noStrike" u="sng">
                <a:solidFill>
                  <a:srgbClr val="402000"/>
                </a:solidFill>
                <a:uFillTx/>
                <a:latin typeface="Times New Roman"/>
              </a:rPr>
              <a:t>ng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02000"/>
                </a:solidFill>
                <a:latin typeface="Times New Roman"/>
              </a:rPr>
              <a:t>van Leerdam, Bosman, &amp; Van Orden (1998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ercentage correct na 3x oefen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47920" y="1752480"/>
          <a:ext cx="76960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7696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Woorden met inconsistente foneem-grafeem rela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sperge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ungalow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ampignon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uan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iraff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ean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ungl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ju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angoeroe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ievit (kieviet, sinds 1998)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ilieu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iveau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nmiddellijk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ssagier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opulair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t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Schiffelers, Bosman &amp; van Hell, 2002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ercentage correct na 3x oefen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82880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en goede spellingmeth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afgestemd op de leerl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leerlingen met aandachtsproblemen vragen een andere aanpak dan leerlingen zon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leerlingen met spellingproblemen hebben meer oefening nodig dan leerlingen zon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afgestemd op het spellingproble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woorden met ambigue foneem-grafeem relaties vragen om een andere instructie dan woorden met inconsistente foneem-grafeem rela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Aspecten die een spellingtraining effectief lijken te mak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taat dicht bij de vaardigheid zelf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wordt uit het hoofd geoefe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heeft een motorische compon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betreft het hele woo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bevat directe feedbac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Lees- en spellingachterstand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zelden het gevolg van speelshei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kan niet vroeg genoeg aangepakt word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e behandeling ervan moet “voor alles gaan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nl-NL" sz="4400" spc="-1" strike="noStrike">
                <a:solidFill>
                  <a:srgbClr val="402000"/>
                </a:solidFill>
                <a:latin typeface="Times New Roman"/>
              </a:rPr>
              <a:t>Een persoonlijk verhaal’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Oproep tot deelname onderzoe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4382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676520"/>
            <a:ext cx="7315200" cy="51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om te bewijzen dat vrijwel alle lees- en spellingproblemen voorkomen kunnen worden als we vanaf de eerste lesdag weigeren te accepteren dat een kind achterloopt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Nodig:  leerkrachten die </a:t>
            </a:r>
            <a:r>
              <a:rPr b="1" lang="nl-NL" sz="2400" spc="-1" strike="noStrike">
                <a:solidFill>
                  <a:srgbClr val="402000"/>
                </a:solidFill>
                <a:latin typeface="Times New Roman"/>
              </a:rPr>
              <a:t>wel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in deze stelling gelov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leerkrachten die </a:t>
            </a:r>
            <a:r>
              <a:rPr b="1" lang="nl-NL" sz="2400" spc="-1" strike="noStrike">
                <a:solidFill>
                  <a:srgbClr val="402000"/>
                </a:solidFill>
                <a:latin typeface="Times New Roman"/>
              </a:rPr>
              <a:t>niet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in deze stelling gelov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Aanmelding: a.bosman@ped.kun.n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0512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402000"/>
                </a:solidFill>
                <a:latin typeface="Times New Roman"/>
              </a:rPr>
              <a:t>Dank voor uw aandacht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In deze lezing zal aan bod kom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Wat belangrijk 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in een leesbehandel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in een spellingbehandel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Onbewezen stelling: lees- en spelling-problemen in Groep 3 dienen zonder uitstel en onmiddellijk te worden aangepak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Onderzoek naar de effectiviteit van een leesbehandel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scha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bewijst dat bijna elk type behandeling werk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s vaak lastig te interpreteren, omd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veel aspecten tegelijk geïmplementeerd zij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en relevante controlegroep ontbreek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neralisatie vaak niet mogelijk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ffect op langer termijn niet duidelijk i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De meeste leesbehandeling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nden eens per week plaa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worden uitgevoerd door professiona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worden gegeven als kinderen meer dan een jaar achterlop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lijken systematisc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zijn gebaseerd op de gedachte dat lezen fundamenteel fonologisch gemedieerd 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hebben meer effect op het lezen van tekst dan het lezen van losse woord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lagen er niet in om de achterstand van een leerling volledig weg te werk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zijn effectiever bij leerlingen met een kleinere achterstan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zijn effectiever bij kinderen zonder bijkomende problem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orgesen et al. (2001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60 leerlingen met leesproblem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middeld 10 jaar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woord lezen was 1.5 SD onder het gemiddel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fonologische vaardigheid onder minimu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verbale intelligentie &gt; 75 (Gemiddeld: 93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8 weken, dagelijkse interventie van 2 uu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8 weken follow-up begeleiding in de kl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rofessionele behandelaa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orgesen et al. (2001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twee zeer systematische behandelin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ADD: auditory discrimination in depth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P: embedded phonic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metingen: voor, direct erna, 1 en 2 jaar lat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lezen werd beoordeeld op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accuraatheid; kwam en bleef op nivea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begrip; kwam en bleef op nivea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nelheid; kwam niet op niveau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orgesen et al. (2001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_x0008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7086600" cy="429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Aspecten die een leestraining effectief lijken te mak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intensief (twee maal 1 uur per dag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ke da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één-op-éé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rvaren behandela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ystematisch en afgestemd op het niveau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eel herhaling (overlearning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(veel positieve feedback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bosman@ped.kun.n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21:32:42Z</dcterms:created>
  <dc:creator>FSW</dc:creator>
  <dc:description/>
  <dc:language>en-US</dc:language>
  <cp:lastModifiedBy>Anny</cp:lastModifiedBy>
  <dcterms:modified xsi:type="dcterms:W3CDTF">2003-06-17T08:30:25Z</dcterms:modified>
  <cp:revision>28</cp:revision>
  <dc:subject/>
  <dc:title>Aanpak van lees- en spellingproblemen in de school</dc:title>
</cp:coreProperties>
</file>