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ct" ContentType="image/x-pict"/>
  <Override PartName="/ppt/media/image9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6E7-5B91-4D5C-94F9-9098C7DD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1FC-BE74-4846-BEF6-3E21F0E9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F718-3DD3-42EA-9AB7-527BDD06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962-2FFE-4919-A0F9-0CE8F6B5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00E6-679D-43A2-BCE8-ABBAE8FE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4DE2-DAB3-4760-98FE-02206513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2FD4-BF6C-4FB9-8798-CF721933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40C7-4C5C-4CA4-A90D-5E5F0227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5E49-3864-4B61-AEFA-C57620B4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661C-1C6B-4680-92AA-C67A802F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F829-FBBF-46B6-AC19-A9863D5D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2B8-CF99-402B-8B14-675C3C81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F967-7543-4F54-8FD3-AFD51A0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4C6F-BC51-416C-9F3F-0FA9FEC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E14A-D0DC-429C-BE2D-27CD8DAA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A5B8-555B-4FE1-816A-4DD5FEAA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7722-4737-4610-A64A-6D983DD3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1C9-1671-4C13-87CC-18C1C84A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B5B-AD26-422C-A6DE-4E1E6724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B27-14B1-4B74-8E1A-76272100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6CE-B26A-4147-8C17-3409C7B3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3FD-BC3C-4BDD-9E6E-EE59A7C2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F06-F220-41BE-8656-B34BBD8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A0E-D85E-4DA4-8B84-563543D9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0055-FAA5-4BAC-B5AE-28D8308DFAE3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ADE4-6B7B-4BAB-B311-AA8EB24F318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52D6-8E67-4DE2-99E0-87CB61C7EBE1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0EEC-D8FD-40F4-9DE7-AF7BD840A53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057400"/>
            <a:ext cx="8153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5472"/>
                </a:solidFill>
                <a:latin typeface="Arial"/>
              </a:rPr>
              <a:t>Spellinginstructie is geen kwestie van "One-size fits all"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4191120"/>
            <a:ext cx="640080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Anna Bosma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KU Nijmegen, Orthopedagogiek van leren en ontwikkeling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roefpersonen in Exp 2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70 leerlingen uit Groep 3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50% goede en 50% zwakke speller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Experimentele groep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Lez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Overschrijv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Probleem benoem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Mondeling spell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Visueel dictee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Trainingsfouten*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Lezen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5.3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Overschrijven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4.1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Probleem benoemen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6.9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ndeling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8.4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Visueel  dictee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9.1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Max aantal fouten = 36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at is beter 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686800" cy="5257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686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onclusie Exp 2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Lezen is ook hier niet erg effectief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Het woord uit het hoofd opschrijven is heel effectief voor alle leerlingen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pellingniveau bepaalt ook hier mede de effectiviteit van een methode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timuli in Exp 3: Visueel dicte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Complexe consonantcluster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orstkas, kunsthandel, trommelstok, glinsteren, zwerfkatten, melkkruk, kerstbal, stripboeken, krulspelden, marktkoopman, rotstreek, hoestbui. 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Ambigue foneem-grafeem relatie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drijfhout, blauwbaard, levensecht, geheimzinnig, politie, bouwval, achterlijf, reizigers, nieuwigheid, schiereiland, zeemeeuw, fluweel.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Bosman, van Hell, Harbers, &amp; Voorzee (2002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roefpersonen in Exp 3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School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Leeftijd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J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M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LOM:  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1 jaar; 4 mnd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9 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MLK:   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2 jaar; 6 mnd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ZMOK: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  9 jaar; 5 mnd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outenafname na training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33320" y="2789280"/>
            <a:ext cx="6089760" cy="4060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066680" y="2133720"/>
            <a:ext cx="6089760" cy="4030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62120" y="2797200"/>
            <a:ext cx="6089400" cy="406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457200" y="1981080"/>
          <a:ext cx="7924680" cy="4078440"/>
        </p:xfrm>
        <a:graphic>
          <a:graphicData uri="http://schemas.openxmlformats.org/drawingml/2006/table">
            <a:tbl>
              <a:tblPr/>
              <a:tblGrid>
                <a:gridCol w="1523880"/>
                <a:gridCol w="3048120"/>
                <a:gridCol w="33526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Ambigue foneem-grafeem relatie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omplex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onsonant cluster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O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4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LK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ZMOK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6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onclusie Exp 3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Visueel dictee is effectief voor alle type leerlingen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Visueel dictee is met name effectief voor woorden met ambigue foneem-grafeem relatie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pellingniveau bepaalt ook hier mede de effectiviteit van een method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timuli in Exp 4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asperge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bungalow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champignon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douane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giraffe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jeans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jungle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jus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kangoeroe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kievit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milieu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niveau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onmiddellijk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assagier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opulair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station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Schiffelers, Bosman &amp; van Hell, 2002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roefpersonen in Exp 4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41 leerlingen uit het Regulier onderwijs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9 jaar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20 Uitspreken-wat-er-staa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21 Lezen-zoals het hoor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44 leerlingen uit het Speciaal onderwijs 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11 jaar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22 Uitspreken-wat-er-staa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22 Lezen-zoals het hoor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llerlei soorten woorden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vi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e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elkkruk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kerstste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rktkraa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reau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oile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ju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i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zich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auw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zet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wijselijk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essensa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at/Wie is beter 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Direct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 week erna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Uitspreken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Regulier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45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39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peciaal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38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28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Lezen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Regulier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8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peciaal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9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21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onclusie Exp 4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Woorden foneem-grafeem consistent maken is een effectieve methode voor alle leerling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De duurzaamheid van de spellingkennis is bij leerlingen zonder leerproblemen goe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De duurzaamheid van spellingkennis is bij leerlingen met leerproblemen </a:t>
            </a:r>
            <a:r>
              <a:rPr b="0" i="1" lang="en-US" sz="2800" spc="-1" strike="noStrike">
                <a:solidFill>
                  <a:srgbClr val="545472"/>
                </a:solidFill>
                <a:latin typeface="Arial"/>
              </a:rPr>
              <a:t>minder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 goe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timuli in Exp 5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asperge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bungalow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champignon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douane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giraffe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jeans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jungle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jus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kangoeroe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kievit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milieu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niveau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onmiddellijk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assagier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populair 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imes New Roman"/>
              </a:rPr>
              <a:t>station 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Schiffelers, Bosman &amp; van Hell, 2002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roefpersonen in Exp 5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33 leerlingen uit het speciaal onderwij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11 jaar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12 meisjes, 21 jongen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Twee experimentele groep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Uitspreken-wat-er-staa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Uitspreken-wat-er-staat+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Helpt langer oefenen 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Oefenen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kort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Arial"/>
              </a:rPr>
              <a:t>lang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Direct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38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53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1 week later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28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51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Helpt  de +oefening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Uitspreken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 Uitspreken +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Natoets 1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29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40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Natoets 2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43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53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Natoets 3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53%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65%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onclusie Exp 5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Woorden foneem-grafeem consistent maken is een effectieve methode voor leerlingen uit het speciaal onderwij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Het verlengen van de training heeft een positief effect op de duurzaamheid van de spellingkenni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Oefenen met de rare uitspraak lijkt het leereffect te verhogen”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n de moraal van dit verhaal....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Een spellinginstructie-methode dient afgestemd te zijn op het type woor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Een spellinginstructie-methode dient rekening te houden met het type leerling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Het leren van de spelling is het meest gebaat bij een methode die het dichtst bij de  vaardigheid zelf staa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Met dank aan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artin van Leerdam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Annette de Groo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Janet van Hell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Ilona Schiffeler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argie Voorze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Wendy Harber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nique Bartelings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Wendy Exterkat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Anne-Marie Rosink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TYPE WOORDEN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Arial"/>
              </a:rPr>
              <a:t>KLANKZUIVER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MAT, VIS, PE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Arial"/>
              </a:rPr>
              <a:t>AMBIGUE FONEEM-GRAFEEM RELATIE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TOUTERD, OERWOUD, WEIFELEN, TWIJFEL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Arial"/>
              </a:rPr>
              <a:t>INCONSISTENTE FONEEM-GRAFEEM RELATIE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JEANS, BUNGALOW, SERGEANT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timuli in Exp 1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trand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Kauw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Bedtijd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Blauw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Zuchten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chilpa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Piano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IJskou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Bouwdoos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Hoofdpij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toplicht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chul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Bosman &amp; de Groot, 1992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Proefpersonen in Exp 1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57 leerlingen uit Groep 3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50% goede en 50% zwakke spellers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3 experimentele groep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Overschrijv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Probleem benoem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Mondeling spellen</a:t>
            </a: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Lezen of Iets ander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09480" y="2019240"/>
          <a:ext cx="8534520" cy="415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019240"/>
                    <a:ext cx="853452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at is beter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520" y="2019240"/>
          <a:ext cx="8610480" cy="4076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019240"/>
                    <a:ext cx="86104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onclusie Exp 1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Lezen is niet zo effectief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Het woord uit het hoofd hardop spellen is effectief voor alle leerlingen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Arial"/>
              </a:rPr>
              <a:t>Spellingniveau bepaalt mede de effectiviteit van een methode</a:t>
            </a:r>
            <a:endParaRPr b="0" lang="en-US" sz="32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timuli in Exp 2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Paleis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touterd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Kachel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Rondje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Vuilnis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dder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Schildpad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iauwen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Nagel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Bloot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Pantoffel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Hengel</a:t>
            </a:r>
            <a:endParaRPr b="0" lang="en-US" sz="2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van Leerdam, Bosman, &amp; Van Orden (1998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O-Colloquium 16 mei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6:22:53Z</dcterms:created>
  <dc:creator>FSW</dc:creator>
  <dc:description/>
  <dc:language>en-US</dc:language>
  <cp:lastModifiedBy>FSW</cp:lastModifiedBy>
  <dcterms:modified xsi:type="dcterms:W3CDTF">2003-05-16T07:08:01Z</dcterms:modified>
  <cp:revision>24</cp:revision>
  <dc:subject/>
  <dc:title>Spellinginstructie is geen kwestie van "One-size fits all" </dc:title>
</cp:coreProperties>
</file>