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ct" ContentType="image/x-pict"/>
  <Override PartName="/ppt/media/image9.pct" ContentType="image/x-pict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FC5-DEAC-4CC2-8BD7-1DFE7147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4CC-F24C-4FD7-BAD9-8E027C9A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17B6-1D6C-4A42-A9DA-F5A50AF6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0BF-71EF-49F5-84FA-74907190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551A-3F7C-4612-AA4E-FC71BE4D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DA74-B23B-462A-A9E7-E06234B3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45F7-8950-4D04-9113-B6B7BDA8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D651-5C38-4D6F-84B7-2D0A4F2A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0ADC-E470-429A-9ED5-2C571234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46A9-C82A-4C47-9A9C-1609F99B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145C-8323-475B-992F-9AF2C49B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5864-1EAE-494F-93C8-74DB9F19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37CF-DC6E-4D0D-A02F-65667D53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E682-944A-46A9-B83E-65C4A3C3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2041-3B48-466E-A71E-B472C1B4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91DE-E4D2-4025-AB2E-E2DDE372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3B9A-2871-49AD-B836-AB82C83C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60D-7559-4F8F-BA6A-6B66D889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8EF-05C1-4CBB-B1D7-95D54D8A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5CB-FC76-4164-86E1-F15C021D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5F3-E26D-436C-B791-DFD55553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3FBF-365E-4040-9AC4-E472ECB7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11B-2172-402F-A686-77A99639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BC1-8D1D-4C8B-B55D-1D44ACA9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B13F-9D4A-4214-934C-A12BB61DAF73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B5E3-F70B-4D7E-964D-FAC789ADD19C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01D0-EA28-43E3-A4E7-5BCECA4C97BE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7AF2-77BB-4B8B-9FFF-DC278CA2BA9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057400"/>
            <a:ext cx="81536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5472"/>
                </a:solidFill>
                <a:latin typeface="Arial"/>
              </a:rPr>
              <a:t>Spellinginstructie is geen kwestie van "One-size fits all"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4191120"/>
            <a:ext cx="640080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Anna Bosman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KU Nijmegen, Orthopedagogiek van leren en ontwikkeling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roefpersonen in Exp 2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70 leerlingen uit Groep 3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50% goede en 50% zwakke speller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Experimentele groepen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Lezen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Overschrijven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Probleem benoemen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Mondeling spellen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Visueel dictee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Trainingsfouten*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Lezen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5.3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Overschrijven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4.1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Probleem benoemen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6.9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ondeling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8.4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Visueel  dictee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9.1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ax aantal fouten = 36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Wat is beter 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686800" cy="525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6868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onclusie Exp 2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Lezen is ook hier niet erg effectief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Het woord uit het hoofd opschrijven is heel effectief voor alle leerlingen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pellingniveau bepaalt ook hier mede de effectiviteit van een methode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Stimuli in Exp 3: Visueel dictee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Complexe consonantcluster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orstkas, kunsthandel, trommelstok, glinsteren, zwerfkatten, melkkruk, kerstbal, stripboeken, krulspelden, marktkoopman, rotstreek, hoestbui.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Ambigue foneem-grafeem relatie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drijfhout, blauwbaard, levensecht, geheimzinnig, politie, bouwval, achterlijf, reizigers, nieuwigheid, schiereiland, zeemeeuw, fluweel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Bosman, van Hell, Harbers, &amp; Voorzee (2002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roefpersonen in Exp 3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School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Leeftijd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J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M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LOM:  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11 jaar; 4 mnd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9 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MLK:   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12 jaar; 6 mnd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ZMOK: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  9 jaar; 5 mnd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Foutenafname na training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33320" y="2789280"/>
            <a:ext cx="6089760" cy="4060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066680" y="2133720"/>
            <a:ext cx="6089760" cy="4030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62120" y="2797200"/>
            <a:ext cx="6089400" cy="406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457200" y="1981080"/>
          <a:ext cx="7924680" cy="4078440"/>
        </p:xfrm>
        <a:graphic>
          <a:graphicData uri="http://schemas.openxmlformats.org/drawingml/2006/table">
            <a:tbl>
              <a:tblPr/>
              <a:tblGrid>
                <a:gridCol w="1523880"/>
                <a:gridCol w="3048120"/>
                <a:gridCol w="33526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Ambigue foneem-grafeem relatie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Complex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Consonant cluster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O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4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LK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6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1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ZMOK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6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onclusie Exp 3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Visueel dictee is effectief voor alle type leerlingen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Visueel dictee is met name effectief voor woorden met ambigue foneem-grafeem relatie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Spellingniveau bepaalt ook hier mede de effectiviteit van een methode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Stimuli in Exp 4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asperge 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bungalow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champignon 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douane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giraffe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jeans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jungle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jus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kangoeroe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kievit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milieu 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niveau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onmiddellijk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passagier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populair 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station 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Schiffelers, Bosman &amp; van Hell, 2002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roefpersonen in Exp 4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41 leerlingen uit het Regulier onderwijs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9 jaar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20 Uitspreken-wat-er-staat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21 Lezen-zoals het hoort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44 leerlingen uit het Speciaal onderwijs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11 jaar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22 Uitspreken-wat-er-staat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22 Lezen-zoals het hoort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Allerlei soorten woorden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at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vi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et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elkkruk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kerstste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arktkraa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ureau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oilet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ju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eit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zich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auw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ezet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wijselijk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essensa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Wat/Wie is beter 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Direct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1 week erna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Uitspreken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Regulier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45%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39%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peciaal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38%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28%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Lezen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Regulier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18%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peciaal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19%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21%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onclusie Exp 4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Woorden foneem-grafeem consistent maken is een effectieve methode voor alle leerlingen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De duurzaamheid van de spellingkennis is bij leerlingen zonder leerproblemen goed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De duurzaamheid van spellingkennis is bij leerlingen met leerproblemen </a:t>
            </a:r>
            <a:r>
              <a:rPr b="0" i="1" lang="en-US" sz="2800" spc="-1" strike="noStrike">
                <a:solidFill>
                  <a:srgbClr val="545472"/>
                </a:solidFill>
                <a:latin typeface="Arial"/>
              </a:rPr>
              <a:t>minder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 goed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Stimuli in Exp 5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asperge 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bungalow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champignon 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douane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giraffe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jeans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jungle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jus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kangoeroe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kievit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milieu 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niveau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onmiddellijk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passagier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populair 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station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Schiffelers, Bosman &amp; van Hell, 2002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roefpersonen in Exp 5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33 leerlingen uit het speciaal onderwij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11 jaar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12 meisjes, 21 jongen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Twee experimentele groepen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Uitspreken-wat-er-staat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Uitspreken-wat-er-staat+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Helpt langer oefenen 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Oefenen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kort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lang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Direct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38%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53%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1 week later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28%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51%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Helpt  de +oefening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Uitspreken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 Uitspreken +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Natoets 1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29%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40%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Natoets 2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43%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53%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Natoets 3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53%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65%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onclusie Exp 5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Woorden foneem-grafeem consistent maken is een effectieve methode voor leerlingen uit het speciaal onderwij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Het verlengen van de training heeft een positief effect op de duurzaamheid van de spellingkenni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Oefenen met de rare uitspraak lijkt het leereffect te verhogen”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En de moraal van dit verhaal....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Een spellinginstructie-methode dient afgestemd te zijn op het type woord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Een spellinginstructie-methode dient rekening te houden met het type leerling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Het leren van de spelling is het meest gebaat bij een methode die het dichtst bij de  vaardigheid zelf staat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Met dank aan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artin van Leerdam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Annette de Groot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Janet van Hell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Ilona Schiffeler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argie Voorzee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Wendy Harber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onique Barteling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Wendy Exterkate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Anne-Marie Rosink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TYPE WOORDEN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Arial"/>
              </a:rPr>
              <a:t>KLANKZUIVER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MAT, VIS, PET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Arial"/>
              </a:rPr>
              <a:t>AMBIGUE FONEEM-GRAFEEM RELATIE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STOUTERD, OERWOUD, WEIFELEN, TWIJFELEN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Arial"/>
              </a:rPr>
              <a:t>INCONSISTENTE FONEEM-GRAFEEM RELATIE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JEANS, BUNGALOW, SERGEANT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Stimuli in Exp 1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Strand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Kauwen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Bedtijd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Blauw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Zuchten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Schilpad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Piano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IJskoud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Bouwdoos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Hoofdpijn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Stoplicht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Schuld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Bosman &amp; de Groot, 1992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roefpersonen in Exp 1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57 leerlingen uit Groep 3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50% goede en 50% zwakke speller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3 experimentele groepen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Overschrijven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Probleem benoemen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Mondeling spellen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Lezen of Iets ander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09480" y="2019240"/>
          <a:ext cx="8534520" cy="415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019240"/>
                    <a:ext cx="85345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Wat is beter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3520" y="2019240"/>
          <a:ext cx="8610480" cy="4076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019240"/>
                    <a:ext cx="861048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onclusie Exp 1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Lezen is niet zo effectief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Het woord uit het hoofd hardop spellen is effectief voor alle leerlingen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pellingniveau bepaalt mede de effectiviteit van een methode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Stimuli in Exp 2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Paleis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Stouterd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Kachel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Rondje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Vuilnis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odder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Schildpad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iauwen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Nagel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Bloot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Pantoffel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Hengel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van Leerdam, Bosman, &amp; Van Orden (1998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6:22:53Z</dcterms:created>
  <dc:creator>FSW</dc:creator>
  <dc:description/>
  <dc:language>en-US</dc:language>
  <cp:lastModifiedBy>FSW</cp:lastModifiedBy>
  <dcterms:modified xsi:type="dcterms:W3CDTF">2003-05-16T07:08:01Z</dcterms:modified>
  <cp:revision>24</cp:revision>
  <dc:subject/>
  <dc:title>Spellinginstructie is geen kwestie van "One-size fits all" </dc:title>
</cp:coreProperties>
</file>