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820-4CF7-4A00-B988-8F79BEE7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66E-DF0A-42DB-8CAA-2A7B6A65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B2B-2646-4C0D-B263-FAC3E835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E57-F3F1-4B6F-B8DD-469B66D9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EDEA-4242-4990-A89A-3ECBFF16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F214-BC19-4A53-9BD4-6793B7E3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2C2E-8018-4F1C-94ED-BFF47544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109C-2E74-4B59-A837-9BB2A214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409C-EA88-4017-BB8C-310D2E1B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87A5-FD7B-46ED-991E-A7FB5C7A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4D00-2212-499F-89F2-174C9F11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3B8-D6ED-4372-8A38-95773136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9429-226C-4945-A039-AC40CACA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7A07-6C9D-4AE3-A3FC-7EB51268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E1B1-0F43-4BDC-BFAD-4F3587EB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1034-B2F8-4ACB-A72C-D322095B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BD91-40B9-446C-929B-0513EF28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6B5-4143-4E8B-9A36-06206DF8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66F-690E-4A73-9A3D-1A2414E4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4A5-506F-4CE7-91FC-52F84369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5F9-5F5C-4F2B-9AEF-73E82CF3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F32-5E2F-4A69-BC84-6766E8ED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BDB-6076-4871-B96B-29D6E9A8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F37-C13C-41B4-BCEC-A8E04A7D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9DAE-E2DE-489B-AD35-074BF18381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B3F5-E15B-4BD0-95B2-69EA31BFF0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38280" y="1143000"/>
            <a:ext cx="60199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Leesproblemen voorspellen:</a:t>
            </a:r>
            <a:br>
              <a:rPr sz="3600"/>
            </a:br>
            <a:br>
              <a:rPr sz="2800"/>
            </a:b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gelijk of Onmogelijk?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Wenselijk of Onwenselijk?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9520" y="3962520"/>
            <a:ext cx="4928040" cy="20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dr. Anna M. T. Bosma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9999"/>
                </a:solidFill>
                <a:latin typeface="Times New Roman"/>
              </a:rPr>
              <a:t>KU Nijmegen,  Orthopedagogiek: Leren en Ontwikkeling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9999"/>
                </a:solidFill>
                <a:latin typeface="Times New Roman"/>
              </a:rPr>
              <a:t>                      </a:t>
            </a:r>
            <a:r>
              <a:rPr b="0" sz="1600" spc="-1" strike="noStrike">
                <a:solidFill>
                  <a:srgbClr val="009999"/>
                </a:solidFill>
                <a:latin typeface="Times New Roman"/>
              </a:rPr>
              <a:t>a.bosman@ped.kun.n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27200" y="2502000"/>
            <a:ext cx="35791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Voorspellende toets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1. Rij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2. Rijmpri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3. Synthe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4. Deleti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5. Letters beno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738520" y="1066680"/>
          <a:ext cx="6246720" cy="46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066680"/>
                    <a:ext cx="624672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57400" y="1378080"/>
            <a:ext cx="63244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Criteriumtoet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Afgenomen februar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Lez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EMT van Brus en Voeten (1972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Rijm, Rijmprime, Synthese en Deletie in Cohort 1   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zijn </a:t>
            </a:r>
            <a:r>
              <a:rPr b="0" i="1" sz="2800" spc="-1" strike="noStrike">
                <a:solidFill>
                  <a:srgbClr val="009999"/>
                </a:solidFill>
                <a:latin typeface="Times New Roman"/>
              </a:rPr>
              <a:t>geen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voorspellers voor later leessucc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12193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Rijm, Rijmprime, Synthese en Deletie in Cohort 1   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zijn </a:t>
            </a:r>
            <a:r>
              <a:rPr b="0" i="1" sz="2800" spc="-1" strike="noStrike">
                <a:solidFill>
                  <a:srgbClr val="009999"/>
                </a:solidFill>
                <a:latin typeface="Times New Roman"/>
              </a:rPr>
              <a:t>geen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voorspellers voor later leessucc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Synthese en Deletie in Cohort 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 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voorspellen in </a:t>
            </a:r>
            <a:r>
              <a:rPr b="0" i="1" sz="2800" spc="-1" strike="noStrike">
                <a:solidFill>
                  <a:srgbClr val="009999"/>
                </a:solidFill>
                <a:latin typeface="Times New Roman"/>
              </a:rPr>
              <a:t>zeer geringe mate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later leessucc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121932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Rijm, Rijmprime, Deletie en Synthese in Cohort 1   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zijn </a:t>
            </a:r>
            <a:r>
              <a:rPr b="0" i="1" sz="2800" spc="-1" strike="noStrike">
                <a:solidFill>
                  <a:srgbClr val="009999"/>
                </a:solidFill>
                <a:latin typeface="Times New Roman"/>
              </a:rPr>
              <a:t>geen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voorspellers voor later leessucc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Synthese en Deletie in Cohort 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 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voorspellen in </a:t>
            </a:r>
            <a:r>
              <a:rPr b="0" i="1" sz="2800" spc="-1" strike="noStrike">
                <a:solidFill>
                  <a:srgbClr val="009999"/>
                </a:solidFill>
                <a:latin typeface="Times New Roman"/>
              </a:rPr>
              <a:t>zeer geringe mate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later leessucc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Letters benoemen in Cohorten 1 en 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voorspellen in </a:t>
            </a:r>
            <a:r>
              <a:rPr b="0" i="1" sz="2800" spc="-1" strike="noStrike">
                <a:solidFill>
                  <a:srgbClr val="009999"/>
                </a:solidFill>
                <a:latin typeface="Times New Roman"/>
              </a:rPr>
              <a:t>redelijke mate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later leessucc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09480"/>
            <a:ext cx="73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Verklaarde variantie va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999"/>
                </a:solidFill>
                <a:latin typeface="Times New Roman"/>
              </a:rPr>
              <a:t>Letters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9999"/>
                </a:solidFill>
                <a:latin typeface="Times New Roman"/>
              </a:rPr>
              <a:t>benoemen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op de EM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hort 1 (eind Groep 2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1:  14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37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2:  29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54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3:  38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62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hort 2 (begin Groep 2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1:  71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84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2:    0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06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3:   32%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57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2120"/>
            <a:ext cx="6858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                    </a:t>
            </a:r>
            <a:r>
              <a:rPr b="0" sz="3600" spc="-1" strike="noStrike">
                <a:solidFill>
                  <a:srgbClr val="003399"/>
                </a:solidFill>
                <a:latin typeface="Times New Roman"/>
              </a:rPr>
              <a:t>Conclusi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imes New Roman"/>
              </a:rPr>
              <a:t>Letters beno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is meest veelbelovende toets voor 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de voorspelling van later leessucc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maar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heeft zo onvoldoende praktische waard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05320" y="838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tudie Roerink (2001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62320" y="2057400"/>
          <a:ext cx="623700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62370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09680" y="1143000"/>
            <a:ext cx="58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Letterkennis in %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(Aantal correct benoemde letters / het aantal te leren letters) * 100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90920" y="1600200"/>
            <a:ext cx="6248160" cy="36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Met medewerking va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drs. Tom Braams &amp; drs. Ellen Rutjen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9999"/>
                </a:solidFill>
                <a:latin typeface="Times New Roman"/>
              </a:rPr>
              <a:t>Tom Braams &amp; Partners, Deven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drs. Inge Roerink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9999"/>
                </a:solidFill>
                <a:latin typeface="Times New Roman"/>
              </a:rPr>
              <a:t>KU Nijmegen,  Orthopedagogiek: Leren en Ontwikkeling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09680" y="1143000"/>
            <a:ext cx="58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Letterkennis in %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(Aantal correct benoemde letters / het aantal te leren letters) * 100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2360" y="3276720"/>
            <a:ext cx="5946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9999"/>
                </a:solidFill>
                <a:latin typeface="Times New Roman"/>
              </a:rPr>
              <a:t>Stel dat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Jos 3 van de 15 te leren letters correct benoemd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0" i="1" sz="2000" spc="-1" strike="noStrike">
                <a:solidFill>
                  <a:srgbClr val="009999"/>
                </a:solidFill>
                <a:latin typeface="Times New Roman"/>
              </a:rPr>
              <a:t>dan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is de letterkennis van Jos (3/15)*100 = 20%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09680" y="1143000"/>
            <a:ext cx="58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Letterkennis in %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(Aantal correct benoemde letters / het aantal te leren letters) * 100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2720" y="3276720"/>
            <a:ext cx="6045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9999"/>
                </a:solidFill>
                <a:latin typeface="Times New Roman"/>
              </a:rPr>
              <a:t>Stel dat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Jos 3 van de 15 te leren letters correct benoemd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0" i="1" sz="2000" spc="-1" strike="noStrike">
                <a:solidFill>
                  <a:srgbClr val="009999"/>
                </a:solidFill>
                <a:latin typeface="Times New Roman"/>
              </a:rPr>
              <a:t>dan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is de letterkennis van Jos (3/15)*100 = 20%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9999"/>
                </a:solidFill>
                <a:latin typeface="Times New Roman"/>
              </a:rPr>
              <a:t>Stel dat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Anne 3 van de 8 te leren letters correct benoemd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0" i="1" sz="2000" spc="-1" strike="noStrike">
                <a:solidFill>
                  <a:srgbClr val="009999"/>
                </a:solidFill>
                <a:latin typeface="Times New Roman"/>
              </a:rPr>
              <a:t>dan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is de letterkennis van Anne (3/8)*100 = 38%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762120"/>
            <a:ext cx="7162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Letterleereffect in %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(Aantal geleerde letters/totaal te leren letters) * 100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97180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Stel dat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Jos nog 6 van de 8 letters kan ler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Jos er tijdens de training 3 bij leer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dan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heeft Jos een letterleereffect van (3/6)*100 = 50%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59200" y="1752480"/>
            <a:ext cx="61243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Criteriumtoet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Afgenomen januar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Lez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EMT van Brus en Voeten (1972)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1143000"/>
            <a:ext cx="7696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9999"/>
                </a:solidFill>
                <a:latin typeface="Times New Roman"/>
              </a:rPr>
              <a:t>Letterleereffect </a:t>
            </a: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is gee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voorspeller voor later leessucc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School 1:</a:t>
            </a:r>
            <a:r>
              <a:rPr b="0" i="1" sz="4800" spc="-1" strike="noStrike">
                <a:solidFill>
                  <a:srgbClr val="009999"/>
                </a:solidFill>
                <a:latin typeface="Times New Roman"/>
              </a:rPr>
              <a:t> r</a:t>
            </a:r>
            <a:r>
              <a:rPr b="0" sz="4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EMT * Letterleereffect</a:t>
            </a:r>
            <a:r>
              <a:rPr b="0" i="1" sz="36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=  -.05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School 2:</a:t>
            </a:r>
            <a:r>
              <a:rPr b="0" i="1" sz="4800" spc="-1" strike="noStrike">
                <a:solidFill>
                  <a:srgbClr val="009999"/>
                </a:solidFill>
                <a:latin typeface="Times New Roman"/>
              </a:rPr>
              <a:t> r</a:t>
            </a:r>
            <a:r>
              <a:rPr b="0" sz="4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EMT * Letterleereffect</a:t>
            </a:r>
            <a:r>
              <a:rPr b="0" i="1" sz="36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=  -.11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3880" y="1143000"/>
            <a:ext cx="71629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99"/>
                </a:solidFill>
                <a:latin typeface="Times New Roman"/>
              </a:rPr>
              <a:t>Letterkennis is een redelijk goede voorspeller van later leessucces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Verklaarde variantie van </a:t>
            </a:r>
            <a:r>
              <a:rPr b="1" sz="2400" spc="-1" strike="noStrike">
                <a:solidFill>
                  <a:srgbClr val="009999"/>
                </a:solidFill>
                <a:latin typeface="Times New Roman"/>
              </a:rPr>
              <a:t>Letterkennis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op de EM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1:  (15 letters) 36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60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2:    (8 letters) 57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76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990720"/>
            <a:ext cx="7696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Indeling </a:t>
            </a:r>
            <a:r>
              <a:rPr b="0" sz="2800" spc="-1" strike="noStrike" u="sng">
                <a:solidFill>
                  <a:srgbClr val="009999"/>
                </a:solidFill>
                <a:uFillTx/>
                <a:latin typeface="Times New Roman"/>
              </a:rPr>
              <a:t>+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volgens het CITO-leerlingvolgsystee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A: ca. 25% hoogst scorende leerling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: ca. 25% net boven het gemiddel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C: ca. 25% net onder het gemiddel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D + E: ca. 25% laagst scorende leerling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981080" y="820800"/>
          <a:ext cx="624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20800"/>
                    <a:ext cx="624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981080" y="820800"/>
          <a:ext cx="624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20800"/>
                    <a:ext cx="624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981080" y="820800"/>
          <a:ext cx="624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20800"/>
                    <a:ext cx="624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38280" y="1600200"/>
            <a:ext cx="64008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9999"/>
                </a:solidFill>
                <a:latin typeface="Times New Roman"/>
              </a:rPr>
              <a:t>Kennis van de fonologie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Fonologisch bewustzijn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etreft eenheden groter dan het fonee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21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Fonemisch bewustzijn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etreft eenheden gelijk aan het fonee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981080" y="820800"/>
          <a:ext cx="624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20800"/>
                    <a:ext cx="624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971800" y="838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raams &amp; Bosman (2000) normer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981080" y="820800"/>
          <a:ext cx="624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20800"/>
                    <a:ext cx="624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971800" y="838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raams &amp; Bosman (2000) normer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981080" y="820800"/>
          <a:ext cx="624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20800"/>
                    <a:ext cx="624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971800" y="838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raams &amp; Bosman (2000) normer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1371600"/>
            <a:ext cx="5715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99"/>
                </a:solidFill>
                <a:latin typeface="Times New Roman"/>
              </a:rPr>
              <a:t>Conclusies?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Letterleersnelheid: geen voorspeller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Letterkennis: goede voorspeller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9320" y="1600200"/>
            <a:ext cx="71658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9999"/>
                </a:solidFill>
                <a:latin typeface="Times New Roman"/>
              </a:rPr>
              <a:t>Epiloog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Is het voorspellen van leesproblemen wenselijk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1440" y="838080"/>
            <a:ext cx="68284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Twee studies naar de voorspelling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van leesproblemen op basis van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1. vijf fonologische/fonemische toets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raams &amp; Bosman (2000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2. letterleertaa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Roerink (2001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3248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22840" y="28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47920" y="1447920"/>
          <a:ext cx="6246720" cy="40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24672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971800" y="1600200"/>
          <a:ext cx="5703840" cy="420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600200"/>
                    <a:ext cx="570384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819520" y="4572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tudie Braams &amp; Bosman (2000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30800" y="2502000"/>
            <a:ext cx="3507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Voorspellende toets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1. Rij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430800" y="2502000"/>
            <a:ext cx="35074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Voorspellende toets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1. Rij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2. Rijmpri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30800" y="2502000"/>
            <a:ext cx="3507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Voorspellende toets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1. Rij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2. Rijmpri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3. Synthe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30800" y="2502000"/>
            <a:ext cx="35074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Voorspellende toets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1. Rij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2. Rijmpri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3. Synthe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4. Deleti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6:07:35Z</dcterms:created>
  <dc:creator>FSW</dc:creator>
  <dc:description/>
  <dc:language>en-US</dc:language>
  <cp:lastModifiedBy>FSW</cp:lastModifiedBy>
  <dcterms:modified xsi:type="dcterms:W3CDTF">2001-11-13T18:06:04Z</dcterms:modified>
  <cp:revision>27</cp:revision>
  <dc:subject/>
  <dc:title>Title goes here</dc:title>
</cp:coreProperties>
</file>