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FFD-2CF3-474D-8B83-BCE39BDD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D7B-4024-4631-AB50-8B3FF037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F1B-3D7C-438D-B849-B2C546CB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F15-975F-47D1-9C6A-7A9603B5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2D81-EA87-4730-A888-65CCA9BA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F2A1-FEFB-4427-A0DC-40196645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4D09-1F83-4868-B24B-2265B6A1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6895-8984-4119-93B0-EB813D3F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99E8-BC66-44F9-BFAC-F535E1FA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5E3A-4331-46FB-8C68-68DF2428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1154-09B1-4CDA-9132-22073E4C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685C-1CAD-4E97-A4E4-E9BA49EF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48C0-C929-4757-B5A9-54E60A60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548A-AADD-420F-9AA0-F7513A98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EC8E-F630-4974-9385-1D3D1E28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BD34-0E32-4C2E-8BF2-CAC3ED03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BC77-8772-4ACA-A77C-2BBF44A5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372-15A4-4B67-9D33-22B82035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6C3F-1E76-470A-8C0E-082F0863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4C1-CFEC-4F1C-A35E-C96ED2BE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4EE-AA30-4BA7-B0CA-999A0E50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DE40-009E-4681-B3D2-21B4A92C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03D-F3BA-40E9-838F-DDBE16B6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173-088E-4906-B0AB-A47E8285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F697-C958-43B5-AF13-DBCCEBA511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DFA3-4967-46D3-886C-7878D6DC98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38280" y="1143000"/>
            <a:ext cx="60199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Leesproblemen voorspellen:</a:t>
            </a:r>
            <a:br>
              <a:rPr sz="3600"/>
            </a:br>
            <a:br>
              <a:rPr sz="2800"/>
            </a:b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Mogelijk of Onmogelijk?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Wenselijk of Onwenselijk?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9520" y="3962520"/>
            <a:ext cx="4928040" cy="20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dr. Anna M. T. Bosma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9999"/>
                </a:solidFill>
                <a:latin typeface="Times New Roman"/>
              </a:rPr>
              <a:t>KU Nijmegen,  Orthopedagogiek: Leren en Ontwikkeling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9999"/>
                </a:solidFill>
                <a:latin typeface="Times New Roman"/>
              </a:rPr>
              <a:t>                      </a:t>
            </a:r>
            <a:r>
              <a:rPr b="0" sz="1600" spc="-1" strike="noStrike">
                <a:solidFill>
                  <a:srgbClr val="009999"/>
                </a:solidFill>
                <a:latin typeface="Times New Roman"/>
              </a:rPr>
              <a:t>a.bosman@ped.kun.n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427200" y="2502000"/>
            <a:ext cx="35791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9999"/>
                </a:solidFill>
                <a:latin typeface="Times New Roman"/>
              </a:rPr>
              <a:t>Voorspellende toetse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1. Rij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2. Rijmpri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3. Synthes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4. Deleti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5. Letters beno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738520" y="1066680"/>
          <a:ext cx="6246720" cy="468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8520" y="1066680"/>
                    <a:ext cx="624672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057400" y="1378080"/>
            <a:ext cx="63244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9999"/>
                </a:solidFill>
                <a:latin typeface="Times New Roman"/>
              </a:rPr>
              <a:t>Criteriumtoets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Afgenomen februari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Leze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EMT van Brus en Voeten (1972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12193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Rijm, Rijmprime, Synthese en Deletie in Cohort 1   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zijn </a:t>
            </a:r>
            <a:r>
              <a:rPr b="0" i="1" sz="2800" spc="-1" strike="noStrike">
                <a:solidFill>
                  <a:srgbClr val="009999"/>
                </a:solidFill>
                <a:latin typeface="Times New Roman"/>
              </a:rPr>
              <a:t>geen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voorspellers voor later leessucc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90720" y="121932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Rijm, Rijmprime, Synthese en Deletie in Cohort 1   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zijn </a:t>
            </a:r>
            <a:r>
              <a:rPr b="0" i="1" sz="2800" spc="-1" strike="noStrike">
                <a:solidFill>
                  <a:srgbClr val="009999"/>
                </a:solidFill>
                <a:latin typeface="Times New Roman"/>
              </a:rPr>
              <a:t>geen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voorspellers voor later leessucc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Synthese en Deletie in Cohort 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 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voorspellen in </a:t>
            </a:r>
            <a:r>
              <a:rPr b="0" i="1" sz="2800" spc="-1" strike="noStrike">
                <a:solidFill>
                  <a:srgbClr val="009999"/>
                </a:solidFill>
                <a:latin typeface="Times New Roman"/>
              </a:rPr>
              <a:t>zeer geringe mate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later leessucc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1219320"/>
            <a:ext cx="7543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Rijm, Rijmprime, Deletie en Synthese in Cohort 1   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zijn </a:t>
            </a:r>
            <a:r>
              <a:rPr b="0" i="1" sz="2800" spc="-1" strike="noStrike">
                <a:solidFill>
                  <a:srgbClr val="009999"/>
                </a:solidFill>
                <a:latin typeface="Times New Roman"/>
              </a:rPr>
              <a:t>geen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voorspellers voor later leessucc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Synthese en Deletie in Cohort 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 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voorspellen in </a:t>
            </a:r>
            <a:r>
              <a:rPr b="0" i="1" sz="2800" spc="-1" strike="noStrike">
                <a:solidFill>
                  <a:srgbClr val="009999"/>
                </a:solidFill>
                <a:latin typeface="Times New Roman"/>
              </a:rPr>
              <a:t>zeer geringe mate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later leessucc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Letters benoemen in Cohorten 1 en 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voorspellen in </a:t>
            </a:r>
            <a:r>
              <a:rPr b="0" i="1" sz="2800" spc="-1" strike="noStrike">
                <a:solidFill>
                  <a:srgbClr val="009999"/>
                </a:solidFill>
                <a:latin typeface="Times New Roman"/>
              </a:rPr>
              <a:t>redelijke mate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later leessucc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09480"/>
            <a:ext cx="7315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Verklaarde variantie van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9999"/>
                </a:solidFill>
                <a:latin typeface="Times New Roman"/>
              </a:rPr>
              <a:t>Letters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9999"/>
                </a:solidFill>
                <a:latin typeface="Times New Roman"/>
              </a:rPr>
              <a:t>benoemen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op de EM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ohort 1 (eind Groep 2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chool 1:  14%      (</a:t>
            </a: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= .37)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chool 2:  29%      (</a:t>
            </a: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= .54)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chool 3:  38%      (</a:t>
            </a: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= .62)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Cohort 2 (begin Groep 2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chool 1:  71%      (</a:t>
            </a: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= .84)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chool 2:    0%      (</a:t>
            </a: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= .06)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chool 3:   32%     (</a:t>
            </a: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= .57)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762120"/>
            <a:ext cx="6858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9999"/>
                </a:solidFill>
                <a:latin typeface="Times New Roman"/>
              </a:rPr>
              <a:t>                    </a:t>
            </a:r>
            <a:r>
              <a:rPr b="0" sz="3600" spc="-1" strike="noStrike">
                <a:solidFill>
                  <a:srgbClr val="003399"/>
                </a:solidFill>
                <a:latin typeface="Times New Roman"/>
              </a:rPr>
              <a:t>Conclusie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3399"/>
                </a:solidFill>
                <a:latin typeface="Times New Roman"/>
              </a:rPr>
              <a:t>Letters benoem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is meest veelbelovende toets voor </a:t>
            </a: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de voorspelling van later leessucc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maar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heeft zo onvoldoende praktische waarde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05320" y="838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tudie Roerink (2001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362320" y="2057400"/>
          <a:ext cx="623700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057400"/>
                    <a:ext cx="623700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09680" y="1143000"/>
            <a:ext cx="58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Letterkennis in %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(Aantal correct benoemde letters / het aantal te leren letters) * 100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90920" y="1600200"/>
            <a:ext cx="6248160" cy="36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99"/>
                </a:solidFill>
                <a:latin typeface="Times New Roman"/>
              </a:rPr>
              <a:t>Met medewerking va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9999"/>
                </a:solidFill>
                <a:latin typeface="Times New Roman"/>
              </a:rPr>
              <a:t>drs. Tom Braams &amp; drs. Ellen Rutjen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9999"/>
                </a:solidFill>
                <a:latin typeface="Times New Roman"/>
              </a:rPr>
              <a:t>Tom Braams &amp; Partners, Deven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9999"/>
                </a:solidFill>
                <a:latin typeface="Times New Roman"/>
              </a:rPr>
              <a:t>drs. Inge Roerink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9999"/>
                </a:solidFill>
                <a:latin typeface="Times New Roman"/>
              </a:rPr>
              <a:t>KU Nijmegen,  Orthopedagogiek: Leren en Ontwikkeling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09680" y="1143000"/>
            <a:ext cx="58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Letterkennis in %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(Aantal correct benoemde letters / het aantal te leren letters) * 100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02360" y="3276720"/>
            <a:ext cx="5946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9999"/>
                </a:solidFill>
                <a:latin typeface="Times New Roman"/>
              </a:rPr>
              <a:t>Stel dat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Jos 3 van de 15 te leren letters correct benoemd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      </a:t>
            </a:r>
            <a:r>
              <a:rPr b="0" i="1" sz="2000" spc="-1" strike="noStrike">
                <a:solidFill>
                  <a:srgbClr val="009999"/>
                </a:solidFill>
                <a:latin typeface="Times New Roman"/>
              </a:rPr>
              <a:t>dan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is de letterkennis van Jos (3/15)*100 = 20%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09680" y="1143000"/>
            <a:ext cx="58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Letterkennis in %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(Aantal correct benoemde letters / het aantal te leren letters) * 100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2720" y="3276720"/>
            <a:ext cx="6045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9999"/>
                </a:solidFill>
                <a:latin typeface="Times New Roman"/>
              </a:rPr>
              <a:t>Stel dat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Jos 3 van de 15 te leren letters correct benoemd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      </a:t>
            </a:r>
            <a:r>
              <a:rPr b="0" i="1" sz="2000" spc="-1" strike="noStrike">
                <a:solidFill>
                  <a:srgbClr val="009999"/>
                </a:solidFill>
                <a:latin typeface="Times New Roman"/>
              </a:rPr>
              <a:t>dan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is de letterkennis van Jos (3/15)*100 = 20%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9999"/>
                </a:solidFill>
                <a:latin typeface="Times New Roman"/>
              </a:rPr>
              <a:t>Stel dat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Anne 3 van de 8 te leren letters correct benoemd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     </a:t>
            </a:r>
            <a:r>
              <a:rPr b="0" i="1" sz="2000" spc="-1" strike="noStrike">
                <a:solidFill>
                  <a:srgbClr val="009999"/>
                </a:solidFill>
                <a:latin typeface="Times New Roman"/>
              </a:rPr>
              <a:t>dan: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is de letterkennis van Anne (3/8)*100 = 38%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762120"/>
            <a:ext cx="7162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    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Letterleereffect in %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(Aantal geleerde letters/totaal te leren letters) * 100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971800"/>
            <a:ext cx="73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Stel dat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Jos nog 6 van de 8 letters kan ler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Jos er tijdens de training 3 bij leer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    </a:t>
            </a: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dan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heeft Jos een letterleereffect van (3/6)*100 = 50%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059200" y="1752480"/>
            <a:ext cx="612432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9999"/>
                </a:solidFill>
                <a:latin typeface="Times New Roman"/>
              </a:rPr>
              <a:t>Criteriumtoets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Afgenomen januari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Leze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EMT van Brus en Voeten (1972)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1143000"/>
            <a:ext cx="7696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9999"/>
                </a:solidFill>
                <a:latin typeface="Times New Roman"/>
              </a:rPr>
              <a:t>Letterleereffect </a:t>
            </a:r>
            <a:r>
              <a:rPr b="0" sz="3600" spc="-1" strike="noStrike">
                <a:solidFill>
                  <a:srgbClr val="009999"/>
                </a:solidFill>
                <a:latin typeface="Times New Roman"/>
              </a:rPr>
              <a:t>is gee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3600" spc="-1" strike="noStrike">
                <a:solidFill>
                  <a:srgbClr val="009999"/>
                </a:solidFill>
                <a:latin typeface="Times New Roman"/>
              </a:rPr>
              <a:t>voorspeller voor later leessucce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9999"/>
                </a:solidFill>
                <a:latin typeface="Times New Roman"/>
              </a:rPr>
              <a:t>School 1:</a:t>
            </a:r>
            <a:r>
              <a:rPr b="0" i="1" sz="4800" spc="-1" strike="noStrike">
                <a:solidFill>
                  <a:srgbClr val="009999"/>
                </a:solidFill>
                <a:latin typeface="Times New Roman"/>
              </a:rPr>
              <a:t> r</a:t>
            </a:r>
            <a:r>
              <a:rPr b="0" sz="4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EMT * Letterleereffect</a:t>
            </a:r>
            <a:r>
              <a:rPr b="0" i="1" sz="36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sz="3600" spc="-1" strike="noStrike">
                <a:solidFill>
                  <a:srgbClr val="009999"/>
                </a:solidFill>
                <a:latin typeface="Times New Roman"/>
              </a:rPr>
              <a:t>=  -.05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9999"/>
                </a:solidFill>
                <a:latin typeface="Times New Roman"/>
              </a:rPr>
              <a:t>School 2:</a:t>
            </a:r>
            <a:r>
              <a:rPr b="0" i="1" sz="4800" spc="-1" strike="noStrike">
                <a:solidFill>
                  <a:srgbClr val="009999"/>
                </a:solidFill>
                <a:latin typeface="Times New Roman"/>
              </a:rPr>
              <a:t> r</a:t>
            </a:r>
            <a:r>
              <a:rPr b="0" sz="4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9999"/>
                </a:solidFill>
                <a:latin typeface="Times New Roman"/>
              </a:rPr>
              <a:t>EMT * Letterleereffect</a:t>
            </a:r>
            <a:r>
              <a:rPr b="0" i="1" sz="36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sz="3600" spc="-1" strike="noStrike">
                <a:solidFill>
                  <a:srgbClr val="009999"/>
                </a:solidFill>
                <a:latin typeface="Times New Roman"/>
              </a:rPr>
              <a:t>=  -.11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3880" y="1143000"/>
            <a:ext cx="71629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9999"/>
                </a:solidFill>
                <a:latin typeface="Times New Roman"/>
              </a:rPr>
              <a:t>Letterkennis is een redelijk goede voorspeller van later leessucces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Verklaarde variantie van </a:t>
            </a:r>
            <a:r>
              <a:rPr b="1" sz="2400" spc="-1" strike="noStrike">
                <a:solidFill>
                  <a:srgbClr val="009999"/>
                </a:solidFill>
                <a:latin typeface="Times New Roman"/>
              </a:rPr>
              <a:t>Letterkennis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op de EM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chool 1:  (15 letters) 36%      (</a:t>
            </a: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= .60)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chool 2:    (8 letters) 57%      (</a:t>
            </a:r>
            <a:r>
              <a:rPr b="0" i="1" sz="24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= .76)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14400" y="990720"/>
            <a:ext cx="7696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Indeling </a:t>
            </a:r>
            <a:r>
              <a:rPr b="0" sz="2800" spc="-1" strike="noStrike" u="sng">
                <a:solidFill>
                  <a:srgbClr val="009999"/>
                </a:solidFill>
                <a:uFillTx/>
                <a:latin typeface="Times New Roman"/>
              </a:rPr>
              <a:t>+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volgens het CITO-leerlingvolgsysteem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A: ca. 25% hoogst scorende leerling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B: ca. 25% net boven het gemiddel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C: ca. 25% net onder het gemiddel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D + E: ca. 25% laagst scorende leerling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981080" y="820800"/>
          <a:ext cx="624708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820800"/>
                    <a:ext cx="62470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981080" y="820800"/>
          <a:ext cx="624708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820800"/>
                    <a:ext cx="62470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981080" y="820800"/>
          <a:ext cx="624708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820800"/>
                    <a:ext cx="62470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438280" y="1600200"/>
            <a:ext cx="64008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9999"/>
                </a:solidFill>
                <a:latin typeface="Times New Roman"/>
              </a:rPr>
              <a:t>Kennis van de fonologie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Fonologisch bewustzijn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     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betreft eenheden groter dan het fonee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21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Fonemisch bewustzijn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betreft eenheden gelijk aan het fonee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981080" y="820800"/>
          <a:ext cx="624708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820800"/>
                    <a:ext cx="62470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971800" y="838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Braams &amp; Bosman (2000) normer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981080" y="820800"/>
          <a:ext cx="624708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820800"/>
                    <a:ext cx="62470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2971800" y="838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Braams &amp; Bosman (2000) normer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981080" y="820800"/>
          <a:ext cx="6247080" cy="459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820800"/>
                    <a:ext cx="624708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971800" y="838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Braams &amp; Bosman (2000) normer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1371600"/>
            <a:ext cx="5715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9999"/>
                </a:solidFill>
                <a:latin typeface="Times New Roman"/>
              </a:rPr>
              <a:t>Conclusies?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Letterleersnelheid: geen voorspeller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Letterkennis: goede voorspeller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9320" y="1600200"/>
            <a:ext cx="716580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9999"/>
                </a:solidFill>
                <a:latin typeface="Times New Roman"/>
              </a:rPr>
              <a:t>Epiloog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Is het voorspellen van leesproblemen wenselijk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1440" y="838080"/>
            <a:ext cx="682848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Twee studies naar de voorspelling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009999"/>
                </a:solidFill>
                <a:latin typeface="Times New Roman"/>
              </a:rPr>
              <a:t>van leesproblemen op basis van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1. vijf fonologische/fonemische toetse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Braams &amp; Bosman (2000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2. letterleertaak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Roerink (2001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32480" y="249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22840" y="287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447920" y="1447920"/>
          <a:ext cx="6246720" cy="400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624672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971800" y="1600200"/>
          <a:ext cx="5703840" cy="420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600200"/>
                    <a:ext cx="570384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819520" y="4572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Studie Braams &amp; Bosman (2000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430800" y="2502000"/>
            <a:ext cx="3507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9999"/>
                </a:solidFill>
                <a:latin typeface="Times New Roman"/>
              </a:rPr>
              <a:t>Voorspellende toetse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1. Rij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430800" y="2502000"/>
            <a:ext cx="35074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9999"/>
                </a:solidFill>
                <a:latin typeface="Times New Roman"/>
              </a:rPr>
              <a:t>Voorspellende toetse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1. Rij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2. Rijmpri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30800" y="2502000"/>
            <a:ext cx="3507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9999"/>
                </a:solidFill>
                <a:latin typeface="Times New Roman"/>
              </a:rPr>
              <a:t>Voorspellende toetse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1. Rij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2. Rijmpri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3. Synthes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430800" y="2502000"/>
            <a:ext cx="35074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9999"/>
                </a:solidFill>
                <a:latin typeface="Times New Roman"/>
              </a:rPr>
              <a:t>Voorspellende toetse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1. Rij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2. Rijmpri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3. Synthes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4. Deleti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ugkomdag Ortho16 nov 2001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2T16:07:35Z</dcterms:created>
  <dc:creator>FSW</dc:creator>
  <dc:description/>
  <dc:language>en-US</dc:language>
  <cp:lastModifiedBy>FSW</cp:lastModifiedBy>
  <dcterms:modified xsi:type="dcterms:W3CDTF">2001-11-13T18:06:04Z</dcterms:modified>
  <cp:revision>27</cp:revision>
  <dc:subject/>
  <dc:title>Title goes here</dc:title>
</cp:coreProperties>
</file>